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3C5-84A1-4348-99E9-EC1CC48D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C44-1C38-41E8-895F-60AFCA7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9DFEB-0529-4183-B020-DD6D53F3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088B-1BFF-494B-9586-6A6F81A7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1DE1B-D3BF-4F99-9B72-A147B751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46458-A6DD-4AA4-B5EA-7878A89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AACF7-01CB-4F2D-A2BE-63957DCD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EC1E-8A3A-463F-8FAD-C3F1AD35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106B3-B6CA-4728-86AB-24A0C228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130B-384B-4490-995C-4C2802A6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4CFE-723C-472B-AA97-E6A98D81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3776C-FAFC-4A7D-AE4A-311AA91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5FE-1CEC-42CB-9F2D-73FA51BC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A9EF8-E3C6-4DBF-A5F5-32D9A7E6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EA7E5-D66A-45B9-915F-1064DF5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F094-BC50-42D2-96FA-09B3BB13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25CEB-3ED3-4AA9-A2F6-F85AB5B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7B62-4C78-47B1-9C0F-CB47E21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EC6D7-8CA2-4370-82DC-E1B2809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3466-5389-4086-82D8-F53CAB4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99D33-ED13-4CFD-A45D-9FF867F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42499-141E-45BA-A96F-0A2EA5F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DBC03-141D-47C7-9BC2-560D022D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CDC-919C-4551-BB34-ACF5564E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106E3-F922-417D-8CA3-EFD97E9F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04864-1BB2-4DD6-BF86-EBDE8C23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B10CF-ED9F-427B-9A06-34A50B6F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71D3-A394-4753-AD58-7BDE99FC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79FE-2C27-4CEF-B790-5CA18D2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85873-4845-4790-A919-C9D0EFD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13CE0-6A5F-4C3E-AAA2-2DC131C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1377B-1095-48EE-B2B2-EE8459A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1DB53-4BB7-4FCA-A837-DBEC7E6D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4FDD-849E-4C41-8814-A78A29D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9DD-FC8D-4E94-A8ED-EE9ED10C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2EC2-D165-4244-9BEF-595D4A52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D58AA-278D-443B-9E13-DFABFE4C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2F4C3-E87C-4C50-9409-B16D4C8E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09B97-7B47-441A-A60C-DEEAB1E7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4DAFD-62FB-4709-A94C-F303974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76AD4-C2A9-44DC-A7DD-08BF0D9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CB3ED-F115-4D00-9870-9937548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23EA3-2A38-4012-9DE0-F51892A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F5220-5FF8-4556-A2C1-40C2A15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A65E8-143A-444D-AA58-B6BFD66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EE69-AE8B-4E9B-B1CD-EF1BFAA2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769C9-796F-4DCD-B650-FDA4499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80603-CD83-4493-B144-2B83C9DD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F8A59-AB1C-4CF0-833A-EF0BF5A9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05F28-3755-4CCC-B597-3254459E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04A70-B719-4ED7-B253-27FE2065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0EF-3E26-42D9-9416-3793A76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ECDA-D38E-43F6-B6C7-1690C62C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A1C9-A7A8-4B8D-8B86-88C2422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2395-CC66-489F-A47C-9AA94E46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51E-1DE4-4E2D-9D3A-512261C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F6B-A99A-4D37-A1E7-5F667A8A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F03E-95D2-4759-A31A-72022DE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2F6-AB71-458F-A078-FCB5679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F34E-38D7-4957-A089-AFD9690B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665-99BD-4C58-BFD2-C83BA860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AEE-0064-48A7-A146-0151EDC2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6A28-5F7D-49AB-A724-5DA09437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A005-1CDF-41FD-88B2-0448144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F885-2FCB-416E-858E-B9D430F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6660-D578-4311-A4AB-AED4216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C1FD-C8CA-42E7-AB0D-D540A2C8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2AD-CDC5-42A9-A260-D7C4E456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5E39-09AA-4A3A-A5C0-D6DE496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632C-ADE4-4196-A11E-05C9289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5C54-7671-468A-B72C-81F0C43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5C19-BD70-45BD-9C8F-3AB9F266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F7D3-3E40-4C63-AF65-275DCC69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64CA-5669-483D-ADBB-39C594C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25A5-472D-4603-854B-9EB27DEB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3408-C980-4698-9D07-B2BDFE17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99D0-E72B-422A-B214-2740907F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43CB8-FD1B-4963-BB31-CCE103E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13D-A8D8-48E8-B69D-5D3B245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8934-2A0D-4F62-BB5B-FB90461D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F9CB-CD43-4715-88DD-94F55A7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D894-D70C-404D-BB15-4B7CC4A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2527-FDF0-4813-9CAE-E56B9BB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06C6-5056-4541-9062-9986454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59A1-225D-4971-8475-5CD7328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72E6-2B29-4D76-A834-8DCEEC7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5F56-43DB-47D3-BDAA-7455D92C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F09E-74DF-4965-89C2-14B612BE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A358-511A-409C-9058-3CC23252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E1E-4110-4104-9260-120E6DE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5A5E-E661-4DC0-9C90-BC5FF633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B886-9DCC-42C6-A347-206D348F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DCE6-C43E-424A-8CCB-CBB8658E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8A17-A933-475F-ADBB-2EA4C6A0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D8A4-618B-4D0F-8BFD-6147131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882B-247F-4A15-8EE2-35E655A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EE8F-F21B-4E9F-898E-11DD685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8D2E-1C04-4DE2-9298-C3A91B9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361A-A2E4-4DE6-8AEB-EDD8109D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2F83-FD4B-4EDF-9F2C-08CB8B83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3C0-F6AF-468B-81EE-C5634B9D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06DD-63F2-4575-A49C-0DD2E88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73F5-5B02-49BD-B124-9259F405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A99EC-6F28-484A-9018-1F2A86F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2368-F078-49F7-A9EC-41D1C18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02D4-6C6F-44E5-835D-AC70882E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612D-C43A-4B61-95C6-704A28B3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910C-A3BA-4092-BF19-5129E87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285A1-1169-4E8F-ADC6-63B1C0B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C0FC-2A9E-4C78-B482-E535663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65F1B-D9E2-4562-9C28-7E70A40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6B6-17AA-4FD5-B2B4-5DE09E4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92CF-23B9-4076-8366-D2A9E973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137D5-28DA-4A19-8F09-F2868253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710E7-2C14-4CEC-BD80-AC437AEB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1A7D-2FA5-4B44-84AD-4653094E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2C3B8-4F09-4623-87AC-F24DF42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8455-1291-4854-AF8F-73371C0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F73E-50F0-4365-8DE8-A7B7B9B8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6A1A6-133F-4B92-961C-527EFF8E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1E69E-F035-4055-9B5F-8CA119E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1FABD-FC29-4359-BECB-9C8CD5A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DC6-B080-4A66-ADED-8036C070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8017-CD0D-456B-AFB4-304B585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8216-F490-4AB7-AA99-8B6FA7C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7933-A22F-49C1-AB06-810F06E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17B5-B821-49F5-BE78-277F8997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CEB84-E699-4251-B1DB-79988695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9181C-5BDE-4D16-BDA0-34B4F2ED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6343-9171-448F-871F-1EF65FFC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2B69-4EF5-4D38-AA1B-DE89AD51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F112-F10A-4749-A5F1-95E2009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61D4-EC62-4637-965F-EF8F892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0B3-6809-4EAD-B2A6-3B637A0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3194-2F3E-4D62-9300-01AD57E0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12F9-7DB9-44DA-8797-EFAA5C4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8511-E8DC-4BF8-B70A-E478A11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E8844-6E23-45ED-9615-FEF75FC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FF18-C9F5-4D45-A77D-E2DB29D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CC09-61D8-428C-A652-C0026B2E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2F2E-3DFE-4B3B-B01D-2C72B7C6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AF9E6-FF23-4CE7-89C8-59132D05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6FBA-45E9-4725-9395-03CEF08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E79AB-E4B5-41A7-9EAC-BC10D201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96E2-DAB4-48B2-861D-769B8975A8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F74D-0FBF-4E62-9861-1414BA2C05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0EE-2ABA-4019-B0B3-ABF9D8A83B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821-89D2-49D0-943C-99840BE53E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F3D0-575C-4800-9639-2494D09B95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A502-2D42-40CC-B0F4-56C24326F9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047-8A24-4B5E-8647-57DDEC6B85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24BC-8963-42BC-8190-573E608F14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1EDF-9A00-49E0-A276-E4F6324385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890-CB90-47F7-ADA8-9D9A06F658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51C-3B47-4F7B-B134-05BC82C318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300-C75A-47BD-8BF1-025DBB079A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E. Cortazar - Eternal love affair.wav" descr=""/>
          <p:cNvPicPr/>
          <p:nvPr/>
        </p:nvPicPr>
        <p:blipFill>
          <a:blip r:embed="rId2"/>
          <a:stretch/>
        </p:blipFill>
        <p:spPr>
          <a:xfrm>
            <a:off x="-152388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1000080" y="357120"/>
            <a:ext cx="71629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4000" spc="-1" strike="noStrike">
                <a:solidFill>
                  <a:srgbClr val="000000"/>
                </a:solidFill>
                <a:latin typeface="Lucida Calligraphy"/>
                <a:ea typeface="굴림"/>
              </a:rPr>
              <a:t>Philosophy for Old 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Lucida Calligraphy"/>
                <a:ea typeface="굴림"/>
              </a:rPr>
              <a:t> </a:t>
            </a:r>
            <a:r>
              <a:rPr b="0" lang="en-SG" sz="2000" spc="-1" strike="noStrike">
                <a:solidFill>
                  <a:srgbClr val="000000"/>
                </a:solidFill>
                <a:latin typeface="Lucida Calligraphy"/>
                <a:ea typeface="굴림"/>
              </a:rPr>
              <a:t>(Absolutely Brilliant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500040" y="2428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IF YOU DON'T READ THIS TO THE VERY END, YOU HAVE LOST A DAY IN YOUR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AND WHEN YOU HAVE FINISH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DO AS I AM DOING AND SEND IT ON</a:t>
            </a:r>
            <a:r>
              <a:rPr b="1" lang="en-SG" sz="1800" spc="-1" strike="noStrike">
                <a:solidFill>
                  <a:srgbClr val="3333cc"/>
                </a:solidFill>
                <a:latin typeface="Aharoni"/>
                <a:ea typeface="KaiT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285840" y="55720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Music: Ernesto Cortazar “Eternal Love Affai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6786720" y="5572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He Yan Jan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4857840" y="4643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굴림"/>
              </a:rPr>
              <a:t>Click to 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1229346607EL6PhEf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2"/>
          <p:cNvSpPr/>
          <p:nvPr/>
        </p:nvSpPr>
        <p:spPr>
          <a:xfrm>
            <a:off x="3346560" y="3143160"/>
            <a:ext cx="5833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You've built up so much speed that you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HIT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70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fter that it's a day-by-day th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you HIT </a:t>
            </a:r>
            <a:fld id="{A90243DE-4C33-4103-9A1A-5D076B4DF669}" type="datetime2">
              <a:rPr b="0" lang="en-US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hursday, July 30, 2026</a:t>
            </a:fld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1227610123F8iJpll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2"/>
          <p:cNvSpPr/>
          <p:nvPr/>
        </p:nvSpPr>
        <p:spPr>
          <a:xfrm>
            <a:off x="3348000" y="4632480"/>
            <a:ext cx="4853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You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get into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your 80's and every day is a complete cycle; you HIT lunch; you TURN 4:30 ; you REACH bed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nd it doesn't end there Into the 90s, you start going backwar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'I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Was JUST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92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234278052_1dc82b1741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"/>
          <p:cNvSpPr/>
          <p:nvPr/>
        </p:nvSpPr>
        <p:spPr>
          <a:xfrm>
            <a:off x="324000" y="5141880"/>
            <a:ext cx="66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hen a strange 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If you make it over 100, you become a little kid again. 'I'm 100 and a half!'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y you all make it to a healthy 100 and a half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1227184338nQAeCSE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739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2"/>
          <p:cNvSpPr/>
          <p:nvPr/>
        </p:nvSpPr>
        <p:spPr>
          <a:xfrm>
            <a:off x="830880" y="457200"/>
            <a:ext cx="45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200" spc="-1" strike="noStrike">
                <a:solidFill>
                  <a:srgbClr val="ff0000"/>
                </a:solidFill>
                <a:latin typeface="Comic Sans MS"/>
                <a:ea typeface="굴림"/>
              </a:rPr>
              <a:t>HOW TO STAY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49006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Throw out nonessential numbers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his includes age, weight and height. Let the doctors worry about them. That is why you pay 'them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5218200" y="596736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2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Keep only cheerful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he grouches pull you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1226887380BaCLPxr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2"/>
          <p:cNvSpPr/>
          <p:nvPr/>
        </p:nvSpPr>
        <p:spPr>
          <a:xfrm>
            <a:off x="88920" y="2228760"/>
            <a:ext cx="491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3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Keep learning.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earn more about the computer, crafts, gardening, whatever... Never let the brain idle. 'An idle mind is the devil's workshop.' And the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devil's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name is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lzheimer'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278720" y="547992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4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Enjoy the simple things.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1224886662YM5aZ1t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2"/>
          <p:cNvSpPr/>
          <p:nvPr/>
        </p:nvSpPr>
        <p:spPr>
          <a:xfrm>
            <a:off x="0" y="98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5.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Laugh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ften, long and lou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augh until you gasp for br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038480" y="49417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6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The tears happen.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dure, grieve, and move on. The only person, who is with us our entire life, is ourselves. Be ALIVE while you are al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1222770132tLu1ynu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1592280" y="173160"/>
            <a:ext cx="528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7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Surround yourself with what you love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whether it's family, pets, keepsakes, music, plants, hobbies, whatever.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Your home is your refuge</a:t>
            </a:r>
            <a:r>
              <a:rPr b="1" lang="en-SG" sz="2000" spc="-1" strike="noStrike" u="sng">
                <a:solidFill>
                  <a:srgbClr val="ffffff"/>
                </a:solidFill>
                <a:uFillTx/>
                <a:latin typeface="Comic Sans MS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248000" y="52862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8.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Cherish you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If it is good, preserve it. If it is unstable, improve it. If it is beyond what you can improve, get hel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1216961250P8LEBF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2"/>
          <p:cNvSpPr/>
          <p:nvPr/>
        </p:nvSpPr>
        <p:spPr>
          <a:xfrm>
            <a:off x="0" y="2565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9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on't take guilt trips.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ake a trip to the mall, even to the next county; to a foreign country but NOT to where the guilt 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51280" y="593424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0.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Tell the people that you love th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  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at every opport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124317674851vmgk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3059280" y="515772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ffff00"/>
                </a:solidFill>
                <a:latin typeface="Comic Sans MS"/>
                <a:ea typeface="굴림"/>
              </a:rPr>
              <a:t>AND ALWAYS REMEMBER</a:t>
            </a:r>
            <a:r>
              <a:rPr b="0" lang="en-SG" sz="2200" spc="-1" strike="noStrike">
                <a:solidFill>
                  <a:srgbClr val="ffff00"/>
                </a:solidFill>
                <a:latin typeface="Comic Sans MS"/>
                <a:ea typeface="굴림"/>
              </a:rPr>
              <a:t> :</a:t>
            </a:r>
            <a:br>
              <a:rPr sz="2200"/>
            </a:br>
            <a:r>
              <a:rPr b="0" lang="en-SG" sz="2200" spc="-1" strike="noStrike">
                <a:solidFill>
                  <a:srgbClr val="ffffff"/>
                </a:solidFill>
                <a:latin typeface="Comic Sans MS"/>
                <a:ea typeface="굴림"/>
              </a:rPr>
              <a:t>Life is not measured by the number of breaths we take,  </a:t>
            </a:r>
            <a:r>
              <a:rPr b="1" lang="en-SG" sz="2200" spc="-1" strike="noStrike">
                <a:solidFill>
                  <a:srgbClr val="ffffff"/>
                </a:solidFill>
                <a:latin typeface="Comic Sans MS"/>
                <a:ea typeface="굴림"/>
              </a:rPr>
              <a:t>but</a:t>
            </a:r>
            <a:r>
              <a:rPr b="0" lang="en-SG" sz="2200" spc="-1" strike="noStrike">
                <a:solidFill>
                  <a:srgbClr val="ffffff"/>
                </a:solidFill>
                <a:latin typeface="Comic Sans MS"/>
                <a:ea typeface="굴림"/>
              </a:rPr>
              <a:t> by the moments that take our breath a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" descr="277206117_0ed9e2e3a4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2"/>
          <p:cNvSpPr/>
          <p:nvPr/>
        </p:nvSpPr>
        <p:spPr>
          <a:xfrm>
            <a:off x="395280" y="46530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And if you don't send this to at least 8 people – who ca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But do share this with someon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We all need to live life to its fullest each day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" descr="1219560300AZAhqa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2"/>
          <p:cNvSpPr/>
          <p:nvPr/>
        </p:nvSpPr>
        <p:spPr>
          <a:xfrm>
            <a:off x="380880" y="1365120"/>
            <a:ext cx="627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o you realise that the only time in our lives when we like to get old is when we're kid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If you're less than 10 years old, you're so excited about ageing that you think in fractions.</a:t>
            </a:r>
            <a:r>
              <a:rPr b="0" lang="en-SG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1222770132tLu1ynu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2"/>
          <p:cNvSpPr/>
          <p:nvPr/>
        </p:nvSpPr>
        <p:spPr>
          <a:xfrm>
            <a:off x="2209680" y="1219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굴림"/>
              </a:rPr>
              <a:t>See you agai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12388504841AsVn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250920" y="2276640"/>
            <a:ext cx="51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'How old are you?'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'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I'm four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and a half!'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You're never thirty-six and a ha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You're four and a half, going on five! That's the key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12215066044C6LzcG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2"/>
          <p:cNvSpPr/>
          <p:nvPr/>
        </p:nvSpPr>
        <p:spPr>
          <a:xfrm>
            <a:off x="4410000" y="1917720"/>
            <a:ext cx="462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You get into your teens, now they can't hold you back. You jump to the next number, or even a few a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12161273845F6rM7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1219320" y="4114800"/>
            <a:ext cx="5333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'How old are you?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'I'm </a:t>
            </a:r>
            <a:r>
              <a:rPr b="1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gonna be 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16!' You could be 1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but hey, you're gonna be 16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And then the greatest day of your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life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.....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You </a:t>
            </a:r>
            <a:r>
              <a:rPr b="1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become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Even the words sound like a cerem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506600" y="6095880"/>
            <a:ext cx="33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YOU</a:t>
            </a:r>
            <a:r>
              <a:rPr b="1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BECOME 21... YESSS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022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2"/>
          <p:cNvSpPr/>
          <p:nvPr/>
        </p:nvSpPr>
        <p:spPr>
          <a:xfrm>
            <a:off x="179280" y="148428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But then you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turn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30. Ooooh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what happened the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Makes you sound like bad milk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e TURNED; we had to throw him 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There's no fun now, you're Just a sour-dumpling. What's wrong?  What's chang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1232643038Iej4F6P.jpg"/>
          <p:cNvPicPr/>
          <p:nvPr/>
        </p:nvPicPr>
        <p:blipFill>
          <a:blip r:embed="rId1"/>
          <a:stretch/>
        </p:blipFill>
        <p:spPr>
          <a:xfrm>
            <a:off x="0" y="0"/>
            <a:ext cx="9236160" cy="70102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539640" y="3573360"/>
            <a:ext cx="46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You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BECOME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21, you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TURN 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3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then you're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PUSHING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40.... Who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Put on the brak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it's all slipping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Before you know it, you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REACH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50 and your dreams are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1243316167P3CkZ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3886200" y="838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But wait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You </a:t>
            </a: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MAKE it </a:t>
            </a:r>
            <a:r>
              <a:rPr b="0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to 6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You didn't think you woul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2"/>
          <p:cNvSpPr/>
          <p:nvPr/>
        </p:nvSpPr>
        <p:spPr>
          <a:xfrm>
            <a:off x="108000" y="3214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So you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BECOME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2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URN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30,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PUSH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40,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REACH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nd 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KE it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to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2:45:10Z</dcterms:created>
  <dc:creator>hoon hwang</dc:creator>
  <dc:description/>
  <dc:language>en-US</dc:language>
  <cp:lastModifiedBy>Eugene A. Lefebvre</cp:lastModifiedBy>
  <dcterms:modified xsi:type="dcterms:W3CDTF">2010-04-14T16:51:38Z</dcterms:modified>
  <cp:revision>10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70000000000010242200207f6000400038000</vt:lpwstr>
  </property>
</Properties>
</file>