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80CF3-2909-4FEB-826E-7B2DB22D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4C6CE-399F-44BD-B40F-66092E5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A8AE74-B2E9-4E67-98FA-A62133B1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628373-FC0C-4546-AA10-C4160C83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C1AD6D-BDCE-46BC-9752-9C48C8B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4C1A67-6800-430A-A525-6D86112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D3B649-FAC3-48A3-8C96-00BA012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27CCDD-0C18-4BD0-8076-9585BEA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082289-9D52-4DC4-B165-F14995E7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BDC323-1425-4439-ACC4-186D4852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119A6C-5C74-4601-BB68-4C5158FF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69FEB-1F93-4418-B99A-5C07AF71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AB48E-6669-48E7-8128-2D7E1A18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872C7-866F-40A4-B919-8CA8454B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C7D67-1C5D-48F8-8F4A-FA18F367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0A838-9A82-4B88-9E5C-15AB90B1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DAC5F-AE19-44B4-BA75-A157C20B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8C529-531E-419C-BB53-7A397E0E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CB22D-0641-4E56-869A-736780A8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DD6ED-738E-4E4E-A500-90572AFD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5F889-07E2-454F-8247-4610A9A5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5856B-E53D-4113-9BC3-3AF8970A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6A5A3-07C0-4829-86B9-4169D565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6DA4A-7D5A-4A2F-83B8-DDEDB1B3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5E2C9-600F-4B65-BC51-138C2112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16AA98-1BC6-48C0-A26D-E9AECDEF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114ECF-0A3B-4A81-A620-962C8AE2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4F3406-FB60-401F-A65F-BC82A96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E80A20-9987-45CF-8D96-22438EA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7A7521-230A-4D0A-933F-ADEFFACC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B26D4A-8F46-472E-9AC7-2CF58FE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7EA6AF-53B8-4C6A-AA9D-00344027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48EE69-2116-4C45-9F6C-486C2AC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2AD74C-65E0-4382-9478-BA53E016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F0E0B-DE3B-4A9D-B58F-71F0A989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81C270-869C-4A6D-89C9-C1C93154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6885EB-60FF-4CBD-A5F6-685EA225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AC10D3-1008-4144-865B-F0091C19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4A2006-8B0E-4C1E-ACB0-F9D22F79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252E7E-1610-41B9-A1F8-6BA2E0DA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FC5DD5-DC8C-4D8C-8CAB-D5ED02C6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4B5E9A-C10E-435F-995D-429AED37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1BE3E2-4D5A-4161-BFF8-2B476F7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FC42FB-0816-4EC3-AC53-AD244BEC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56BC15-F7F6-4C21-94AA-B897875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1004C-9A3B-4567-B2A5-CF0BA677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E9E658-C69E-4288-ACCB-FE95C58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99E75E-D0C0-4DC0-909A-5FA9DB3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F24B95-9F3F-47FE-AEAF-834FADBC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1B2F35-7EE2-4EE4-9391-99FB792D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8E31C8-9A85-4CCD-A079-72C88E75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2D3E3-5F27-4A46-A9D8-CE776556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D6762-B9B3-4A1A-B06A-84A5C926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41101-09AE-4284-AFE6-573D6E95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90341-39CE-4A53-8DF6-256B0158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D2064-840F-4830-A25D-0440164C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FB0C5-D6B3-4B23-BB5C-89A6753E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5EFD0-A64B-4D4C-87B6-C7F29688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C74B3-F9E7-4776-A7FA-D2383AB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6550A-D6D1-4996-A869-66F21768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B8099-D8D5-487B-9FF8-3414E824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F765A-269D-46BD-8D9F-26732C5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A76AE-32CF-4276-A18E-6082A902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97246-2971-4100-A812-BC8CC917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D74670-DFD5-40DA-9F9C-0A57C576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B4A30A-921A-4D1B-BFD8-B496093A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C5765F-F12C-43A9-9FFE-769EE5CE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FEFC2-5A37-468D-8B38-4CC00010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2B7CE9-F830-4F31-A653-52CF60E8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807183-D591-46A5-A67F-7B7D79A4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8D21DF-8DC7-4F70-9B23-B299BD7A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F871AF-B116-4B7B-82D2-B462C1C6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959764-17A5-4826-8856-6319825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C898A5-57AD-4D2F-9575-C04C835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BF2A97-CB30-4629-8677-80A422AD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61ABA2-C7B3-40FD-A14C-C610E20F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CDE427-3AAE-4632-AFBC-0406D126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675E4-484F-4EF6-A129-A4E084CF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E4647-41EE-4F50-A69C-4BCCC5B6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FC038-7E5A-4FFF-8DAF-B84F3D0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128C0-DD95-4893-A3B3-447A5930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5EF23-95E5-4A7C-B8FB-298269EE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88BD8-5250-4561-AD4B-FF20DDE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9F33A3-082D-49E8-B6C2-45185D2B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A1E45-14FE-4986-8DC5-FB60839F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39A5D-6B63-464E-A9DF-E4E9F123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B5B91-72ED-47B8-996C-3A20512D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5C2C0-884B-473E-A532-3E4308D1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B9C7A-3EE0-4B5B-8589-486C969D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1D6AA-F1B0-4488-855D-FA514EC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AB6AE-7315-40A9-8477-AA06C74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85FE6-C31D-4DE7-9C07-FA1E7586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BE979-1388-4B8A-9A87-E02E64CA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E9672-E5ED-4959-8822-D6AECCB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E05DB-2672-4794-97D5-0343187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BCC94-6669-4F11-92FE-E5B5A086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051F1-5A60-47F1-AEA3-427197E9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550FF-CE35-456B-B817-9E04D837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A1283-43CB-4FC9-BB18-8DE05C0B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A075-FA6A-429A-856B-617EFD85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6925-D19D-4CAE-98D2-B038C782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A488-B4EE-48ED-A12B-44075676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F9D60-DF40-4D79-A1E2-0AD2D07A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FEF50-7549-4471-9716-B4265F8D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5E36-C56C-41F4-9DEE-15A317BC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1240-34C5-40E9-9C37-D84C4CA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91D6-7566-49B8-8FC1-7B5D2DD8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E4A04-0BC3-49E5-8A64-93FCC06B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EAF49-6761-4D93-A762-8968931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AC9F-960E-4F00-AA59-827920C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44BA-8204-4BC5-9BF8-A3189622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2333-4DC9-41D0-84EB-16A9FBF2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33A266-D110-45A3-8224-02BA25F0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4B1AB-8DFB-4604-9980-D2FE59C5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3ABEA7-D547-49DB-900F-FE7DD4B0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AA3C6B-8F0C-4A2C-9A01-78FB947C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38B35-73E0-4005-ABCF-78C6FEB2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4E0B04-0588-481E-AD55-F3C01A12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A5390A-621D-4F6A-9DFC-D38B7AD1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F71623-99DC-4231-9C8B-0779C54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B60F0-7A4A-453D-A5F6-CD31FE5A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E9F0F9-155D-43F3-84A6-2758F19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E85FFD-865D-490A-BBC6-C9103201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392909-3A3A-413A-B846-FF398818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B1F0E-73B2-4C72-9681-30B6B482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0FF42B-01EB-479C-AAD4-1177240F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9B2B9-BDCF-4CCE-88C4-233C49FF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4A7C6C-3C68-4901-8F94-1FD05E06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DAD0C-1BF5-41FB-8298-1C0108CD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1BDA1-E065-405D-91D4-AE5CB603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C38FF0-39E5-4023-9586-391C7E72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F5C7B-966F-4D49-B34E-F245EB91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A489C-E80F-4336-9B2E-BCC3E0A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1E9CC3-5E9A-4B0F-8553-32D25ED8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92C338-7D3E-4EEC-9C04-29147B4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7800-0BDC-43CF-ABFD-40E1A9D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D5A678-D62B-431F-8456-031791BD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3047E5-E8C6-47BD-902A-042DD7FE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1BC66-49E3-4E69-BFC5-10243F52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BE427-9EA9-4398-966A-5E99EF18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2A936-C66F-4405-9DC4-91511DBA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5C1BE-CE40-437E-A2E5-E0560E0A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AB64B-5E0E-41AA-8A79-59644FC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77477-861C-4661-907A-3DF75398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44E53-8E0F-41B3-8815-B2897BB4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11EF9-7EDE-44B4-A7D4-F398A7D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BD41E-4AE0-4A42-A33C-81F0D74E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D230C-CDA1-4540-BA4E-9372326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7D8C0-68D4-4FCB-A5D9-D12BC9B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A182B-56B3-45A1-9FE7-A054E4F0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E6B20-B197-4979-9CA7-60BDD35A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36D30-81D8-443E-90F8-619CCEA0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1AFD3C-B67E-4502-B419-7EF6A02E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806DB7-01A2-43BC-A9DD-99905717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01FADA-D60F-49C5-8AE8-F6CC5159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46261F-330B-4DFA-814E-E2DE319B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118B1C-F316-4F7E-80B1-898F9761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91566-D92A-4A7E-93AD-579F73E4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0D561F-3940-4FF2-A9F9-14FE4B2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F73345-D38B-492D-8692-7D11E02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02B69C-4318-40DB-B590-E95C7CDF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4766DC-630E-4DA3-91C9-C5D91F8C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700FA4-47CB-43DB-8AA4-94498E81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C531E9-1849-423A-A4C3-E0C32A9B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B19E19-72DA-46FE-A51F-2FBBA491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18B976-F10E-40B8-AA0C-C679716D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0925F9-55DF-42C7-952F-6BC2B232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2F682E-2491-4FCB-A7DB-44BAECA6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875C-BFBE-488D-BF22-F459B0F7B1CC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8F7A-401A-4D9D-89FA-73C9ED105D6E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75C3-8D3F-4D87-B92A-E41636EC2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E524-BFD6-4666-BF6E-11B916244B81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5867-B224-42CA-9B3B-50C98ADAB3D0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834B-E25E-4CE8-B113-550B98843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9AD4-DB8B-446C-AE61-7E57974134FA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A99D-D26E-438C-AFD4-B7F9F40B7924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F56B-D1A7-416C-A48B-CABF8D82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7A03-ED21-46D0-A1AD-02752858E701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D05E-EC35-47A6-B19E-BCBD614D2F00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DFFD-561D-4CF3-BA44-89A58BEF1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C2EF-4B7B-456E-9CD9-E0DE3BFFDB70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5AFD-81DC-4BF8-8960-4B83D0012F1D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99A-F360-4545-9D86-010FFC18C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7D7D-2D22-43C4-B7EF-ABA31296C064}" type="datetime">
              <a:rPr b="0" lang="ro-RO" sz="1400" spc="-1" strike="noStrike">
                <a:solidFill>
                  <a:srgbClr val="66cc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008E-15F4-4BA5-9487-5411408938B7}" type="datetime">
              <a:rPr b="0" lang="ro-RO" sz="1400" spc="-1" strike="noStrike">
                <a:solidFill>
                  <a:srgbClr val="66cc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66ccff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116-E2AD-4779-BD96-1638440D9136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0C79-6F22-4E2D-B771-EBD6EA5C867D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FD24-E630-4B8B-B0FA-161BABC87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59BF-35D4-42F0-B9A5-255CD405D61D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4DB-205C-47ED-B1E3-A25526A5A79B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CD8-F969-4B81-9D44-CF1318AF2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3FA8-8ECC-4A2B-A103-35BCA733AC35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3BC5-AB1B-4582-A64D-AAFFC486B244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CD6B-735C-4DF1-9587-B516799C9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B91F-B8AC-44F1-B3F1-8D127A3649BD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81F-8DCC-4059-9B7A-98D4CA07D763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FE8-352F-43EC-9DC0-FC120D704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5BC-82E1-472D-B1EF-A8E4070DEDF1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80E0-5405-4F12-9EC6-D363C6B6AC94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A0FE-FAC9-43E0-882A-362878141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784-501F-4D4F-AB9C-57C3C37357F6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A03-7FC7-4D75-9188-0A2460CC79FE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1423-DF13-4FBD-853F-64A0E4E5E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8456-05E1-4C94-9DB6-BCBE715B3B76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9293-5650-4BBB-AE18-0D211B617881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684A-A65F-442A-8728-73E7C7A47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8" descr="bluebackgorund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A1B1-ABE6-429B-B2F1-68A7B1E7BD61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BC20-FD5B-43B2-A9BA-875746E56CC0}" type="datetime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Curs: Finanţarea întreprinderii (C. Pă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B265-4417-4DCA-803C-753A95D7B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1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cture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Financing strate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Box 2"/>
          <p:cNvSpPr/>
          <p:nvPr/>
        </p:nvSpPr>
        <p:spPr>
          <a:xfrm>
            <a:off x="0" y="646416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ww.finint.ase.ro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nancing strategy 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The cash flow requirements of the project can also be met by borrowing with a grace period. Again, the lender risk is higher and, therefore, so is the co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B536-8DD1-460C-A150-31298B628E1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361800" y="1420920"/>
            <a:ext cx="84092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nancing strategy 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 guarantee by a more creditworthy entity (e.g. government) will lower the interest for the original life of the loan, thereby reducing the debt service level to below the revenues available for debt serv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1BC8-171E-4EAE-A416-651599ABEA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27160" y="1673280"/>
            <a:ext cx="8715240" cy="49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. Debt structuring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D2FF-DC55-4158-B855-B4C0E65FFE3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225360" y="1201680"/>
            <a:ext cx="8691480" cy="53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t structuring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F453-E18C-48EA-A544-232CF914D1A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94572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ing tariffs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asing operating and maintaining costs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ing equity participation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ing a reserve account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ing another source of revenues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hird party guarantee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ubordinate (mezzanine) loan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ategy 1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creasing tariffs is one option for making the project feasible, and may reflect higher government payments for the provision of servi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CB60-411E-4A62-8140-16CB7CAE33D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82520" y="1347840"/>
            <a:ext cx="8798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ategy 2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asing operating and maintenance costs may improve the efficiency of the project, but may also undermine the project if it is already operating efficiently or if such reductions are misman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36B6-35C1-4597-852C-1BDB0FED420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28520" y="1676520"/>
            <a:ext cx="8825040" cy="50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ategy 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n increase in equity will reduce the amount of debt financing required, but may also reduce the return on equity to an unacceptable level, as noted abo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ECA1-8651-4D14-BB3F-29D21076F68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1"/>
          <a:stretch/>
        </p:blipFill>
        <p:spPr>
          <a:xfrm>
            <a:off x="209520" y="1380960"/>
            <a:ext cx="8744040" cy="52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ategy 4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ing a reserve account may satisfy the beneficiaries of the reserve account (usually the debt holders) and reduce the cost of d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FAE6-3F0F-423C-A11F-2FFACC7315B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90440" y="1274760"/>
            <a:ext cx="8726400" cy="54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ategy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Finding another source of revenues within the project when the project sells a by-product of its goods and services, or rents out space within its build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EF5B-F24F-497A-980B-73AC48B5860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49400" y="1420920"/>
            <a:ext cx="8877240" cy="51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ategy 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 third party guarantee, such as by a financial institution. This option has a specific cost that the project or government will be required to pay either directly or indirect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30D7-0488-4911-82AD-6BB4EF26D65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190440" y="1384200"/>
            <a:ext cx="87631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in charge with financing strategies in Project Fin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EB7F-0BB8-4099-AEDD-90D112C3B49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3080"/>
            <a:ext cx="822960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onsors are responsibl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developing the financing strategy, and will usually hire 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nancial advise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 investment or merchant bank) to design the strategy. 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isers must have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chnical expertise, contacts, track record and innovative thinki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 for planning and implementing complex strategies. 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conjunction with the sponsors, financial advisor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xplore and contact potential sources of finan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alyze the opportunities and methods for diverting risk from sponso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maximizing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ject’s ability to leverage or maximize its gearing rat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ategy 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Subordinate (mezzanine) debt can be created to reduce the cost of senior debt. This is a common option even the cost of the subordinate debt is greater than that of the senior d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483-E2DD-47C5-9BC5-B91943C4382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154080" y="1498680"/>
            <a:ext cx="883584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velopment of financing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F7FC-A21A-4B1D-8EBE-9079879BC95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94572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issues should be considered in developing a financing strategy: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does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vestment market w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should be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verage maturity of the project’s securiti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should be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earing rati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a project’s capital structure?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 1: Needs of the investment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15DC-64B5-4923-A50E-6AAE035A348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54080" y="945720"/>
            <a:ext cx="883584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ppetite of investors for capital investments may vary between the following options: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Fixed vs variable rat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an investor whose liabilities and debt are fixed will generally prefer fixed-rate investments.</a:t>
            </a:r>
            <a:endParaRPr b="0" lang="en-US" sz="1600" spc="-1" strike="noStrike">
              <a:solidFill>
                <a:srgbClr val="66ccff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Long- vs short-term investm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as above, an investor with long-term liabilities and capital (e.g. a pension fund) will prefer long-term loans.</a:t>
            </a:r>
            <a:endParaRPr b="0" lang="en-US" sz="1600" spc="-1" strike="noStrike">
              <a:solidFill>
                <a:srgbClr val="66ccff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Industry typ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an infrastructure fund with a disproportionately low investment in, for instance, electricity generation may be interested in increasing its holdings in this industry.</a:t>
            </a:r>
            <a:endParaRPr b="0" lang="en-US" sz="1600" spc="-1" strike="noStrike">
              <a:solidFill>
                <a:srgbClr val="66ccff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Loc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when most of an investor’s holdings are in Germany, for instance, other areas, such as the Russia, may be less or more attractive.</a:t>
            </a:r>
            <a:endParaRPr b="0" lang="en-US" sz="1600" spc="-1" strike="noStrike">
              <a:solidFill>
                <a:srgbClr val="66ccff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Economic expectatio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an investor that expects tourism to grow rapidly may be interested in investing in infrastructure with a tourism component.</a:t>
            </a:r>
            <a:endParaRPr b="0" lang="en-US" sz="1600" spc="-1" strike="noStrike">
              <a:solidFill>
                <a:srgbClr val="66ccff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Demographic expectatio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an investor expecting the middle class to grow strongly may be interested in investing in projects that target this market segment.</a:t>
            </a:r>
            <a:endParaRPr b="0" lang="en-US" sz="1600" spc="-1" strike="noStrike">
              <a:solidFill>
                <a:srgbClr val="66ccff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Development of a relationshi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when aiming at participating in future projects with the same sponsors, investors may want to get their “foot in the door”.</a:t>
            </a:r>
            <a:endParaRPr b="0" lang="en-US" sz="1600" spc="-1" strike="noStrike">
              <a:solidFill>
                <a:srgbClr val="66ccff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Debt vs equit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an investor heavily exposed to debt may only be interested in equity or pseudo-equity.</a:t>
            </a:r>
            <a:endParaRPr b="0" lang="en-US" sz="1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 2: Average maturity of secu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33F5-3AC7-465B-BF0D-99039DDB362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94572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a rule, the (real versus accounting)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verage life of a project’s assets should determine the average life of its capital 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important for two strategic reasons: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mortization of project deb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ould reflect the depreciation pattern of the asse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hereby achieving the proper schedule of depreciation expense to payment of principal.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ching the life of the project’s capital with that of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ssets may reduce th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sh flow implications of the repayment of the debt princip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 3: Gearing ratio of the capital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CE8-902E-4248-BA33-A5830749F88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94572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nsors aim at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inimizing the level of equi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favor of debt.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the equity level decreases, the unit cost of debt increases as the debt investors take on additional risk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bt service coverage ratio (DSCR) is the most important ratio for debt investors. 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defined as the earnings before interest, taxes, depreciation and amortization (EBITDA) divided by the debt service (the payment of interest and repayment of principal):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2"/>
              <p:cNvSpPr txBox="1"/>
              <p:nvPr/>
            </p:nvSpPr>
            <p:spPr>
              <a:xfrm>
                <a:off x="2855880" y="5072040"/>
                <a:ext cx="3208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C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ITD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jec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bt</m:t>
                        </m:r>
                        <m:r>
                          <m:rPr>
                            <m:lit/>
                            <m:nor/>
                          </m:rPr>
                          <m:t xml:space="preserve"> Servi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. Financing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6A06-B5BE-4D09-B121-186843CB189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66360"/>
            <a:ext cx="82296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ding the term of the debt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rring principal payments 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rowing with a grace period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ing a guarantee for a portion of debt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4080" y="274680"/>
            <a:ext cx="8726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nancing strategy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y extending the term of the debt, the DSCR is increased because shorter-term debt service payments are de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58A4-B9BE-4D3B-B59E-7A766D909BA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457200" y="1457280"/>
            <a:ext cx="822960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nancing strategy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y deferring principal payments, the cash flow from revenues becomes sufficient to meet debt service requirem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8223120" y="6245280"/>
            <a:ext cx="463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3221-0234-4414-A8E8-A9C276465B2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229600" cy="503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Helper</dc:creator>
  <dc:description/>
  <dc:language>en-US</dc:language>
  <cp:lastModifiedBy> </cp:lastModifiedBy>
  <dcterms:modified xsi:type="dcterms:W3CDTF">2010-01-05T11:22:29Z</dcterms:modified>
  <cp:revision>720</cp:revision>
  <dc:subject/>
  <dc:title>Subtle Waves Template</dc:title>
</cp:coreProperties>
</file>