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545-213D-4A07-8DA2-4371E7FD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27F-1529-4DDE-B814-CD35A4A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A49-4F15-45D4-846F-DB61521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CD3-1AE0-4D24-BEDC-54F63976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0D5A-538D-49D2-BA82-7A2047FF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9DFE-2172-4FF3-8AE2-11231ABB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92C7-4C11-482D-9E71-59F7B43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60CD-4097-4525-87F9-8E17E049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23F-ED18-46F3-88D2-4B39FB8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D2F-2CDD-40AD-AC3B-112F1EF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E55-B4D4-4705-A84E-F2CEBBF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0C9-1004-4C8E-9D0B-70AE0C8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818-623C-4A06-8897-2D1896D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067-8FBF-4C79-B009-2CA2514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ACFA-FBE1-4632-A55C-81816C71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6E4-0124-4EC4-B1EE-03FE4AEE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D38B-05AD-4B27-AE48-87D7FB12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2A7C8-872F-4A3A-B935-3750A0B6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36CA7-277E-45F8-8E78-57E133D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77029-D09C-4553-87AD-E1E7BB93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AE4CF-050B-4735-9BC8-6C56E7CA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EDD5F-CB7B-44BB-AD5B-AF21AF5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95E-CFDE-4C29-BA9A-70CF4E0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BA888-475C-475F-AF50-16A502DE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BC9DA-C639-4FE2-9BE9-A724A00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78965-30DC-4095-AAE0-7564C2E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FF8B9-4BF3-4514-98CB-B293AFA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690AD-A30F-455F-8018-F8E39C2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2EF8B-4749-4F9D-BFA1-EC0DEE42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C1252-1D9C-40A8-B30F-B589BDD2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5E0F-2289-40B5-A489-A9A5891F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C0AB-250A-4271-BE4C-0558921D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1B49-54FE-46A3-B729-F1E2C22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C2D-279B-459A-B13D-CC08468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3675-F5CA-4454-B3D6-FD2426B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F09A-2797-49A3-A184-BDE718B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E8D7-7A47-4E80-A106-7C680BA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CD58-64E2-45DC-9173-DE16FAD6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9764-0372-4801-A72C-8AED798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24EE-8F50-4AE3-80C9-C80AB1A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4678-64E4-4581-AAEF-77874DA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696F-89F9-4A8C-A5F9-D2FBC55E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2BB1-BCA5-458A-8B87-8F3468D2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F79C9-14D0-405F-AECB-590F613D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779-DF07-41E7-8788-C7576FB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BAEB0-6953-4A19-9B68-BC4A768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59E2C-D5DC-4AFE-9458-ED8C86F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CA61A-2D45-4BF9-B76D-142754E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D78C1-DCC9-4C62-930A-03B0271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83F27-D0E6-4B26-8C79-8D02059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11567-3680-4ECA-A9B8-122CE94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6FA54-8EAE-43E4-9571-73C50BE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F7F2D-6BC0-4E76-8B88-7F7302B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8B71C-9D94-4F36-B050-CF564DA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45DF8-ACFA-40EB-990E-B2028268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D78-5484-459C-BE39-B1CBF84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D8B2B-DE6F-4AA1-8085-8AE09BD8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AF282-5E79-4AAA-AAB7-F566297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E1767-B6EB-4006-AB64-7F1404E6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E4C01-1D3F-495C-BB37-4C1C917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1A7A9-1520-4014-8810-1C9F784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E78CB-A464-4BD1-AEA2-31C6BA1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9F6E5-6E35-4DA3-B274-241DDFE9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6BD55-4787-43E5-BBD5-43BB575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3873F-7BE5-43A7-A594-61E36FB4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B6DC1-69B9-4155-8523-28ACE23F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ACF-08B3-49F0-927A-0E3D624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70038-8CE0-474A-A6FA-35DB227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AD8C0-F3F7-4463-A6F1-6D9F3E3E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C7775-3352-4027-AC7E-7FE55A97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066D0-C1BE-4514-84B3-2B7ABBF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8B240-8AB5-445C-813D-CB12495C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66984-3BD0-4E47-8A20-B51D38E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D3C16-BB06-4D6C-9EF0-1DD0B59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BE212-4B21-46F8-BF49-1377EB64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4AD40-A84D-441D-8B0B-F0C0EE3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B0CCA-B096-4948-AE00-CE92EF9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2E5-C341-4918-BAB1-4E6CE41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5114A-D536-42F4-8343-10AACFB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6CA5F-F32E-4CF5-8A9D-5F61265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14C5E-1B75-4DF5-A41C-E614982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AF09D-6FA5-477C-9C89-4E47345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21F71-7FB6-489A-8E9D-064BBDA9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523-F306-404E-ACDD-252EE50F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6F9-D019-4BD0-A610-47877A73A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Dreptunghi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Dreptunghi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drept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drept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drept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drept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drept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drept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CC9-6208-4D0A-AE95-50A702E844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2E5-F203-4920-A473-A108D46675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Dreptunghi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Dreptunghi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Dreptunghi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drept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drept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drept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drept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drept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Dreptunghi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drept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C53-8394-4482-AF6E-57BED4FDAA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19D-CAFE-46B8-AA57-8AF3D1E15B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drept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drept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drept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Dreptunghi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drept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0F4C-E297-446E-9EE7-05346C3877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drept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Dreptunghi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drept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drept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drept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C5D2-92DC-488B-9D39-5A4EE4FA39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entury Schoolbook"/>
              </a:rPr>
              <a:t>OPERATIONS STRATEG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entury Schoolbook"/>
              </a:rPr>
              <a:t>4</a:t>
            </a:r>
            <a:r>
              <a:rPr b="1" lang="en-US" sz="1800" spc="-1" strike="noStrike" baseline="30000">
                <a:solidFill>
                  <a:srgbClr val="1f497d"/>
                </a:solidFill>
                <a:latin typeface="Century Schoolbook"/>
              </a:rPr>
              <a:t>th</a:t>
            </a:r>
            <a:r>
              <a:rPr b="1" lang="en-US" sz="1800" spc="-1" strike="noStrike">
                <a:solidFill>
                  <a:srgbClr val="1f497d"/>
                </a:solidFill>
                <a:latin typeface="Century Schoolbook"/>
              </a:rPr>
              <a:t> cour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QUALIT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82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SPEED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6518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DEPENDABILIT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33520" y="915840"/>
            <a:ext cx="80787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FLEXIBILIT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533520" y="927000"/>
            <a:ext cx="7975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OS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67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entury Schoolbook"/>
              </a:rPr>
              <a:t>EXTERNAL AND INTERNAL EFFECTS/BENEFITS OF PERFORMANCE OBJECTIVES</a:t>
            </a:r>
            <a:endParaRPr b="0" lang="en-US" sz="2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85800" y="1201680"/>
            <a:ext cx="6867360" cy="5656320"/>
          </a:xfrm>
          <a:prstGeom prst="rect">
            <a:avLst/>
          </a:prstGeom>
          <a:ln w="0">
            <a:noFill/>
          </a:ln>
        </p:spPr>
      </p:pic>
      <p:sp>
        <p:nvSpPr>
          <p:cNvPr id="390" name="CasetăText 3"/>
          <p:cNvSpPr/>
          <p:nvPr/>
        </p:nvSpPr>
        <p:spPr>
          <a:xfrm>
            <a:off x="91440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Corporate agil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KEY QUESTIONS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the difference between a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‘market requirement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 and an ‘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perations resourc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 view of operations strateg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the difference between a ‘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top-down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 and a ‘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bottom-u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 view of operations strateg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ow can a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perations strategy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 put togeth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OPERATIONS STRATEG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perations strateg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ncerns the pattern of strategic decisions and actions which set the role, objectives and activities of the op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tion strategy is a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p-down reflection of what the whole group or business wan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tions strategy is a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ottom-up activity where operations improvements cumulativel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ild strate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tions strategy involves translating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rket requirements into operations deci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tions strategy involves exploiting th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pabilities of operations resources in chose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ke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36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TOP-DOWN APPROACH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006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19160" y="1023840"/>
            <a:ext cx="87199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BOTTOM-UP APPROACH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192320" y="1666800"/>
            <a:ext cx="6075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MARKET-REQUIREMENTS PERSPECTIV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066680"/>
            <a:ext cx="807732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tions seek to satisfy customers through developing their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five performance objectiv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s which define customers’ requirements -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petitive factor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Order-winning fac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rectly and significantly contribute to winning business. They are regarded by customers as key reasons for purchasing the product or service – contribute to business grow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Qualifying fac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ose aspects of competitiveness where the operation’s performance has to be above a particular level just to be considered by the custom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erformance below this ‘qualifying’ level of performance will possibly disqualify the compan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y further improvement above the qualifying level is unlikely to gain the company much competitive benefi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MARKET-REQUIREMENTS PERSPECTIV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221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MARKET-REQUIREMENTS PERSPECTIV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866960" y="0"/>
            <a:ext cx="518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entury Schoolbook"/>
              </a:rPr>
              <a:t>THE </a:t>
            </a:r>
            <a:r>
              <a:rPr b="0" lang="en-US" sz="2700" spc="-1" strike="noStrike">
                <a:solidFill>
                  <a:srgbClr val="ff0000"/>
                </a:solidFill>
                <a:latin typeface="Century Schoolbook"/>
              </a:rPr>
              <a:t>PRODUCT LIFE-CYCLE </a:t>
            </a:r>
            <a:r>
              <a:rPr b="0" lang="en-US" sz="2700" spc="-1" strike="noStrike">
                <a:solidFill>
                  <a:srgbClr val="1f497d"/>
                </a:solidFill>
                <a:latin typeface="Century Schoolbook"/>
              </a:rPr>
              <a:t>INFLUENCES ON PERFORMANCE OBJECTIVES</a:t>
            </a: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45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THE RESOURCE-BASED PERSPECTIV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99036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perspective on strategy that stresses the importance of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capabilitie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sometimes known as core competences) in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influencing operations strategy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d determining sustainable competitive advantag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tangible resource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elationship with supplier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eputatio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nowledge of process technologi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he way staff can work together in new product and service developmen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Operations capabilitie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e developed partly through the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strategic decision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aken by the operation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trategic decision area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structural - those which define an operation’s shape and form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nfrastructural - those which influence the systems and procedures that determine how the operation will work in practic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228680" y="42840"/>
            <a:ext cx="66866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STRATEGIC DECISION ARE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677880" y="2054160"/>
            <a:ext cx="38941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oods and service desig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ality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cess and capacity desig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ocation sele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yout desig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4703760" y="2054160"/>
            <a:ext cx="389412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entury Schoolbook"/>
              <a:buAutoNum type="arabicPeriod" startAt="6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resources and job desig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entury Schoolbook"/>
              <a:buAutoNum type="arabicPeriod" startAt="6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entury Schoolbook"/>
              <a:buAutoNum type="arabicPeriod" startAt="6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entury Schoolbook"/>
              <a:buAutoNum type="arabicPeriod" startAt="6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entury Schoolbook"/>
              <a:buAutoNum type="arabicPeriod" startAt="6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OPERATIONS CONTRIBUTION TO STRATEG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pSp>
        <p:nvGrpSpPr>
          <p:cNvPr id="416" name="Group 59"/>
          <p:cNvGrpSpPr/>
          <p:nvPr/>
        </p:nvGrpSpPr>
        <p:grpSpPr>
          <a:xfrm>
            <a:off x="254160" y="1706400"/>
            <a:ext cx="1645920" cy="4882320"/>
            <a:chOff x="254160" y="1706400"/>
            <a:chExt cx="1645920" cy="4882320"/>
          </a:xfrm>
        </p:grpSpPr>
        <p:sp>
          <p:nvSpPr>
            <p:cNvPr id="417" name="AutoShape 8"/>
            <p:cNvSpPr/>
            <p:nvPr/>
          </p:nvSpPr>
          <p:spPr>
            <a:xfrm>
              <a:off x="254160" y="1706400"/>
              <a:ext cx="1645920" cy="483552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4835520"/>
                <a:gd name="textAreaBottom" fmla="*/ 4835880 h 483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6b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8" name="Text Box 48"/>
            <p:cNvSpPr/>
            <p:nvPr/>
          </p:nvSpPr>
          <p:spPr>
            <a:xfrm>
              <a:off x="266760" y="1822320"/>
              <a:ext cx="1544400" cy="47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Human</a:t>
              </a:r>
              <a:br>
                <a:rPr sz="1400"/>
              </a:b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  resource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Supply chain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0000"/>
                </a:lnSpc>
                <a:spcBef>
                  <a:spcPts val="24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Century Schoolbook"/>
                </a:rPr>
                <a:t>Maintenance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19" name="Group 60"/>
          <p:cNvGrpSpPr/>
          <p:nvPr/>
        </p:nvGrpSpPr>
        <p:grpSpPr>
          <a:xfrm>
            <a:off x="1574640" y="1706400"/>
            <a:ext cx="5791320" cy="4835520"/>
            <a:chOff x="1574640" y="1706400"/>
            <a:chExt cx="5791320" cy="4835520"/>
          </a:xfrm>
        </p:grpSpPr>
        <p:sp>
          <p:nvSpPr>
            <p:cNvPr id="420" name="Freeform 10"/>
            <p:cNvSpPr/>
            <p:nvPr/>
          </p:nvSpPr>
          <p:spPr>
            <a:xfrm>
              <a:off x="1574640" y="1706400"/>
              <a:ext cx="5791320" cy="4835520"/>
            </a:xfrm>
            <a:prstGeom prst="pie">
              <a:avLst/>
            </a:prstGeom>
            <a:solidFill>
              <a:srgbClr val="f800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1" name="Text Box 15"/>
            <p:cNvSpPr/>
            <p:nvPr/>
          </p:nvSpPr>
          <p:spPr>
            <a:xfrm>
              <a:off x="1739880" y="1895400"/>
              <a:ext cx="5265720" cy="40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FLEXIBILITY: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Sony’s constant innovation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of new products………………………………...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Design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HP’s ability to lead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the printer market………………………………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Volume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Southwest Airlines No-frills service……..….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COST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Pizza Hut’s 5-minute guarantee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t lunchtime…………………..…..…………………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Federal Express’s “absolutely,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positively on time”…………………….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DEPENDABILITY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QUALITY: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Motorola’s HDTV converters….…….......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Conformance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Motorola’s pagers………………………..….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Schoolbook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3403440"/>
                  <a:tab algn="l" pos="40384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22" name="Text Box 47"/>
          <p:cNvSpPr/>
          <p:nvPr/>
        </p:nvSpPr>
        <p:spPr>
          <a:xfrm>
            <a:off x="330840" y="1255680"/>
            <a:ext cx="8037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ctr" pos="533520"/>
                <a:tab algn="ctr" pos="1879560"/>
                <a:tab algn="ctr" pos="5473800"/>
                <a:tab algn="ctr" pos="735336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Operations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Specific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Competitiv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5000"/>
              </a:lnSpc>
              <a:tabLst>
                <a:tab algn="l" pos="0"/>
                <a:tab algn="ctr" pos="533520"/>
                <a:tab algn="ctr" pos="1879560"/>
                <a:tab algn="ctr" pos="5473800"/>
                <a:tab algn="ctr" pos="735336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Decisions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Examples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performance objective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Advantag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8"/>
          <p:cNvGrpSpPr/>
          <p:nvPr/>
        </p:nvGrpSpPr>
        <p:grpSpPr>
          <a:xfrm>
            <a:off x="6807240" y="2959200"/>
            <a:ext cx="2235240" cy="2654280"/>
            <a:chOff x="6807240" y="2959200"/>
            <a:chExt cx="2235240" cy="2654280"/>
          </a:xfrm>
        </p:grpSpPr>
        <p:sp>
          <p:nvSpPr>
            <p:cNvPr id="424" name="Oval 51"/>
            <p:cNvSpPr/>
            <p:nvPr/>
          </p:nvSpPr>
          <p:spPr>
            <a:xfrm>
              <a:off x="6807240" y="4178160"/>
              <a:ext cx="1434960" cy="1435320"/>
            </a:xfrm>
            <a:prstGeom prst="ellipse">
              <a:avLst/>
            </a:prstGeom>
            <a:solidFill>
              <a:srgbClr val="ffd9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5" name="Oval 52"/>
            <p:cNvSpPr/>
            <p:nvPr/>
          </p:nvSpPr>
          <p:spPr>
            <a:xfrm>
              <a:off x="7607160" y="3689280"/>
              <a:ext cx="1435320" cy="1435320"/>
            </a:xfrm>
            <a:prstGeom prst="ellipse">
              <a:avLst/>
            </a:prstGeom>
            <a:solidFill>
              <a:srgbClr val="2fff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6" name="Oval 50"/>
            <p:cNvSpPr/>
            <p:nvPr/>
          </p:nvSpPr>
          <p:spPr>
            <a:xfrm>
              <a:off x="6934320" y="2959200"/>
              <a:ext cx="1434960" cy="14349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7" name="Text Box 3"/>
            <p:cNvSpPr/>
            <p:nvPr/>
          </p:nvSpPr>
          <p:spPr>
            <a:xfrm>
              <a:off x="7815240" y="4356000"/>
              <a:ext cx="107784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(Faster)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6877080" y="4749840"/>
              <a:ext cx="12193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Cost leadership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(Cheaper)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9" name="Text Box 12"/>
            <p:cNvSpPr/>
            <p:nvPr/>
          </p:nvSpPr>
          <p:spPr>
            <a:xfrm>
              <a:off x="6985080" y="3448080"/>
              <a:ext cx="135576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Differentiation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 Schoolbook"/>
                </a:rPr>
                <a:t>(Better)</a:t>
              </a:r>
              <a:endParaRPr b="0" lang="en-US" sz="13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62720" cy="6381720"/>
          </a:xfrm>
          <a:prstGeom prst="rect">
            <a:avLst/>
          </a:prstGeom>
          <a:ln w="0">
            <a:noFill/>
          </a:ln>
        </p:spPr>
      </p:pic>
      <p:sp>
        <p:nvSpPr>
          <p:cNvPr id="355" name="Oval 2"/>
          <p:cNvSpPr/>
          <p:nvPr/>
        </p:nvSpPr>
        <p:spPr>
          <a:xfrm>
            <a:off x="7238880" y="609480"/>
            <a:ext cx="1600200" cy="14479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onector drept 4"/>
          <p:cNvSpPr/>
          <p:nvPr/>
        </p:nvSpPr>
        <p:spPr>
          <a:xfrm flipV="1">
            <a:off x="5257800" y="1844640"/>
            <a:ext cx="2216160" cy="12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228600" y="609480"/>
            <a:ext cx="1447920" cy="13716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ly chain Mng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Conector drept 8"/>
          <p:cNvSpPr/>
          <p:nvPr/>
        </p:nvSpPr>
        <p:spPr>
          <a:xfrm>
            <a:off x="1463040" y="1779480"/>
            <a:ext cx="2422440" cy="12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WHAT IS IT ABOUT?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osing a different set of activities to deliver a unique mix of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c positi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Dreptunghi 3"/>
          <p:cNvSpPr/>
          <p:nvPr/>
        </p:nvSpPr>
        <p:spPr>
          <a:xfrm>
            <a:off x="3581280" y="3124080"/>
            <a:ext cx="175284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2" name="Conector drept cu săgeată 5"/>
          <p:cNvCxnSpPr/>
          <p:nvPr/>
        </p:nvCxnSpPr>
        <p:spPr>
          <a:xfrm flipH="1">
            <a:off x="2437560" y="3962520"/>
            <a:ext cx="1220040" cy="457920"/>
          </a:xfrm>
          <a:prstGeom prst="straightConnector1">
            <a:avLst/>
          </a:prstGeom>
          <a:ln w="12600">
            <a:solidFill>
              <a:srgbClr val="2a6bb9"/>
            </a:solidFill>
            <a:miter/>
            <a:tailEnd len="med" type="arrow" w="med"/>
          </a:ln>
        </p:spPr>
      </p:cxnSp>
      <p:cxnSp>
        <p:nvCxnSpPr>
          <p:cNvPr id="363" name="Conector drept cu săgeată 7"/>
          <p:cNvCxnSpPr/>
          <p:nvPr/>
        </p:nvCxnSpPr>
        <p:spPr>
          <a:xfrm>
            <a:off x="5029200" y="3962520"/>
            <a:ext cx="1372320" cy="457920"/>
          </a:xfrm>
          <a:prstGeom prst="straightConnector1">
            <a:avLst/>
          </a:prstGeom>
          <a:ln w="12600">
            <a:solidFill>
              <a:srgbClr val="2a6bb9"/>
            </a:solidFill>
            <a:miter/>
            <a:tailEnd len="med" type="arrow" w="med"/>
          </a:ln>
        </p:spPr>
      </p:cxnSp>
      <p:cxnSp>
        <p:nvCxnSpPr>
          <p:cNvPr id="364" name="Conector drept cu săgeată 9"/>
          <p:cNvCxnSpPr/>
          <p:nvPr/>
        </p:nvCxnSpPr>
        <p:spPr>
          <a:xfrm flipH="1">
            <a:off x="4341600" y="4040280"/>
            <a:ext cx="3600" cy="1219680"/>
          </a:xfrm>
          <a:prstGeom prst="straightConnector1">
            <a:avLst/>
          </a:prstGeom>
          <a:ln w="12600">
            <a:solidFill>
              <a:srgbClr val="2a6bb9"/>
            </a:solidFill>
            <a:miter/>
            <a:tailEnd len="med" type="arrow" w="med"/>
          </a:ln>
        </p:spPr>
      </p:cxnSp>
      <p:sp>
        <p:nvSpPr>
          <p:cNvPr id="365" name="Dreptunghi 10"/>
          <p:cNvSpPr/>
          <p:nvPr/>
        </p:nvSpPr>
        <p:spPr>
          <a:xfrm>
            <a:off x="1066680" y="4724280"/>
            <a:ext cx="205740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Operations effectiven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Dreptunghi 11"/>
          <p:cNvSpPr/>
          <p:nvPr/>
        </p:nvSpPr>
        <p:spPr>
          <a:xfrm>
            <a:off x="3657600" y="5410080"/>
            <a:ext cx="17524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ustomer manag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Dreptunghi 12"/>
          <p:cNvSpPr/>
          <p:nvPr/>
        </p:nvSpPr>
        <p:spPr>
          <a:xfrm>
            <a:off x="5791320" y="4724280"/>
            <a:ext cx="205740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Product innov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KEY QUESTIONS:</a:t>
            </a:r>
            <a:br>
              <a:rPr sz="3000"/>
            </a:b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rol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should th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perations functio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lay in achieving strategic succes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are th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erformance objectives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f operation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are th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internal and external benefits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ich derive from excelling in each of them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ROLE OF OPERATIONS: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527120"/>
            <a:ext cx="79246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mplemen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trateg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: insurance company moving to an online servi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uppor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usiness strateg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 those capabilities which allow the organization to improve and refine its strategic go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: mobile phone manufacturer aiming at constant product innov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usiness strateg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ique operations capabilities: customer relationships, supplier relationship, new product develop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THE FOUR STAGE MODEL OF OPERATIONS CONTRIBUTION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72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THE FOUR STAGE MODEL OF OPERATIONS CONTRIBUTION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internal neutrali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perations are not the source of competitive driv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voiding to make market mistak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external neutrali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operations function starts comparing itself to other companies similar func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ying to implement “best practice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internally supportiv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aining a clear view of the company’s competitive or strategic goals and supporting it by developing appropriate operations resourc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mpanies that are among the bets in the mark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redible operations strateg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externally supportiv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the operations function is providing the foundation for competitive succ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operations are innovative, creative, proacti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OPERATIONS PERFORMANCE OBJECTIVES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91404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Basic task – satisfying customer requirements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entury Schoolbook"/>
              </a:rPr>
              <a:t>Quality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advantage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consistent conformance to customers’ expectation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xternally - important aspect of customer satisfaction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Internally - quality operations both reduce costs and increase dependability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entury Schoolbook"/>
              </a:rPr>
              <a:t>Speed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advantage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lapsed time between customers requesting products and their receiving them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xternally - an important aspect of customer service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Internally - both reduces inventories by decreasing internal throughput time and reduces risks by delaying the commitment of resources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entury Schoolbook"/>
              </a:rPr>
              <a:t>Dependability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advantage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delivering products when they were promised to the customer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xternally - an important aspect of customer service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Internally - increases operational reliability, thus saving the time and money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entury Schoolbook"/>
              </a:rPr>
              <a:t>Flexibility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advantage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the degree to which an operation’s process can change what it does, how it is doing it, or when it is doing it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xternally 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822240" indent="-182520">
              <a:lnSpc>
                <a:spcPct val="80000"/>
              </a:lnSpc>
              <a:spcBef>
                <a:spcPts val="601"/>
              </a:spcBef>
              <a:buClr>
                <a:srgbClr val="b2c1d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produce new products and services (product/service flexibility);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822240" indent="-182520">
              <a:lnSpc>
                <a:spcPct val="80000"/>
              </a:lnSpc>
              <a:spcBef>
                <a:spcPts val="601"/>
              </a:spcBef>
              <a:buClr>
                <a:srgbClr val="b2c1d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produce a wide range or mix of products and services (mix flexibility);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822240" indent="-182520">
              <a:lnSpc>
                <a:spcPct val="80000"/>
              </a:lnSpc>
              <a:spcBef>
                <a:spcPts val="601"/>
              </a:spcBef>
              <a:buClr>
                <a:srgbClr val="b2c1d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produce different quantities or volumes of products and services (volume flexibility);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822240" indent="-182520">
              <a:lnSpc>
                <a:spcPct val="80000"/>
              </a:lnSpc>
              <a:spcBef>
                <a:spcPts val="601"/>
              </a:spcBef>
              <a:buClr>
                <a:srgbClr val="b2c1d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produce products and services at different times (delivery flexibility)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601"/>
              </a:spcBef>
              <a:buClr>
                <a:srgbClr val="4471a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Internally - help speed up response times, save time wasted in changeovers and maintain dependability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entury Schoolbook"/>
              </a:rPr>
              <a:t>Cost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advantage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275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priced appropriately for the market while still allowing for a return to the organization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275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Externally - low costs allow organizations to reduce their price in order to gain higher volumes or, alternatively, increase their profitability on existing volume level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80000"/>
              </a:lnSpc>
              <a:spcBef>
                <a:spcPts val="275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Internally – cost performance is helped by good performance in the other performance objectives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8:27:24Z</dcterms:created>
  <dc:creator>Miclaus</dc:creator>
  <dc:description/>
  <dc:language>en-US</dc:language>
  <cp:lastModifiedBy>valentina.rujoiu</cp:lastModifiedBy>
  <dcterms:modified xsi:type="dcterms:W3CDTF">2010-01-18T08:34:17Z</dcterms:modified>
  <cp:revision>48</cp:revision>
  <dc:subject/>
  <dc:title>Operations strategy</dc:title>
</cp:coreProperties>
</file>