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0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69A0-90F2-408E-8FA3-C0C57B1D0CB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3F30-3C76-4182-A453-E4C2B3CE9D9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F91D-B2DF-4B6E-AD9B-05B00BE7EF2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1B40-D7C2-4CFC-B3F3-4960A335528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904-09F8-452F-9495-745AD31C48A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F1DB-44FC-44A6-BB3C-1DB00ECAB91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214D-8988-431A-A0E6-B399EFC595B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9EC4-ED49-4AC0-B9EC-048497F341F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4DA9-9508-49A4-A5E4-57FC445EB12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F6E4-DC34-42FA-8B2C-B8E9DC60D21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7793-57A5-476A-B526-61AB013E9F6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B73B-C2CC-4268-AEB2-7D478B78957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C110-458B-4342-B318-68B040D8955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73FC-BEE0-459D-A408-D32BF469641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A2DE-437F-455A-8EE6-FE7C303C07E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8796-5C23-4439-B8BC-612A37AB195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AD08-3016-4EF5-AFA4-8FB512CE714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B3C4-037D-485D-948A-BF03A73D11E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7F09-2A64-45ED-B25C-10C908742D9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682F-C49C-42DA-AAFE-4991720C628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F57A-D6B7-4237-92A3-B8459E924DB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3DD6-3532-4C32-B1A3-1BC3302F87A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91AE-F158-4BCD-A04A-09E1F5A440A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48D-BC27-4CFE-B952-3663A1EF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353-DE8F-4A68-AD8F-115D2A3A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DC3-A7A1-44EB-A44B-4235095B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570-C277-4CF1-9B5A-4A34405E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2F80-AC34-4FA4-90C7-516B5F96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5A9-08F8-41AE-9FA9-E2F45A92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F130-30FC-419E-BA51-E2FDE03A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DFE2-B955-4744-A11A-48C342FF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632D-219F-4EFC-BB47-7E2D669C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5F1E-1814-4409-AE0B-660C4F16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B51C-CC8D-4BB1-A072-F6A18681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A88-B3F7-4E9E-B9AA-632AB394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1FF6-D038-4ACF-AB59-89C6813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59F0-CB39-4CC1-ACF3-C090F9E1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5F5B-0C35-4241-A060-2CC49FCA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A2C3-290A-4991-BFD6-51EC7A1C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1A72-4A91-477E-80C2-0A0E50A3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904-C59C-4274-96F2-C8CAC125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B61-3292-45AE-A7D6-99ADE8E5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CE0-C056-4A56-9A22-40BFC389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5A6-2A9D-4E37-9671-1500CDC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7C9-B2AD-4608-9E4F-945B154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F49-4642-47F0-88A8-5F01440E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3E6-A7F0-4404-8FB7-D94D838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5B71-7209-4959-A497-85215F327BA9}" type="slidenum">
              <a:rPr b="0" lang="en-CA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4920"/>
            <a:ext cx="9316080" cy="8586000"/>
            <a:chOff x="0" y="34920"/>
            <a:chExt cx="9316080" cy="8586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34920"/>
              <a:ext cx="9316080" cy="8254800"/>
              <a:chOff x="0" y="34920"/>
              <a:chExt cx="9316080" cy="825480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188280"/>
                <a:ext cx="9316080" cy="8101440"/>
                <a:chOff x="0" y="188280"/>
                <a:chExt cx="9316080" cy="810144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108900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210024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315216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416448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521424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622584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72781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82897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86160" y="188280"/>
                  <a:ext cx="2558880" cy="8100720"/>
                  <a:chOff x="686160" y="188280"/>
                  <a:chExt cx="2558880" cy="81007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86160" y="188280"/>
                    <a:ext cx="1384920" cy="1911600"/>
                    <a:chOff x="686160" y="188280"/>
                    <a:chExt cx="1384920" cy="191160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8616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9788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9788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8616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6572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517400" y="1088640"/>
                      <a:ext cx="553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517400" y="2099880"/>
                      <a:ext cx="553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6572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57880" y="2251800"/>
                    <a:ext cx="2387160" cy="1911960"/>
                    <a:chOff x="857880" y="2251800"/>
                    <a:chExt cx="2387160" cy="19119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5788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8548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8548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5788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9396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9032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9032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9396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57880" y="4313520"/>
                    <a:ext cx="2387160" cy="1911960"/>
                    <a:chOff x="857880" y="4313520"/>
                    <a:chExt cx="2387160" cy="19119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5788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8548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8548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5788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9396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9032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9032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9396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57880" y="6377040"/>
                    <a:ext cx="2387160" cy="1911960"/>
                    <a:chOff x="857880" y="6377040"/>
                    <a:chExt cx="2387160" cy="19119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5788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8548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8548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5788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9396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9032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9032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9396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203920" y="188280"/>
                  <a:ext cx="2558520" cy="8100720"/>
                  <a:chOff x="2203920" y="188280"/>
                  <a:chExt cx="2558520" cy="81007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203920" y="188280"/>
                    <a:ext cx="1385280" cy="1911600"/>
                    <a:chOff x="2203920" y="188280"/>
                    <a:chExt cx="1385280" cy="191160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20392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91600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91600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20392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8348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303516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303516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8348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75640" y="2251800"/>
                    <a:ext cx="2386800" cy="1911960"/>
                    <a:chOff x="2375640" y="2251800"/>
                    <a:chExt cx="2386800" cy="19119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7564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60324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60324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7564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51172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80772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80772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51172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75640" y="4313520"/>
                    <a:ext cx="2386800" cy="1911960"/>
                    <a:chOff x="2375640" y="4313520"/>
                    <a:chExt cx="2386800" cy="19119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7564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60324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60324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7564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51172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80772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80772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51172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75640" y="6377040"/>
                    <a:ext cx="2386800" cy="1911960"/>
                    <a:chOff x="2375640" y="6377040"/>
                    <a:chExt cx="2386800" cy="19119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7564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60324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60324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7564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51172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80772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80772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51172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722040" y="188280"/>
                  <a:ext cx="2558520" cy="8100720"/>
                  <a:chOff x="3722040" y="188280"/>
                  <a:chExt cx="2558520" cy="81007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722040" y="188280"/>
                    <a:ext cx="1385280" cy="1911600"/>
                    <a:chOff x="3722040" y="188280"/>
                    <a:chExt cx="1385280" cy="191160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72204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43376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43376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72204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80160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55328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55328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80160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93760" y="2251800"/>
                    <a:ext cx="2386800" cy="1911960"/>
                    <a:chOff x="3893760" y="2251800"/>
                    <a:chExt cx="2386800" cy="19119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9376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12136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12136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9376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402984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32584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32584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402984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93760" y="4313520"/>
                    <a:ext cx="2386800" cy="1911960"/>
                    <a:chOff x="3893760" y="4313520"/>
                    <a:chExt cx="2386800" cy="19119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9376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12136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12136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9376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402984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32584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32584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402984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93760" y="6377040"/>
                    <a:ext cx="2386800" cy="1911960"/>
                    <a:chOff x="3893760" y="6377040"/>
                    <a:chExt cx="2386800" cy="19119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9376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12136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12136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9376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402984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32584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32584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402984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239800" y="188280"/>
                  <a:ext cx="2558880" cy="8100720"/>
                  <a:chOff x="5239800" y="188280"/>
                  <a:chExt cx="2558880" cy="81007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239800" y="188280"/>
                    <a:ext cx="1384920" cy="1911600"/>
                    <a:chOff x="5239800" y="188280"/>
                    <a:chExt cx="1384920" cy="191160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23980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95152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95152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23980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319360" y="1088640"/>
                      <a:ext cx="553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607068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607068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319360" y="2099880"/>
                      <a:ext cx="553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411520" y="2251800"/>
                    <a:ext cx="2387160" cy="1911960"/>
                    <a:chOff x="5411520" y="2251800"/>
                    <a:chExt cx="2387160" cy="19119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41152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63912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63912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41152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54760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84396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84396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54760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411520" y="4313520"/>
                    <a:ext cx="2387160" cy="1911960"/>
                    <a:chOff x="5411520" y="4313520"/>
                    <a:chExt cx="2387160" cy="19119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41152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63912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63912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41152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54760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84396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84396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54760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411520" y="6377040"/>
                    <a:ext cx="2387160" cy="1911960"/>
                    <a:chOff x="5411520" y="6377040"/>
                    <a:chExt cx="2387160" cy="19119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41152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63912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63912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41152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54760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84396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84396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54760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757560" y="188280"/>
                  <a:ext cx="2558520" cy="8100720"/>
                  <a:chOff x="6757560" y="188280"/>
                  <a:chExt cx="2558520" cy="81007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757560" y="188280"/>
                    <a:ext cx="1385280" cy="1911600"/>
                    <a:chOff x="6757560" y="188280"/>
                    <a:chExt cx="1385280" cy="191160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75756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46964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46964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75756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83712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58880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58880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83712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929280" y="2251800"/>
                    <a:ext cx="2386800" cy="1911960"/>
                    <a:chOff x="6929280" y="2251800"/>
                    <a:chExt cx="2386800" cy="19119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92928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815688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815688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92928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706536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36136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36136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706536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929280" y="4313520"/>
                    <a:ext cx="2386800" cy="1911960"/>
                    <a:chOff x="6929280" y="4313520"/>
                    <a:chExt cx="2386800" cy="19119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92928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815688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815688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92928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706536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36136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36136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706536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929280" y="6377040"/>
                    <a:ext cx="2386800" cy="1911960"/>
                    <a:chOff x="6929280" y="6377040"/>
                    <a:chExt cx="2386800" cy="19119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92928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815688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815688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92928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706536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36136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36136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706536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34920"/>
                <a:ext cx="8142840" cy="0"/>
                <a:chOff x="3960" y="34920"/>
                <a:chExt cx="814284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6968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52172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87800" y="34920"/>
                  <a:ext cx="553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303912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80520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55724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32332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6075000" y="34920"/>
                  <a:ext cx="553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84072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59276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77360" y="2320920"/>
              <a:ext cx="7230240" cy="2131200"/>
              <a:chOff x="477360" y="2320920"/>
              <a:chExt cx="7230240" cy="213120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4092480" y="2320920"/>
                <a:ext cx="3615120" cy="1065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4092480" y="3386520"/>
                <a:ext cx="3615120" cy="106560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77360" y="3386520"/>
                <a:ext cx="3615120" cy="10656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77360" y="2320920"/>
                <a:ext cx="3615120" cy="106560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613440" y="2514240"/>
                <a:ext cx="6957720" cy="17442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72880" y="8526600"/>
              <a:ext cx="7571160" cy="94320"/>
              <a:chOff x="272880" y="8526600"/>
              <a:chExt cx="7571160" cy="943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72880" y="8526600"/>
                <a:ext cx="886320" cy="94320"/>
                <a:chOff x="272880" y="8526600"/>
                <a:chExt cx="886320" cy="943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716040" y="8526600"/>
                  <a:ext cx="443160" cy="943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72880" y="8526600"/>
                  <a:ext cx="443160" cy="943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227600" y="8526600"/>
                <a:ext cx="886320" cy="94320"/>
                <a:chOff x="1227600" y="8526600"/>
                <a:chExt cx="886320" cy="943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70760" y="8526600"/>
                  <a:ext cx="443160" cy="943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227600" y="8526600"/>
                  <a:ext cx="443160" cy="943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82680" y="8526600"/>
                <a:ext cx="886320" cy="94320"/>
                <a:chOff x="2182680" y="8526600"/>
                <a:chExt cx="886320" cy="943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625840" y="8526600"/>
                  <a:ext cx="443160" cy="943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82680" y="8526600"/>
                  <a:ext cx="443160" cy="943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137760" y="8526600"/>
                <a:ext cx="886320" cy="94320"/>
                <a:chOff x="3137760" y="8526600"/>
                <a:chExt cx="886320" cy="943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580920" y="8526600"/>
                  <a:ext cx="443160" cy="943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137760" y="8526600"/>
                  <a:ext cx="443160" cy="943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4092480" y="8526600"/>
                <a:ext cx="886320" cy="94320"/>
                <a:chOff x="4092480" y="8526600"/>
                <a:chExt cx="886320" cy="943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535640" y="8526600"/>
                  <a:ext cx="443160" cy="943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4092480" y="8526600"/>
                  <a:ext cx="443160" cy="943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5047560" y="8526600"/>
                <a:ext cx="886320" cy="94320"/>
                <a:chOff x="5047560" y="8526600"/>
                <a:chExt cx="886320" cy="943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490720" y="8526600"/>
                  <a:ext cx="443160" cy="943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5047560" y="8526600"/>
                  <a:ext cx="443160" cy="943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6002640" y="8526600"/>
                <a:ext cx="886320" cy="94320"/>
                <a:chOff x="6002640" y="8526600"/>
                <a:chExt cx="886320" cy="943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445800" y="8526600"/>
                  <a:ext cx="443160" cy="943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6002640" y="8526600"/>
                  <a:ext cx="443160" cy="943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957720" y="8526600"/>
                <a:ext cx="886320" cy="94320"/>
                <a:chOff x="6957720" y="8526600"/>
                <a:chExt cx="886320" cy="943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400880" y="8526600"/>
                  <a:ext cx="443160" cy="943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957720" y="8526600"/>
                  <a:ext cx="443160" cy="943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7" name="Picture 246" descr="posbul1a"/>
          <p:cNvPicPr/>
          <p:nvPr/>
        </p:nvPicPr>
        <p:blipFill>
          <a:blip r:embed="rId2"/>
          <a:stretch/>
        </p:blipFill>
        <p:spPr>
          <a:xfrm>
            <a:off x="4572000" y="42670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53A3-897C-4797-B496-7419DB59E12A}" type="slidenum">
              <a:rPr b="0" lang="en-CA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404176"/>
                </a:solidFill>
                <a:latin typeface="Arial"/>
              </a:rPr>
              <a:t>Returns and stylized facts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stationary time ser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54" name="Picture 4" descr="bet preturi"/>
          <p:cNvPicPr/>
          <p:nvPr/>
        </p:nvPicPr>
        <p:blipFill>
          <a:blip r:embed="rId1"/>
          <a:stretch/>
        </p:blipFill>
        <p:spPr>
          <a:xfrm>
            <a:off x="1332000" y="1628640"/>
            <a:ext cx="6408720" cy="48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ationary time ser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56" name="Picture 4" descr="bet returns"/>
          <p:cNvPicPr/>
          <p:nvPr/>
        </p:nvPicPr>
        <p:blipFill>
          <a:blip r:embed="rId1"/>
          <a:stretch/>
        </p:blipFill>
        <p:spPr>
          <a:xfrm>
            <a:off x="1258920" y="155736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daily geometric or “log” return on an asset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8383ad"/>
                </a:solidFill>
                <a:latin typeface="Arial"/>
              </a:rPr>
              <a:t>ln(x)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~ </a:t>
            </a:r>
            <a:r>
              <a:rPr b="1" lang="ro-RO" sz="2800" spc="-1" strike="noStrike">
                <a:solidFill>
                  <a:srgbClr val="8383ad"/>
                </a:solidFill>
                <a:latin typeface="Arial"/>
              </a:rPr>
              <a:t>x – 1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when x~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2484360" y="2421000"/>
                <a:ext cx="4465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2771640" y="3500280"/>
                <a:ext cx="3816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4"/>
              <p:cNvSpPr txBox="1"/>
              <p:nvPr/>
            </p:nvSpPr>
            <p:spPr>
              <a:xfrm>
                <a:off x="755640" y="5229360"/>
                <a:ext cx="7561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One advantag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he log return is that we can easily calculate the compounded return at the K-day horizon simply as the sum of the daily retur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Second advantag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: Regular returns are bounded by </a:t>
            </a:r>
            <a:r>
              <a:rPr b="0" lang="ro-RO" sz="2800" spc="-1" strike="noStrike">
                <a:solidFill>
                  <a:srgbClr val="8383ad"/>
                </a:solidFill>
                <a:latin typeface="Arial"/>
              </a:rPr>
              <a:t>-1 (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e cannot lose more than what we invested</a:t>
            </a:r>
            <a:r>
              <a:rPr b="0" lang="ro-RO" sz="28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2"/>
              <p:cNvSpPr txBox="1"/>
              <p:nvPr/>
            </p:nvSpPr>
            <p:spPr>
              <a:xfrm>
                <a:off x="539640" y="3645000"/>
                <a:ext cx="8064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stributions of daily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468" name="Group 13"/>
          <p:cNvGrpSpPr/>
          <p:nvPr/>
        </p:nvGrpSpPr>
        <p:grpSpPr>
          <a:xfrm>
            <a:off x="1332000" y="2133720"/>
            <a:ext cx="6118920" cy="3387240"/>
            <a:chOff x="1332000" y="2133720"/>
            <a:chExt cx="6118920" cy="3387240"/>
          </a:xfrm>
        </p:grpSpPr>
        <p:pic>
          <p:nvPicPr>
            <p:cNvPr id="469" name="Picture 4" descr=""/>
            <p:cNvPicPr/>
            <p:nvPr/>
          </p:nvPicPr>
          <p:blipFill>
            <a:blip r:embed="rId1"/>
            <a:stretch/>
          </p:blipFill>
          <p:spPr>
            <a:xfrm>
              <a:off x="1332000" y="2488680"/>
              <a:ext cx="764280" cy="28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6" descr=""/>
            <p:cNvPicPr/>
            <p:nvPr/>
          </p:nvPicPr>
          <p:blipFill>
            <a:blip r:embed="rId2"/>
            <a:stretch/>
          </p:blipFill>
          <p:spPr>
            <a:xfrm>
              <a:off x="2775960" y="2310120"/>
              <a:ext cx="611640" cy="31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7" descr=""/>
            <p:cNvPicPr/>
            <p:nvPr/>
          </p:nvPicPr>
          <p:blipFill>
            <a:blip r:embed="rId3"/>
            <a:stretch/>
          </p:blipFill>
          <p:spPr>
            <a:xfrm>
              <a:off x="4125240" y="2579040"/>
              <a:ext cx="1223280" cy="25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8" descr=""/>
            <p:cNvPicPr/>
            <p:nvPr/>
          </p:nvPicPr>
          <p:blipFill>
            <a:blip r:embed="rId4"/>
            <a:stretch/>
          </p:blipFill>
          <p:spPr>
            <a:xfrm>
              <a:off x="5956200" y="2133720"/>
              <a:ext cx="1070280" cy="33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9"/>
            <p:cNvSpPr/>
            <p:nvPr/>
          </p:nvSpPr>
          <p:spPr>
            <a:xfrm>
              <a:off x="1620360" y="2488680"/>
              <a:ext cx="91728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176"/>
                  </a:solidFill>
                  <a:latin typeface="Arial"/>
                </a:rPr>
                <a:t>Day</a:t>
              </a:r>
              <a:r>
                <a:rPr b="0" lang="ro-RO" sz="1200" spc="-1" strike="noStrike">
                  <a:solidFill>
                    <a:srgbClr val="404176"/>
                  </a:solidFill>
                  <a:latin typeface="Arial"/>
                </a:rPr>
                <a:t> 1</a:t>
              </a:r>
              <a:endParaRPr b="0" lang="en-US" sz="12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74" name="Text Box 10"/>
            <p:cNvSpPr/>
            <p:nvPr/>
          </p:nvSpPr>
          <p:spPr>
            <a:xfrm>
              <a:off x="2969640" y="2310120"/>
              <a:ext cx="91728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176"/>
                  </a:solidFill>
                  <a:latin typeface="Arial"/>
                </a:rPr>
                <a:t>Day</a:t>
              </a:r>
              <a:r>
                <a:rPr b="0" lang="ro-RO" sz="1200" spc="-1" strike="noStrike">
                  <a:solidFill>
                    <a:srgbClr val="404176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75" name="Text Box 11"/>
            <p:cNvSpPr/>
            <p:nvPr/>
          </p:nvSpPr>
          <p:spPr>
            <a:xfrm>
              <a:off x="4511520" y="2488680"/>
              <a:ext cx="91728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176"/>
                  </a:solidFill>
                  <a:latin typeface="Arial"/>
                </a:rPr>
                <a:t>Day</a:t>
              </a:r>
              <a:r>
                <a:rPr b="0" lang="ro-RO" sz="1200" spc="-1" strike="noStrike">
                  <a:solidFill>
                    <a:srgbClr val="404176"/>
                  </a:solidFill>
                  <a:latin typeface="Arial"/>
                </a:rPr>
                <a:t> 3</a:t>
              </a:r>
              <a:endParaRPr b="0" lang="en-US" sz="12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6533640" y="2133720"/>
              <a:ext cx="91728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176"/>
                  </a:solidFill>
                  <a:latin typeface="Arial"/>
                </a:rPr>
                <a:t>Day</a:t>
              </a:r>
              <a:r>
                <a:rPr b="0" lang="ro-RO" sz="1200" spc="-1" strike="noStrike">
                  <a:solidFill>
                    <a:srgbClr val="404176"/>
                  </a:solidFill>
                  <a:latin typeface="Arial"/>
                </a:rPr>
                <a:t> 4</a:t>
              </a:r>
              <a:endParaRPr b="0" lang="en-US" sz="1200" spc="-1" strike="noStrike">
                <a:solidFill>
                  <a:srgbClr val="404176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ditional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478" name="Group 4"/>
          <p:cNvGrpSpPr/>
          <p:nvPr/>
        </p:nvGrpSpPr>
        <p:grpSpPr>
          <a:xfrm>
            <a:off x="395280" y="1700280"/>
            <a:ext cx="8424720" cy="4389480"/>
            <a:chOff x="395280" y="1700280"/>
            <a:chExt cx="8424720" cy="4389480"/>
          </a:xfrm>
        </p:grpSpPr>
        <p:sp>
          <p:nvSpPr>
            <p:cNvPr id="479" name="AutoShape 5"/>
            <p:cNvSpPr/>
            <p:nvPr/>
          </p:nvSpPr>
          <p:spPr>
            <a:xfrm>
              <a:off x="395280" y="1700280"/>
              <a:ext cx="842472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921960" y="3982320"/>
              <a:ext cx="70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1" name="Line 7"/>
            <p:cNvSpPr/>
            <p:nvPr/>
          </p:nvSpPr>
          <p:spPr>
            <a:xfrm>
              <a:off x="1448280" y="3806280"/>
              <a:ext cx="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2" name="Line 8"/>
            <p:cNvSpPr/>
            <p:nvPr/>
          </p:nvSpPr>
          <p:spPr>
            <a:xfrm>
              <a:off x="215028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3" name="Line 9"/>
            <p:cNvSpPr/>
            <p:nvPr/>
          </p:nvSpPr>
          <p:spPr>
            <a:xfrm>
              <a:off x="285264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4" name="Line 10"/>
            <p:cNvSpPr/>
            <p:nvPr/>
          </p:nvSpPr>
          <p:spPr>
            <a:xfrm>
              <a:off x="355464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5" name="Line 11"/>
            <p:cNvSpPr/>
            <p:nvPr/>
          </p:nvSpPr>
          <p:spPr>
            <a:xfrm>
              <a:off x="4256280" y="3806280"/>
              <a:ext cx="108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6" name="Line 12"/>
            <p:cNvSpPr/>
            <p:nvPr/>
          </p:nvSpPr>
          <p:spPr>
            <a:xfrm>
              <a:off x="4958640" y="3806280"/>
              <a:ext cx="108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7" name="Line 13"/>
            <p:cNvSpPr/>
            <p:nvPr/>
          </p:nvSpPr>
          <p:spPr>
            <a:xfrm>
              <a:off x="5660640" y="3806280"/>
              <a:ext cx="108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8" name="Line 14"/>
            <p:cNvSpPr/>
            <p:nvPr/>
          </p:nvSpPr>
          <p:spPr>
            <a:xfrm>
              <a:off x="636264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9" name="Line 15"/>
            <p:cNvSpPr/>
            <p:nvPr/>
          </p:nvSpPr>
          <p:spPr>
            <a:xfrm>
              <a:off x="706500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0" name="Line 16"/>
            <p:cNvSpPr/>
            <p:nvPr/>
          </p:nvSpPr>
          <p:spPr>
            <a:xfrm>
              <a:off x="776700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09728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>
              <a:off x="1799280" y="3456000"/>
              <a:ext cx="877320" cy="17388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040 h 173880"/>
                <a:gd name="textAreaBottom" fmla="*/ 1508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>
              <a:off x="250128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4" name="AutoShape 20"/>
            <p:cNvSpPr/>
            <p:nvPr/>
          </p:nvSpPr>
          <p:spPr>
            <a:xfrm>
              <a:off x="3203640" y="3456000"/>
              <a:ext cx="877320" cy="17388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040 h 173880"/>
                <a:gd name="textAreaBottom" fmla="*/ 1508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5" name="AutoShape 21"/>
            <p:cNvSpPr/>
            <p:nvPr/>
          </p:nvSpPr>
          <p:spPr>
            <a:xfrm>
              <a:off x="390564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6" name="AutoShape 22"/>
            <p:cNvSpPr/>
            <p:nvPr/>
          </p:nvSpPr>
          <p:spPr>
            <a:xfrm>
              <a:off x="4607640" y="3456000"/>
              <a:ext cx="877680" cy="173880"/>
            </a:xfrm>
            <a:custGeom>
              <a:avLst/>
              <a:gdLst>
                <a:gd name="textAreaLeft" fmla="*/ 153360 w 877680"/>
                <a:gd name="textAreaRight" fmla="*/ 636480 w 877680"/>
                <a:gd name="textAreaTop" fmla="*/ 23040 h 173880"/>
                <a:gd name="textAreaBottom" fmla="*/ 1508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7" name="AutoShape 23"/>
            <p:cNvSpPr/>
            <p:nvPr/>
          </p:nvSpPr>
          <p:spPr>
            <a:xfrm>
              <a:off x="530964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8" name="AutoShape 24"/>
            <p:cNvSpPr/>
            <p:nvPr/>
          </p:nvSpPr>
          <p:spPr>
            <a:xfrm>
              <a:off x="6011640" y="3456000"/>
              <a:ext cx="877320" cy="17388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040 h 173880"/>
                <a:gd name="textAreaBottom" fmla="*/ 1508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9" name="AutoShape 25"/>
            <p:cNvSpPr/>
            <p:nvPr/>
          </p:nvSpPr>
          <p:spPr>
            <a:xfrm>
              <a:off x="671400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0" name="AutoShape 26"/>
            <p:cNvSpPr/>
            <p:nvPr/>
          </p:nvSpPr>
          <p:spPr>
            <a:xfrm>
              <a:off x="5426640" y="2051640"/>
              <a:ext cx="1404000" cy="935280"/>
            </a:xfrm>
            <a:prstGeom prst="borderCallout2">
              <a:avLst>
                <a:gd name="adj1" fmla="val 18750"/>
                <a:gd name="adj2" fmla="val -8333"/>
                <a:gd name="adj3" fmla="val 18768"/>
                <a:gd name="adj4" fmla="val -37847"/>
                <a:gd name="adj5" fmla="val 103023"/>
                <a:gd name="adj6" fmla="val -67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404176"/>
                  </a:solidFill>
                  <a:latin typeface="Arial"/>
                </a:rPr>
                <a:t>R</a:t>
              </a:r>
              <a:r>
                <a:rPr b="0" lang="ro-RO" sz="1600" spc="-1" strike="noStrike" baseline="-25000">
                  <a:solidFill>
                    <a:srgbClr val="404176"/>
                  </a:solidFill>
                  <a:latin typeface="Arial"/>
                </a:rPr>
                <a:t>t+1</a:t>
              </a:r>
              <a:r>
                <a:rPr b="0" lang="ro-RO" sz="1600" spc="-1" strike="noStrike">
                  <a:solidFill>
                    <a:srgbClr val="404176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is conditional on</a:t>
              </a:r>
              <a:r>
                <a:rPr b="0" lang="ro-RO" sz="1600" spc="-1" strike="noStrike">
                  <a:solidFill>
                    <a:srgbClr val="404176"/>
                  </a:solidFill>
                  <a:latin typeface="Times New Roman"/>
                </a:rPr>
                <a:t> R</a:t>
              </a:r>
              <a:r>
                <a:rPr b="0" lang="ro-RO" sz="1600" spc="-1" strike="noStrike" baseline="-25000">
                  <a:solidFill>
                    <a:srgbClr val="40417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1" name="AutoShape 27"/>
            <p:cNvSpPr/>
            <p:nvPr/>
          </p:nvSpPr>
          <p:spPr>
            <a:xfrm rot="16200000">
              <a:off x="4343760" y="208800"/>
              <a:ext cx="176400" cy="5967360"/>
            </a:xfrm>
            <a:custGeom>
              <a:avLst/>
              <a:gdLst>
                <a:gd name="textAreaLeft" fmla="*/ 0 w 176400"/>
                <a:gd name="textAreaRight" fmla="*/ 63720 w 176400"/>
                <a:gd name="textAreaTop" fmla="*/ 155520 h 5967360"/>
                <a:gd name="textAreaBottom" fmla="*/ 5811840 h 596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2" name="AutoShape 28"/>
            <p:cNvSpPr/>
            <p:nvPr/>
          </p:nvSpPr>
          <p:spPr>
            <a:xfrm rot="16200000">
              <a:off x="3818880" y="1437120"/>
              <a:ext cx="261360" cy="605520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57680 h 6055200"/>
                <a:gd name="textAreaBottom" fmla="*/ 5897520 h 605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3" name="AutoShape 29"/>
            <p:cNvSpPr/>
            <p:nvPr/>
          </p:nvSpPr>
          <p:spPr>
            <a:xfrm rot="16200000">
              <a:off x="4696200" y="1787760"/>
              <a:ext cx="261360" cy="605520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57680 h 6055200"/>
                <a:gd name="textAreaBottom" fmla="*/ 5897520 h 605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4" name="AutoShape 30"/>
            <p:cNvSpPr/>
            <p:nvPr/>
          </p:nvSpPr>
          <p:spPr>
            <a:xfrm>
              <a:off x="5660640" y="5036040"/>
              <a:ext cx="1579320" cy="703080"/>
            </a:xfrm>
            <a:prstGeom prst="borderCallout2">
              <a:avLst>
                <a:gd name="adj1" fmla="val 18750"/>
                <a:gd name="adj2" fmla="val -8333"/>
                <a:gd name="adj3" fmla="val 24967"/>
                <a:gd name="adj4" fmla="val -29013"/>
                <a:gd name="adj5" fmla="val -8458"/>
                <a:gd name="adj6" fmla="val -509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Realizations of </a:t>
              </a:r>
              <a:r>
                <a:rPr b="0" lang="ro-RO" sz="1600" spc="-1" strike="noStrike">
                  <a:solidFill>
                    <a:srgbClr val="404176"/>
                  </a:solidFill>
                  <a:latin typeface="Times New Roman"/>
                </a:rPr>
                <a:t> R</a:t>
              </a:r>
              <a:r>
                <a:rPr b="0" lang="ro-RO" sz="1600" spc="-1" strike="noStrike" baseline="-25000">
                  <a:solidFill>
                    <a:srgbClr val="404176"/>
                  </a:solidFill>
                  <a:latin typeface="Arial"/>
                </a:rPr>
                <a:t>t+1</a:t>
              </a:r>
              <a:endParaRPr b="0" lang="en-US" sz="16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5" name="AutoShape 31"/>
            <p:cNvSpPr/>
            <p:nvPr/>
          </p:nvSpPr>
          <p:spPr>
            <a:xfrm>
              <a:off x="1506960" y="5036040"/>
              <a:ext cx="1520640" cy="702000"/>
            </a:xfrm>
            <a:prstGeom prst="borderCallout2">
              <a:avLst>
                <a:gd name="adj1" fmla="val 18750"/>
                <a:gd name="adj2" fmla="val -8333"/>
                <a:gd name="adj3" fmla="val 25000"/>
                <a:gd name="adj4" fmla="val 132500"/>
                <a:gd name="adj5" fmla="val -50000"/>
                <a:gd name="adj6" fmla="val 1576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Realizations of </a:t>
              </a:r>
              <a:r>
                <a:rPr b="0" lang="ro-RO" sz="1600" spc="-1" strike="noStrike">
                  <a:solidFill>
                    <a:srgbClr val="404176"/>
                  </a:solidFill>
                  <a:latin typeface="Times New Roman"/>
                </a:rPr>
                <a:t> R</a:t>
              </a:r>
              <a:r>
                <a:rPr b="0" lang="ro-RO" sz="1600" spc="-1" strike="noStrike" baseline="-25000">
                  <a:solidFill>
                    <a:srgbClr val="40417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404176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aily returns have very little autocorrelation. We can wri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t means that returns are almost impossible to predict from their own past. We will take this as evidence that the conditional mean is roughly constant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unconditional distribution of daily returns has fatter tails than the normal distrib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2"/>
              <p:cNvSpPr txBox="1"/>
              <p:nvPr/>
            </p:nvSpPr>
            <p:spPr>
              <a:xfrm>
                <a:off x="1908000" y="2997360"/>
                <a:ext cx="583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for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, 2, 3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, 1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utocorrelation Function for Raw Return Series – BET-C 2002-2005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0" name="Picture 4" descr="ACF bet returns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16000" y="1700280"/>
            <a:ext cx="655164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at tails – BET 2003-2004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780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stock market exhibits occasional, very large drops but not equally large up-moves. It is asymmetric, or negatively skewed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standard deviation of returns completely dominates the mean of returns at short horizons such as daily. It is not possible to reject a zero mean retur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riance, measured for example by squared returns, displays positive correlation with its own past. This is most evident at short horizons such as daily or weekly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se available information to say something about future retur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utocorrelation Function of the Squared Returns </a:t>
            </a: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ET-C 2002-2005</a:t>
            </a: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6" name="Picture 4" descr="ACF bet squared returns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58920" y="1844640"/>
            <a:ext cx="648180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quity and equity indices display negative correlation between variance and returns. This is often termed the leverage effect, arising from the fact that a drop in a stock price will increase the leverage of the firm as long as debt stays constant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rrelation between assets appears to be time varying. Correlation appears to increase in highly volatile down markets and extremely so during market crashes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ased on these facts our model of individual asset returns will take the generic form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116000" y="3429000"/>
                <a:ext cx="7488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with 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755640" y="2924280"/>
            <a:ext cx="1366920" cy="10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404176"/>
                </a:solidFill>
                <a:latin typeface="Arial"/>
              </a:rPr>
              <a:t>Frequencies – moments comput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Lotte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3003480" y="4616280"/>
                <a:ext cx="1855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3522600" y="5516640"/>
                <a:ext cx="3178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94" name="Group 7"/>
          <p:cNvGrpSpPr/>
          <p:nvPr/>
        </p:nvGrpSpPr>
        <p:grpSpPr>
          <a:xfrm>
            <a:off x="3708360" y="1413000"/>
            <a:ext cx="2089080" cy="2853360"/>
            <a:chOff x="3708360" y="1413000"/>
            <a:chExt cx="2089080" cy="2853360"/>
          </a:xfrm>
        </p:grpSpPr>
        <p:grpSp>
          <p:nvGrpSpPr>
            <p:cNvPr id="395" name="Group 8"/>
            <p:cNvGrpSpPr/>
            <p:nvPr/>
          </p:nvGrpSpPr>
          <p:grpSpPr>
            <a:xfrm>
              <a:off x="3708360" y="1628640"/>
              <a:ext cx="1439640" cy="2446920"/>
              <a:chOff x="3708360" y="1628640"/>
              <a:chExt cx="1439640" cy="2446920"/>
            </a:xfrm>
          </p:grpSpPr>
          <p:sp>
            <p:nvSpPr>
              <p:cNvPr id="396" name="Line 9"/>
              <p:cNvSpPr/>
              <p:nvPr/>
            </p:nvSpPr>
            <p:spPr>
              <a:xfrm flipV="1">
                <a:off x="3708360" y="1628640"/>
                <a:ext cx="1439640" cy="11772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97" name="Line 10"/>
              <p:cNvSpPr/>
              <p:nvPr/>
            </p:nvSpPr>
            <p:spPr>
              <a:xfrm flipV="1">
                <a:off x="3708360" y="2262240"/>
                <a:ext cx="1293480" cy="543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98" name="Line 11"/>
              <p:cNvSpPr/>
              <p:nvPr/>
            </p:nvSpPr>
            <p:spPr>
              <a:xfrm>
                <a:off x="3708360" y="2805840"/>
                <a:ext cx="1293480" cy="63612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99" name="Line 12"/>
              <p:cNvSpPr/>
              <p:nvPr/>
            </p:nvSpPr>
            <p:spPr>
              <a:xfrm>
                <a:off x="3708360" y="2805840"/>
                <a:ext cx="1293480" cy="126972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400" name="Line 13"/>
              <p:cNvSpPr/>
              <p:nvPr/>
            </p:nvSpPr>
            <p:spPr>
              <a:xfrm>
                <a:off x="5001840" y="2444040"/>
                <a:ext cx="0" cy="725760"/>
              </a:xfrm>
              <a:prstGeom prst="line">
                <a:avLst/>
              </a:prstGeom>
              <a:ln w="76320">
                <a:solidFill>
                  <a:srgbClr val="8383a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</p:grpSp>
        <p:sp>
          <p:nvSpPr>
            <p:cNvPr id="401" name="Text Box 14"/>
            <p:cNvSpPr/>
            <p:nvPr/>
          </p:nvSpPr>
          <p:spPr>
            <a:xfrm>
              <a:off x="5148360" y="141300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R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5076720" y="2060640"/>
              <a:ext cx="50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R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5076720" y="328428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R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n-1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4" name="Text Box 17"/>
            <p:cNvSpPr/>
            <p:nvPr/>
          </p:nvSpPr>
          <p:spPr>
            <a:xfrm>
              <a:off x="5076720" y="386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R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5" name="Text Box 18"/>
            <p:cNvSpPr/>
            <p:nvPr/>
          </p:nvSpPr>
          <p:spPr>
            <a:xfrm>
              <a:off x="4140360" y="1700280"/>
              <a:ext cx="57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p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6" name="Text Box 19"/>
            <p:cNvSpPr/>
            <p:nvPr/>
          </p:nvSpPr>
          <p:spPr>
            <a:xfrm>
              <a:off x="4284720" y="2421000"/>
              <a:ext cx="57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p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7" name="Text Box 20"/>
            <p:cNvSpPr/>
            <p:nvPr/>
          </p:nvSpPr>
          <p:spPr>
            <a:xfrm>
              <a:off x="4284720" y="2852640"/>
              <a:ext cx="57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P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n-1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8" name="Text Box 21"/>
            <p:cNvSpPr/>
            <p:nvPr/>
          </p:nvSpPr>
          <p:spPr>
            <a:xfrm>
              <a:off x="4068720" y="342900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p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</p:grpSp>
      <p:sp>
        <p:nvSpPr>
          <p:cNvPr id="409" name="Line 22"/>
          <p:cNvSpPr/>
          <p:nvPr/>
        </p:nvSpPr>
        <p:spPr>
          <a:xfrm>
            <a:off x="2411280" y="4292640"/>
            <a:ext cx="44658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3780000" y="4221000"/>
            <a:ext cx="0" cy="21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5148360" y="4221000"/>
            <a:ext cx="0" cy="21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3348000" y="4365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Today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5003640" y="43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Tomorrow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Text Box 27"/>
          <p:cNvSpPr/>
          <p:nvPr/>
        </p:nvSpPr>
        <p:spPr>
          <a:xfrm>
            <a:off x="5940360" y="2133720"/>
            <a:ext cx="2879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R – random variable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R</a:t>
            </a:r>
            <a:r>
              <a:rPr b="0" lang="en-US" sz="1800" spc="-1" strike="noStrike" baseline="-25000">
                <a:solidFill>
                  <a:srgbClr val="8383ad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 - outcomes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8383ad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 – probabilities of the outcomes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755640" y="2924280"/>
                <a:ext cx="1368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04176"/>
                </a:solidFill>
                <a:latin typeface="Arial"/>
              </a:rPr>
              <a:t>Probability density fun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We have </a:t>
            </a:r>
            <a:r>
              <a:rPr b="1" lang="en-CA" sz="2800" spc="-1" strike="noStrike">
                <a:solidFill>
                  <a:srgbClr val="8383ad"/>
                </a:solidFill>
                <a:latin typeface="Arial"/>
              </a:rPr>
              <a:t>too many outcomes</a:t>
            </a: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 – not practical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Instead we will use the </a:t>
            </a: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continuous distrib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Standard Devi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2346480" y="3247920"/>
                <a:ext cx="32400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2779560" y="4471920"/>
                <a:ext cx="3529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4500720" y="5589720"/>
                <a:ext cx="21272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04176"/>
                </a:solidFill>
                <a:latin typeface="Arial"/>
              </a:rPr>
              <a:t>Probability density function (cont’d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Probability of future outcomes – intervals under the bell shaped cur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2808360" y="2924280"/>
            <a:ext cx="6335640" cy="29797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50920" y="3343320"/>
            <a:ext cx="4249800" cy="1165320"/>
          </a:xfrm>
          <a:prstGeom prst="rect">
            <a:avLst/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22200" y="3381480"/>
                <a:ext cx="41785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04176"/>
                </a:solidFill>
                <a:latin typeface="Arial"/>
              </a:rPr>
              <a:t>Standard Normal Distribu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2843280" y="5095800"/>
                <a:ext cx="1871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8" name="Text Box 4"/>
          <p:cNvSpPr/>
          <p:nvPr/>
        </p:nvSpPr>
        <p:spPr>
          <a:xfrm>
            <a:off x="4788000" y="5373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Using Standard Normal Tables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3583080" cy="2357280"/>
          </a:xfrm>
          <a:prstGeom prst="rect">
            <a:avLst/>
          </a:prstGeom>
          <a:ln w="0">
            <a:noFill/>
          </a:ln>
        </p:spPr>
      </p:pic>
      <p:sp>
        <p:nvSpPr>
          <p:cNvPr id="430" name="Line 6"/>
          <p:cNvSpPr/>
          <p:nvPr/>
        </p:nvSpPr>
        <p:spPr>
          <a:xfrm>
            <a:off x="1258920" y="3152880"/>
            <a:ext cx="3579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31" name="Picture 7" descr=""/>
          <p:cNvPicPr/>
          <p:nvPr/>
        </p:nvPicPr>
        <p:blipFill>
          <a:blip r:embed="rId2"/>
          <a:stretch/>
        </p:blipFill>
        <p:spPr>
          <a:xfrm>
            <a:off x="4838760" y="2009880"/>
            <a:ext cx="1101600" cy="2282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6581880" y="2997360"/>
                <a:ext cx="24969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z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AutoShape 9"/>
          <p:cNvSpPr/>
          <p:nvPr/>
        </p:nvSpPr>
        <p:spPr>
          <a:xfrm rot="16200000">
            <a:off x="2842200" y="2708640"/>
            <a:ext cx="360360" cy="3527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91800 h 3527280"/>
              <a:gd name="textAreaBottom" fmla="*/ 3435480 h 35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908000" y="45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ahoma"/>
              </a:rPr>
              <a:t>Past evolution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5" name="AutoShape 11"/>
          <p:cNvSpPr/>
          <p:nvPr/>
        </p:nvSpPr>
        <p:spPr>
          <a:xfrm rot="16200000">
            <a:off x="5255280" y="3896280"/>
            <a:ext cx="288720" cy="1081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4356000" y="45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ahoma"/>
              </a:rPr>
              <a:t>Future evolution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7" name="AutoShape 13"/>
          <p:cNvSpPr/>
          <p:nvPr/>
        </p:nvSpPr>
        <p:spPr>
          <a:xfrm>
            <a:off x="7095960" y="4322880"/>
            <a:ext cx="1436760" cy="977760"/>
          </a:xfrm>
          <a:prstGeom prst="borderCallout1">
            <a:avLst>
              <a:gd name="adj1" fmla="val 18750"/>
              <a:gd name="adj2" fmla="val -8333"/>
              <a:gd name="adj3" fmla="val -69319"/>
              <a:gd name="adj4" fmla="val -2033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383ad"/>
                </a:solidFill>
                <a:latin typeface="Tahoma"/>
              </a:rPr>
              <a:t>Normal</a:t>
            </a:r>
            <a:r>
              <a:rPr b="1" i="1" lang="en-US" sz="1800" spc="-1" strike="noStrike" u="sng">
                <a:solidFill>
                  <a:srgbClr val="8383ad"/>
                </a:solidFill>
                <a:uFillTx/>
                <a:latin typeface="Tahoma"/>
              </a:rPr>
              <a:t> </a:t>
            </a:r>
            <a:r>
              <a:rPr b="1" lang="en-US" sz="1800" spc="-1" strike="noStrike">
                <a:solidFill>
                  <a:srgbClr val="8383ad"/>
                </a:solidFill>
                <a:latin typeface="Tahoma"/>
              </a:rPr>
              <a:t>random variable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AutoShape 14"/>
          <p:cNvSpPr/>
          <p:nvPr/>
        </p:nvSpPr>
        <p:spPr>
          <a:xfrm>
            <a:off x="539640" y="5043600"/>
            <a:ext cx="1584360" cy="1338120"/>
          </a:xfrm>
          <a:prstGeom prst="borderCallout1">
            <a:avLst>
              <a:gd name="adj1" fmla="val 18750"/>
              <a:gd name="adj2" fmla="val -8333"/>
              <a:gd name="adj3" fmla="val 46143"/>
              <a:gd name="adj4" fmla="val 140879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383ad"/>
                </a:solidFill>
                <a:uFillTx/>
                <a:latin typeface="Tahoma"/>
              </a:rPr>
              <a:t>STANDARD </a:t>
            </a:r>
            <a:r>
              <a:rPr b="1" i="1" lang="en-US" sz="1800" spc="-1" strike="noStrike">
                <a:solidFill>
                  <a:srgbClr val="8383ad"/>
                </a:solidFill>
                <a:latin typeface="Tahoma"/>
              </a:rPr>
              <a:t>Normal </a:t>
            </a:r>
            <a:r>
              <a:rPr b="1" lang="en-US" sz="1800" spc="-1" strike="noStrike">
                <a:solidFill>
                  <a:srgbClr val="8383ad"/>
                </a:solidFill>
                <a:latin typeface="Tahoma"/>
              </a:rPr>
              <a:t>Random Variable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5148360" y="1989000"/>
            <a:ext cx="1871640" cy="64260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Probability Density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easuring Interest R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799308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e compounding frequency used for an interest rate is the unit of measure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e difference between quarterly and annual compounding is analogous to the difference between miles and kilomete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tinuous Compound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 the limit as we compound more and more frequently we obtain continuously compounded interest 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100 grows to $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100e</a:t>
            </a:r>
            <a:r>
              <a:rPr b="0" i="1" lang="en-US" sz="2800" spc="-1" strike="noStrike" baseline="30000">
                <a:solidFill>
                  <a:srgbClr val="8383ad"/>
                </a:solidFill>
                <a:latin typeface="Times New Roman"/>
              </a:rPr>
              <a:t>RT</a:t>
            </a:r>
            <a:r>
              <a:rPr b="0" lang="en-US" sz="2800" spc="-1" strike="noStrike" baseline="30000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hen invested at a continuously compounded rate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time 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100 received at time 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iscounts to $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100e</a:t>
            </a:r>
            <a:r>
              <a:rPr b="0" lang="en-US" sz="2800" spc="-1" strike="noStrike" baseline="30000">
                <a:solidFill>
                  <a:srgbClr val="8383ad"/>
                </a:solidFill>
                <a:latin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8383ad"/>
                </a:solidFill>
                <a:latin typeface="Times New Roman"/>
              </a:rPr>
              <a:t>RT</a:t>
            </a:r>
            <a:r>
              <a:rPr b="0" lang="en-US" sz="2800" spc="-1" strike="noStrike" baseline="30000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t time zero when the continuously compounded discount rate is 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version Formula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8383ad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continuously compounded rat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8383a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same rate with compounding </a:t>
            </a:r>
            <a:r>
              <a:rPr b="0" i="1" lang="en-US" sz="3200" spc="-1" strike="noStrike">
                <a:solidFill>
                  <a:srgbClr val="8383ad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imes per yea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2514600" y="4191120"/>
                <a:ext cx="365760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17:30:46Z</dcterms:created>
  <dc:creator>Py</dc:creator>
  <dc:description/>
  <dc:language>en-US</dc:language>
  <cp:lastModifiedBy>Fadi</cp:lastModifiedBy>
  <dcterms:modified xsi:type="dcterms:W3CDTF">2009-11-30T09:45:18Z</dcterms:modified>
  <cp:revision>96</cp:revision>
  <dc:subject/>
  <dc:title>PowerPoint Presentation</dc:title>
</cp:coreProperties>
</file>