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orge%20Arag%C3%A3o%20-%20Ave%20Maria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7B5-905B-408D-88DC-9F9C18D2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C2C-3ABD-416C-A91B-91FBCE61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1B3-8700-4385-843C-4BCF707E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913-5BFE-4DC7-A18E-C5966092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82BB-C1ED-4E8B-A0EA-080B02F0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8602-94E9-4179-AB95-5F11F06A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B2C6-0CFD-45AE-BF37-1B8D1B46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616B-DD17-4017-8A58-A7CB84F3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C778-4EF6-478F-B0B5-0F696F94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E24E-B7CA-4F04-974E-E9A361B5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582F-CFE7-46DE-AF49-27A4B5BD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BE6-9D31-4A73-AFEB-97C7887C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E109-C295-42A6-AB63-653C2401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3527-F2AD-4449-89B6-22448DF9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E5FA-E349-42FC-8527-2AE82B7B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DAB9-7BE9-42D4-943A-8B2FF613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DCA4-B515-48B0-893A-F1368028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52F-3E5B-459F-84F1-78F75C61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020-1823-49AF-957A-227C33CB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1B9-8C2C-44CC-8D2B-465D12EF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2D8-3D06-4DA9-8EB3-7A9BC7C7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BAE-1CCF-4BC8-96E6-48929E03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97E-BFFE-4FCC-99AB-1D59A50B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1CD-66BA-4575-8D70-12ABB86E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1467-9163-49F9-A482-9E211E98B70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6BB1-9F10-4844-89CC-30399FB9DB8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orge%20Arag&#227;o%20-%20Ave%20Mari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1268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3800"/>
            </a:br>
            <a:r>
              <a:rPr b="1" i="1" lang="en-US" sz="3800" spc="-1" strike="noStrike">
                <a:solidFill>
                  <a:srgbClr val="ccf20e"/>
                </a:solidFill>
                <a:latin typeface="Arial"/>
              </a:rPr>
              <a:t>        </a:t>
            </a:r>
            <a:br>
              <a:rPr sz="3800"/>
            </a:br>
            <a:r>
              <a:rPr b="1" i="1" lang="en-US" sz="3800" spc="-1" strike="noStrike">
                <a:solidFill>
                  <a:srgbClr val="ffffff"/>
                </a:solidFill>
                <a:latin typeface="Arial"/>
              </a:rPr>
              <a:t>7 de setembro, 17 horas!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967000"/>
            <a:ext cx="62643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O Brasil não tem povo, tem público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Lima Barre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518040"/>
            <a:ext cx="849780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ão podemos ser simple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pectador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provocar uma profunda e  radical  mudança na política, sem coloração partidá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impor o fim do cinismo descarado, da corrupção endêmica e do banditismo institucionaliz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mos de “saco cheio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ega de afro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 a lei de hoje puna (como puder) os canalhas que emporcalham e seviciam a nação. Mas isto não basta, a maioria dos que hoje acusam, foram os canalhas de ontem, ou serão os canalhas de amanhã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4560" y="474480"/>
            <a:ext cx="8569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Vamos iniciar um vigoroso movimento popular que produza uma verdadeira reforma político-administrativa, profunda, séria e radica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92280"/>
            <a:ext cx="8208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de uma reforma que afugente da vida pública a corja de escroques que se sugam o sangue da nação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99640" y="19162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 tudo continuará como sempre fo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4653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 impormos  mecanismos de punição implacável ao homem público que transgride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8480" y="3500280"/>
            <a:ext cx="67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911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4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6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106200"/>
            <a:ext cx="7777080" cy="70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reforma político-administrativa poderá instituir, dentre outras, as seguintes medid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mprov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ocumental rigorosa da idoneidade dos candidat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xtinção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 profunda restrição da imunidade parlament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de abertura do sigilo fiscal e bancári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e vereadores, prefeitos, deputados, senadores, ministros de estado, presidente da república, vice-presidente da república, partidos políticos, dirigentes de partidos políticos, diretores de entidades da administração direta e indireta, juízes e desembargado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ibição de contratação de parent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e afins de até o nível de 3º grau. E que a admissão de parentes ocorra apenas por concursos, onde o critério seja técnic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equ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ou mesmo a redução drástica de salários, benefícios e aposentadorias para ocupantes de cargos legislativos a nível municipal, estadual e fede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dução d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sadas agravantes na legislação penal, cível e tributári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para crimes cometidos pelos homens públ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 comprovada capacitação e experiência dos aspirantes a cargos de direção em entidades da administração direta e indire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156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13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76720" y="138240"/>
            <a:ext cx="39243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criarmos reais condições para que a esperança vença a descrença, pois, apenas assistimos  a este teatro como se não tivéssemos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pod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ara alterá-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205000"/>
            <a:ext cx="3851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agirmo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elos nossos filhos e netos e em respeito aos 50 milhões 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ste país, que vivem o martírio de uma vida de sofrimento desum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66360" y="5408640"/>
            <a:ext cx="37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50 </a:t>
            </a: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milhõ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260280"/>
            <a:ext cx="8425080" cy="78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o dia 7 DE SETEMBRO às 17:00 horas!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aralisar o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romover um panelaç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xija que as redes de televisão, rádios, jornais, revistas e o político de sua confiança divulguem este movi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obilize sua escola, seu sindicato, sua igreja, seus ami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icie agora esta corrente de ação n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mos atingir todos, de todas as camadas sociais, de todos os recantos deste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eta este e-mail para o máximo de pessoas e peça a elas que façam o me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765000"/>
            <a:ext cx="748836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189000"/>
            <a:ext cx="867564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 dia 7 de Setembro,  às 17 hor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enda na janela uma bandeira, uma toalha, um pano qualqu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ta panel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que corne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você estiver no carro, buzin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mova desfiles, passea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ça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mos fazer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í sim, saberemos que somos um povo que resgatou a esper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ciaremos a mud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6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meta este e-mail para o máximo de pessoas e peça a elas que façam o mesmo.</a:t>
            </a:r>
            <a:br>
              <a:rPr sz="1600"/>
            </a:br>
            <a:r>
              <a:rPr b="1" i="1" lang="en-US" sz="6600" spc="-1" strike="noStrike">
                <a:solidFill>
                  <a:srgbClr val="f1b60f"/>
                </a:solidFill>
                <a:latin typeface="Arial"/>
              </a:rPr>
              <a:t>        </a:t>
            </a:r>
            <a:br>
              <a:rPr sz="66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7 de setembro,</a:t>
            </a: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6600"/>
            </a:b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17 horas!</a:t>
            </a:r>
            <a:endParaRPr b="0" lang="en-US" sz="6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04440" y="602136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Verdana"/>
              </a:rPr>
              <a:t>www.estaeahora.cjb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3:23:06Z</dcterms:created>
  <dc:creator/>
  <dc:description/>
  <dc:language>en-US</dc:language>
  <cp:lastModifiedBy>Valter Garcia Cota</cp:lastModifiedBy>
  <dcterms:modified xsi:type="dcterms:W3CDTF">2005-08-03T21:05:10Z</dcterms:modified>
  <cp:revision>39</cp:revision>
  <dc:subject/>
  <dc:title>Slide 1</dc:title>
</cp:coreProperties>
</file>