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6.gif" ContentType="image/gif"/>
  <Override PartName="/ppt/media/image14.jpeg" ContentType="image/jpeg"/>
  <Override PartName="/ppt/media/image13.jpeg" ContentType="image/jpeg"/>
  <Override PartName="/ppt/media/image3.jpeg" ContentType="image/jpeg"/>
  <Override PartName="/ppt/media/image7.jpeg" ContentType="image/jpeg"/>
  <Override PartName="/ppt/media/image15.gif" ContentType="image/gif"/>
  <Override PartName="/ppt/media/image1.jpeg" ContentType="image/jpeg"/>
  <Override PartName="/ppt/media/Verde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0D9-06B2-4865-8100-D986E602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9C9-265B-4687-9A5B-5541BF17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0CD6-8F42-4E2E-BD46-6F27A9CE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6AB-D28D-4314-A221-7013B1D2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85E4-7F37-486F-B767-5969890F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402D-09ED-48C8-8E0F-6127DC8F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8CD-24E4-48A4-974B-C447DD34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3FA-E098-4AEB-A20A-BA187313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B8F-ADD5-4C82-B5FE-1663E47B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AC16-13CE-4038-900B-D6CB25BA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BFA-F578-460A-B99D-BA8FB06C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2B1-1517-4264-A840-5411E8D8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6D3E-806D-4C41-B7F3-970F13180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Mistica%20Especial.wav" TargetMode="External"/><Relationship Id="rId3" Type="http://schemas.microsoft.com/office/2007/relationships/media" Target="file:///tmp/home/.config/libreoffice/4/user/gallery/Mistica%20Especial.wav" TargetMode="External"/><Relationship Id="rId4" Type="http://schemas.openxmlformats.org/officeDocument/2006/relationships/image" Target="../media/image2.png"/><Relationship Id="rId5" Type="http://schemas.openxmlformats.org/officeDocument/2006/relationships/audio" Target="file:///tmp/home/.config/libreoffice/4/user/gallery/Mistica%20Linda.WAV" TargetMode="External"/><Relationship Id="rId6" Type="http://schemas.microsoft.com/office/2007/relationships/media" Target="file:///tmp/home/.config/libreoffice/4/user/gallery/Mistica%20Linda.WAV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3.jpeg"/><Relationship Id="rId9" Type="http://schemas.openxmlformats.org/officeDocument/2006/relationships/audio" Target="../media/Verde.wav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721480" y="981000"/>
            <a:ext cx="3422520" cy="5256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16000" y="1773360"/>
            <a:ext cx="60339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99"/>
                </a:solidFill>
                <a:latin typeface="Arial"/>
                <a:ea typeface="Tahoma"/>
              </a:rPr>
              <a:t>Você está recebendo isto porque é uma mulher, porém os homens não devem ficar isentos de conhecer e difundir a mensagem..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-88920" y="7074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8"/>
          <a:stretch/>
        </p:blipFill>
        <p:spPr>
          <a:xfrm rot="1975800">
            <a:off x="899640" y="333000"/>
            <a:ext cx="951120" cy="242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429000" y="0"/>
            <a:ext cx="5715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99"/>
                </a:solidFill>
                <a:latin typeface="Arial"/>
                <a:ea typeface="Tahoma"/>
              </a:rPr>
              <a:t>- ”Já sei. Suponho que também usa a fita para honrar a sua filha".</a:t>
            </a:r>
            <a:br>
              <a:rPr sz="2400"/>
            </a:br>
            <a:r>
              <a:rPr b="1" lang="es-ES" sz="2400" spc="-1" strike="noStrike">
                <a:solidFill>
                  <a:srgbClr val="ff3399"/>
                </a:solidFill>
                <a:latin typeface="Arial"/>
                <a:ea typeface="Tahoma"/>
              </a:rPr>
              <a:t> </a:t>
            </a:r>
            <a:br>
              <a:rPr sz="2400"/>
            </a:br>
            <a:r>
              <a:rPr b="1" lang="es-ES" sz="2400" spc="-1" strike="noStrike">
                <a:solidFill>
                  <a:srgbClr val="ff3399"/>
                </a:solidFill>
                <a:latin typeface="Arial"/>
                <a:ea typeface="Tahoma"/>
              </a:rPr>
              <a:t> "Não. É muito tarde  para isto. Minha filha morreu de câncer da mama  faz um mês. </a:t>
            </a:r>
            <a:r>
              <a:rPr b="1" lang="es-ES" sz="2400" spc="-1" strike="noStrike">
                <a:solidFill>
                  <a:srgbClr val="ff3399"/>
                </a:solidFill>
                <a:latin typeface="Arial"/>
                <a:ea typeface="Times New Roman"/>
              </a:rPr>
              <a:t>Ela pensou que era muito jovem para ter câncer, assim quando acidentalmente notou uma pequena protuberância, a ignorou. Ela pensou que, como não a incomodava, nem doía, não havia com que se preocupar".</a:t>
            </a:r>
            <a:r>
              <a:rPr b="1" lang="es-ES" sz="24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895480" cy="573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99"/>
                </a:solidFill>
                <a:latin typeface="Arial"/>
                <a:ea typeface="Tahoma"/>
              </a:rPr>
              <a:t>Comovido e envergonhado o estranho disse : ”Sinto muito, senhor." </a:t>
            </a:r>
            <a:br>
              <a:rPr sz="2400"/>
            </a:br>
            <a:r>
              <a:rPr b="1" lang="es-ES" sz="2400" spc="-1" strike="noStrike">
                <a:solidFill>
                  <a:srgbClr val="ff3399"/>
                </a:solidFill>
                <a:latin typeface="Arial"/>
                <a:ea typeface="Tahoma"/>
              </a:rPr>
              <a:t>- "Portanto, também em memória de minha filha uso esta fitinha com muito orgulho. Isto me dá oportunidade de falar com os outros. Quando voltar para a sua casa fale com a sua esposa, suas filhas, sua mãe, suas irmãs, suas amigas. Tome...", o homem buscou no bolso e entregou ao outro uma pequena fita rosa. Ele a pegou, olhou-a, lentamente levantou a cabeça e lhe disse: “Poderia me ajudar a colocá-la?</a:t>
            </a:r>
            <a:r>
              <a:rPr b="1" lang="es-ES" sz="2400" spc="-1" strike="noStrike">
                <a:solidFill>
                  <a:srgbClr val="ff3399"/>
                </a:solidFill>
                <a:latin typeface="Arial"/>
                <a:ea typeface="Times New Roman"/>
              </a:rPr>
              <a:t>"</a:t>
            </a:r>
            <a:r>
              <a:rPr b="1" lang="es-ES" sz="24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2920" y="2997360"/>
            <a:ext cx="69120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66"/>
                </a:solidFill>
                <a:latin typeface="Arial"/>
                <a:ea typeface="Tahoma"/>
              </a:rPr>
              <a:t>Incentive às mulheres que você gosta a praticar regularmente o auto-exame das mamas e a fazer uma mamografia uma vez ao an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19640" y="333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2867040" cy="2867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2286000"/>
            <a:ext cx="9144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  <a:ea typeface="Tahoma"/>
              </a:rPr>
              <a:t>Por favor, envie esta mensagem a todas as mulheres a quem estime e aos homens que tenha contato, para lembrá-los sobre a importância do auto exame da mama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Arial"/>
                <a:ea typeface="Tahoma"/>
              </a:rPr>
              <a:t> 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Arial"/>
                <a:ea typeface="Tahoma"/>
              </a:rPr>
              <a:t> UMA VELA NÃO PERDE SUA LUZ POR COMPARTILHAR SUA LUZ COM OUTRA. 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Arial"/>
                <a:ea typeface="Tahoma"/>
              </a:rPr>
              <a:t>POR FAVOR ! 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Arial"/>
                <a:ea typeface="Tahoma"/>
              </a:rPr>
              <a:t>NÃO DEIXE QUE ESTA VELA SE APAGUE ! 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Arial"/>
                <a:ea typeface="Tahoma"/>
              </a:rPr>
              <a:t>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60958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08360" y="5877000"/>
            <a:ext cx="1752480" cy="70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791320" y="0"/>
            <a:ext cx="33526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99"/>
                </a:solidFill>
                <a:latin typeface="Arial"/>
                <a:ea typeface="Tahoma"/>
              </a:rPr>
              <a:t>PARA LEVAR EM CO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151240" cy="61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067280" cy="609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52280"/>
            <a:ext cx="9144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99"/>
                </a:solidFill>
                <a:latin typeface="Arial"/>
                <a:ea typeface="Tahoma"/>
              </a:rPr>
              <a:t>Um homem atraente, de meia idade, entrou em um bar e se sentou. Antes de fazer o pedido não deixou de perceber que um grupo de homens mais jovens que bebiam em uma mesa perto da sua, riam de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99"/>
                </a:solidFill>
                <a:latin typeface="Arial"/>
                <a:ea typeface="Tahoma"/>
              </a:rPr>
              <a:t>Somente quando se lembrou da pequena fita rosa que levava na lapela de seu blazer foi que se deu conta que se tratava de uma gozação.</a:t>
            </a:r>
            <a:r>
              <a:rPr b="0" lang="es-ES" sz="4400" spc="-1" strike="noStrike">
                <a:solidFill>
                  <a:srgbClr val="ff3399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857160"/>
            <a:ext cx="8351640" cy="5649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99"/>
                </a:solidFill>
                <a:latin typeface="Arial"/>
                <a:ea typeface="Tahoma"/>
              </a:rPr>
              <a:t>O homem não deu maior importância, mas os insistentes risos na mesa vizinha começaram a incomodá-lo. Olhou a um dos homens diretamente nos olhos, levou o dedo até a lapela e apontou a fita: “Isto?” Com este gesto todos os homens da mesa riram abert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920000" cy="5273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52280"/>
            <a:ext cx="85341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99"/>
                </a:solidFill>
                <a:latin typeface="Arial"/>
                <a:ea typeface="Tahoma"/>
              </a:rPr>
              <a:t>O homem ao qual dirigiu o olhar lhe disse: “Desculpe amigo, mas estavamos comentando como está bonito com esta fitinha rosa no blazer azul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777080" cy="5311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3645000"/>
            <a:ext cx="9144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99"/>
                </a:solidFill>
                <a:latin typeface="Arial"/>
                <a:ea typeface="Tahoma"/>
              </a:rPr>
              <a:t>Com toda calma, o homem fez um gesto para o gozador convidando-o a se aproximar e sentar com ele à sua mesa. Ainda que estivesse bastante incomodado o homem mais jovem se aproximou e sentou-se. O homem mais velho com uma voz muito calma lhe disse: - “Uso esta fita para chamar atenção sobre o câncer da mam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52578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99"/>
                </a:solidFill>
                <a:latin typeface="Arial"/>
                <a:ea typeface="Tahoma"/>
              </a:rPr>
              <a:t>“</a:t>
            </a:r>
            <a:r>
              <a:rPr b="1" lang="es-ES" sz="2400" spc="-1" strike="noStrike">
                <a:solidFill>
                  <a:srgbClr val="ff3399"/>
                </a:solidFill>
                <a:latin typeface="Arial"/>
                <a:ea typeface="Tahoma"/>
              </a:rPr>
              <a:t>Eu uso em honra à minha mãe". </a:t>
            </a:r>
            <a:br>
              <a:rPr sz="2400"/>
            </a:br>
            <a:r>
              <a:rPr b="1" lang="es-ES" sz="2400" spc="-1" strike="noStrike">
                <a:solidFill>
                  <a:srgbClr val="ff3399"/>
                </a:solidFill>
                <a:latin typeface="Arial"/>
                <a:ea typeface="Tahoma"/>
              </a:rPr>
              <a:t>- ”Sinto muito, amigo, Ela morreu de câncer da mama? ". </a:t>
            </a:r>
            <a:br>
              <a:rPr sz="2400"/>
            </a:br>
            <a:r>
              <a:rPr b="1" lang="es-ES" sz="2400" spc="-1" strike="noStrike">
                <a:solidFill>
                  <a:srgbClr val="ff3399"/>
                </a:solidFill>
                <a:latin typeface="Arial"/>
                <a:ea typeface="Tahoma"/>
              </a:rPr>
              <a:t>- "Não. Ela está sadia e muito bem. Mas seus seios me alimentaram quando eu era um bebê e foram abrigo quando tive medo ou me senti só em minha infância. Estou muito agradecido aos seios de minha mãe e por sua saúde”. </a:t>
            </a:r>
            <a:br>
              <a:rPr sz="2400"/>
            </a:br>
            <a:r>
              <a:rPr b="1" lang="es-ES" sz="2400" spc="-1" strike="noStrike">
                <a:solidFill>
                  <a:srgbClr val="ff3399"/>
                </a:solidFill>
                <a:latin typeface="Arial"/>
                <a:ea typeface="Times New Roman"/>
              </a:rPr>
              <a:t>-   </a:t>
            </a:r>
            <a:r>
              <a:rPr b="1" lang="es-ES" sz="2400" spc="-1" strike="noStrike">
                <a:solidFill>
                  <a:srgbClr val="ff3399"/>
                </a:solidFill>
                <a:latin typeface="Arial"/>
                <a:ea typeface="Tahoma"/>
              </a:rPr>
              <a:t>"Entendo", respondeu o outro,</a:t>
            </a:r>
            <a:br>
              <a:rPr sz="2400"/>
            </a:br>
            <a:r>
              <a:rPr b="1" lang="es-MX" sz="2400" spc="-1" strike="noStrike">
                <a:solidFill>
                  <a:srgbClr val="ff3399"/>
                </a:solidFill>
                <a:latin typeface="Arial"/>
                <a:ea typeface="Tahoma"/>
              </a:rPr>
              <a:t>n</a:t>
            </a:r>
            <a:r>
              <a:rPr b="1" lang="es-ES" sz="2400" spc="-1" strike="noStrike">
                <a:solidFill>
                  <a:srgbClr val="ff3399"/>
                </a:solidFill>
                <a:latin typeface="Arial"/>
                <a:ea typeface="Tahoma"/>
              </a:rPr>
              <a:t>ão muito convenc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64000" y="333360"/>
            <a:ext cx="3598920" cy="638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81280" y="0"/>
            <a:ext cx="5562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99"/>
                </a:solidFill>
                <a:latin typeface="Arial"/>
                <a:ea typeface="Tahoma"/>
              </a:rPr>
              <a:t>"Também uso esta fita para honrar à minha mulher", continuou dizendo o homem. </a:t>
            </a:r>
            <a:br>
              <a:rPr sz="2800"/>
            </a:br>
            <a:r>
              <a:rPr b="1" lang="es-ES" sz="2800" spc="-1" strike="noStrike">
                <a:solidFill>
                  <a:srgbClr val="ff3399"/>
                </a:solidFill>
                <a:latin typeface="Arial"/>
                <a:ea typeface="Tahoma"/>
              </a:rPr>
              <a:t>- ”E ela também está bem?" </a:t>
            </a:r>
            <a:br>
              <a:rPr sz="2800"/>
            </a:br>
            <a:r>
              <a:rPr b="1" lang="es-ES" sz="2800" spc="-1" strike="noStrike">
                <a:solidFill>
                  <a:srgbClr val="ff3399"/>
                </a:solidFill>
                <a:latin typeface="Arial"/>
                <a:ea typeface="Tahoma"/>
              </a:rPr>
              <a:t> - "Claro que sim. Seus seios foram fonte de amor... </a:t>
            </a:r>
            <a:br>
              <a:rPr sz="2800"/>
            </a:br>
            <a:r>
              <a:rPr b="1" lang="es-ES" sz="2800" spc="-1" strike="noStrike">
                <a:solidFill>
                  <a:srgbClr val="ff3399"/>
                </a:solidFill>
                <a:latin typeface="Arial"/>
                <a:ea typeface="Tahoma"/>
              </a:rPr>
              <a:t>Com eles alimentou a nossa bela filha de 23 anos. Estou </a:t>
            </a:r>
            <a:r>
              <a:rPr b="1" lang="es-ES" sz="2800" spc="-1" strike="noStrike">
                <a:solidFill>
                  <a:srgbClr val="ff3399"/>
                </a:solidFill>
                <a:latin typeface="Arial"/>
                <a:ea typeface="Times New Roman"/>
              </a:rPr>
              <a:t>muito grato pelos seios de minha mulher e por sua saúde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65112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14:08:28Z</dcterms:created>
  <dc:creator>Paulo</dc:creator>
  <dc:description/>
  <dc:language>en-US</dc:language>
  <cp:lastModifiedBy>PC</cp:lastModifiedBy>
  <dcterms:modified xsi:type="dcterms:W3CDTF">2008-03-06T19:29:57Z</dcterms:modified>
  <cp:revision>24</cp:revision>
  <dc:subject/>
  <dc:title>Slide 1</dc:title>
</cp:coreProperties>
</file>