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B21-56AA-4026-9601-8F792168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65F-C92A-45B7-95C3-15C9FBFF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30A-A6DB-4D61-B3CB-4E66DBF9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514-7DC3-44DA-A48F-D66FC759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76FA-53C6-4EAE-B1FD-788D99F9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CDC7-BF5B-41B1-9F4B-C2303092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9F0F-D91E-47AB-85C2-CC67D337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57BA-CB2F-4A39-942E-10ED1DE7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4D65-802C-4883-866A-05B1AF5C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6CA7-ADB9-4B43-B870-8759EC06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0823-6E96-41E7-A9A5-372976DB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D4A-4237-41DF-B106-B99719A5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5C9E-1F76-4EA2-A581-85ACE31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E012-DF5E-4E23-B9E3-E71A1779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B1B8-8921-4592-B82C-742FD14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C924-0FBC-4CC2-A18C-5789F23C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A6C1-E437-4AAA-BD31-DE6969A3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10B-23B6-4D88-8323-F6F9D2AB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3D6-6B66-4ADD-BD2C-3953826F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4E0-89BB-4D3D-92B8-37767D65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6B3-5026-4CDA-A474-FBBEA765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DEF-6DDB-4C0B-AC1D-21EC6EEC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E1D-1B32-48C8-AC36-5534FB1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964-04D6-4E75-9D1D-36132BC6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18C-804D-42C1-8ABF-2EA3D13D243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B00-5767-4A56-9C93-20AC0E9851F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16720" y="0"/>
            <a:ext cx="262728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Albert Einstein"/>
          <p:cNvPicPr/>
          <p:nvPr/>
        </p:nvPicPr>
        <p:blipFill>
          <a:blip r:embed="rId1"/>
          <a:stretch/>
        </p:blipFill>
        <p:spPr>
          <a:xfrm>
            <a:off x="0" y="0"/>
            <a:ext cx="7380360" cy="6854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16000" y="1238040"/>
            <a:ext cx="438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0000"/>
                </a:solidFill>
                <a:latin typeface="Bradley Hand ITC"/>
              </a:rPr>
              <a:t>A Lógica de Einstein</a:t>
            </a:r>
            <a:r>
              <a:rPr b="0" lang="pt-BR" sz="80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É simples - respondeu Einstein -não havia ninguém ao seu redor, para lhe dizer que não seria ca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Bradley Hand ITC"/>
              </a:rPr>
              <a:t>'Deus nos fez perfeitos e não escolhe os capacitados, capacita os escolhidos'.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radley Hand ITC"/>
              </a:rPr>
              <a:t>Fazer ou não fazer algo, só depende de nossa vontade e perseverança. (Albert Einste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000000"/>
                </a:solidFill>
                <a:uFillTx/>
                <a:latin typeface="Bradley Hand ITC"/>
              </a:rPr>
              <a:t>Conclusão</a:t>
            </a:r>
            <a:r>
              <a:rPr b="1" lang="pt-BR" sz="4000" spc="-1" strike="noStrike">
                <a:solidFill>
                  <a:srgbClr val="000000"/>
                </a:solidFill>
                <a:latin typeface="Bradley Hand ITC"/>
              </a:rPr>
              <a:t> :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Preocupe-se mais com sua </a:t>
            </a:r>
            <a:r>
              <a:rPr b="1" i="1" lang="pt-BR" sz="4000" spc="-1" strike="noStrike">
                <a:solidFill>
                  <a:srgbClr val="000000"/>
                </a:solidFill>
                <a:latin typeface="Bradley Hand ITC"/>
              </a:rPr>
              <a:t>consciência</a:t>
            </a: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 do que com sua </a:t>
            </a:r>
            <a:r>
              <a:rPr b="1" lang="pt-BR" sz="4000" spc="-1" strike="noStrike">
                <a:solidFill>
                  <a:srgbClr val="000000"/>
                </a:solidFill>
                <a:latin typeface="Bradley Hand ITC"/>
              </a:rPr>
              <a:t>reputação</a:t>
            </a: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. </a:t>
            </a:r>
            <a:r>
              <a:rPr b="1" lang="pt-BR" sz="4000" spc="-1" strike="noStrike">
                <a:solidFill>
                  <a:srgbClr val="000000"/>
                </a:solidFill>
                <a:latin typeface="Bradley Hand ITC"/>
              </a:rPr>
              <a:t>Porque sua consciência é o que você é</a:t>
            </a: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, e sua reputação é o que os outros pensam de você.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radley Hand ITC"/>
              </a:rPr>
              <a:t>E o que os outros pensam, é problema deles.</a:t>
            </a: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67640" y="6078600"/>
            <a:ext cx="237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radley Hand ITC"/>
              </a:rPr>
              <a:t>Texto: Desconh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radley Hand ITC"/>
              </a:rPr>
              <a:t>Slide: Karlile da 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Duas crianças estavam patinando num lago congelado da Alemanha. Era uma tarde nublada e fria, e as crianças brincavam despreocup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De repente, o gelo se quebrou e uma delas caiu, ficando presa na fenda que se for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A outra, vendo seu amiguinho preso e se congelando, tirou um dos patins e começou a golpear o gelo com todas as suas forças, conseguindo por fim quebrá-lo e libertar o a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Quando os bombeiros chegaram e viram o que havia acontecido, perguntaram ao menin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radley Hand ITC"/>
              </a:rPr>
              <a:t>- Como você conseguiu fazer isso? É impossível que tenha conseguido quebrar o gelo, sendo tão pequeno e com mãos tão frágei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01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Bradley Hand ITC"/>
              </a:rPr>
              <a:t>Nesse instante, o gênio Albert Einstein que passava pelo local, comentou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Bradley Hand ITC"/>
              </a:rPr>
              <a:t>- Eu sei como ele conseguiu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Bradley Hand ITC"/>
              </a:rPr>
              <a:t>Todos perguntaram: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Bradley Hand ITC"/>
              </a:rPr>
              <a:t>- Pode nos dizer co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8:34:29Z</dcterms:created>
  <dc:creator>Karlile</dc:creator>
  <dc:description/>
  <dc:language>en-US</dc:language>
  <cp:lastModifiedBy>Instituto Nacional de Tecnologia</cp:lastModifiedBy>
  <dcterms:modified xsi:type="dcterms:W3CDTF">2008-10-30T12:07:59Z</dcterms:modified>
  <cp:revision>4</cp:revision>
  <dc:subject/>
  <dc:title>A Lógica de Einstein </dc:title>
</cp:coreProperties>
</file>