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B0D-851E-4E53-B976-F0ACD40F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52F-77BA-46BA-B7BC-654C0893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219-6032-4980-B87B-D0F4BBA8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FEF-10C1-4240-A9AB-3A75511F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F90-A4A9-4495-B6EA-2E6F6D02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A66-C5EA-43E9-9FF2-F0638CCC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BAF-2EF1-4088-AB3B-29E2D7FC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F44-5BD4-4DE5-96C6-7ACD1FD5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C70-5FC4-4DC1-91D2-97D957E1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CE3-67E6-45AC-8C20-4326D5A7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C45-D50A-4111-ADB6-D78D21C5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35FB-08DB-43C9-AE31-8E40F212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F192-0343-452D-B1AD-54631AAEE3F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POLÍTICAS PÚBLICAS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E PARTICIP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Profa. Katiani Z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f497d"/>
                </a:solidFill>
                <a:latin typeface="Calibri"/>
              </a:rPr>
              <a:t>A) POLÍTICAS PÚBLICAS DISTRIBUTIVA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tende demandas pontuais de grupos sociais específic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ão é univers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de fácil implantação, porque não tem opositor ao atendimento dessas demandas fragmentadas, pontuais e quase individuai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stumam ser instrumentalizadas pelo clientelismo, tornando-se moeda de troc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inanciamento: Sociedade por meio do orçamento geral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.: Bolsa famí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1f497d"/>
                </a:solidFill>
                <a:latin typeface="Calibri"/>
              </a:rPr>
              <a:t>b) POLÍTICAS PÚBLICAS REDISTRIBUTIVA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11426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Visam redistribuir recursos entre os grupos sociais buscando certa eqüidad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tiram recursos de um grupo para beneficiar outros, o que provoca conflito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ão percebidas como direitos sociai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tingem grandes grupos sociai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Financiamento: extratos mais altos da sociedade para os de baixa rend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x.: cotas, Isenção de IPTU para camadas sociais mais pobres na cida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1f497d"/>
                </a:solidFill>
                <a:latin typeface="Calibri"/>
              </a:rPr>
              <a:t>POLÍTICAS PÚBLICAS REGULATÓR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1f497d"/>
                </a:solidFill>
                <a:latin typeface="Calibri"/>
              </a:rPr>
              <a:t>c) 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– Visam definir regras e procedimentos que regulem comportamento dos atores para atender interesses gerais da sociedade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 política regulatória se refere a legislação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É um instrumento que permite aplicar políticas redistributivas e distributivas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Não visam benefícios imediatos para qualquer grupo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Lei do Uso do Sol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Alguns Problemas Freqüentes na Implementação de Políticas Públ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nterfaces entre as políticas setoriai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feitos não esperados devido ao impacto na implementaçã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Redundânci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Necessidade de realizar escolha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ARTICIPAÇÃO POPULAR NA CONSTRUÇÃO DE POLÍTICAS PÚBL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Documents and Settings\Katiani\Configurações locais\Temporary Internet Files\Content.IE5\E2Q2JTQB\MPj04394020000[1].jpg"/>
          <p:cNvPicPr/>
          <p:nvPr/>
        </p:nvPicPr>
        <p:blipFill>
          <a:blip r:embed="rId2"/>
          <a:stretch/>
        </p:blipFill>
        <p:spPr>
          <a:xfrm>
            <a:off x="2714760" y="2000160"/>
            <a:ext cx="39859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Questão a ser resolvi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ante da desconfiança em relação aos atos dos representantes políticos, e em sendo a burocracia ineficiente e pouco transparente aos olhos dos cidadãos, o que fazer para não comprometer as instituições políticas democráticas e assegurar a efetividade da gestão pública e conseqüentemente das políticas públic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Resposta Encontra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s modelos construídos para enfrentar tal dilema tendem a incluir, por exempl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stratégias de descentralizaçã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doção de mecanismos de responsabilização dos gestores público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 gestão por resultado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 incremento do controle social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ispositivos de participação social que visam 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envolver cidadãos e organizações da sociedade civil na gestão públic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articipação e Políticas Públ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sde o início dos anos 1990 a participação dos cidadãos e as organizações da sociedade civil (OSC) no processo de formulação de políticas públicas foi transformado em modelo da gestão pública local contemporâne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sta participação envolve a consulta da população em geral, de associações, dos sindicatos, dos experts e de segmentos empresariais no processo de formulação de projetos de desenvolvimento e de políticas públic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onseqüências da Particip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A legitimação da voz política da sociedade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O desenvolvimento da expertise de muitos atores não-governamentai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Maior aproximação da realidade e das necessidades da população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Aproveitamento de idéias advinda de uma parcela da população que conhece o problema </a:t>
            </a:r>
            <a:r>
              <a:rPr b="0" i="1" lang="pt-BR" sz="2700" spc="-1" strike="noStrike">
                <a:solidFill>
                  <a:srgbClr val="000000"/>
                </a:solidFill>
                <a:latin typeface="Calibri"/>
              </a:rPr>
              <a:t>in locu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senvolvimento de lideranças locai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senvolvimento de um espírito coletivo e de pertencimento ao local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Limites da Particip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participação de atores diversificados é estimulada, mas nem sempre é vivida de forma eqüitativ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termo “parceria” é corriqueiro nos discursos políticos dos atores governamentais e não-governamentais, mas sua prática efetiva parece ter dificuldades em influenciar os processos de deliberação democrática loc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O que são políticas públic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Política pública é o campo do conhecimento que busca, ao mesmo tempo, "colocar o governo em ação" e/ou analisar essa ação (variável independente) e, quando necessário, propor mudanças no rumo ou curso dessas ações (variável dependente) (Celina Souza)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É mediante as políticas públicas que são distribuídos ou redistribuídos bens e serviços sociais, em resposta as demandas da sociedade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Limites da Particip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A participação dos atores não-governamentais no desenvolvimento e implementação de políticas públicas garantem maior transparência no processo, mas não garantem  a extinção da manipulação polític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Os atores ouvidos carregam consigo interesses muitas vezes particulares, não representando o interesse da coletividad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Não se tem desenvolvido de forma homogênea e que a prática da participação cidadã apresenta variações importantes no contexto nac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A ausência de participação popular na Bahia pode ser explicada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envolvimento contemporâneo, capitaneado pelo capital, reprodutor de exclusão social e de desigualda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 projeto de modernização local não tem sido implementado à revelia das prioridade, valores e atitudes da elite baia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eparação entre a capital e o interi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A ausência de participação popular na Bahia pode ser explicada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erança patrimonialista – confusão público e o priv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ito da bahianidade – consciência coletiva forjada em torno da tradição, da cultura e dos temas como mestiçagem, democracia racial e do culto ao pop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Referênc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arlos Milani. Políticas Públicas locais e participação na Bahia: o dilema gestão versus polí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Objetivo das Políticas Públ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s políticas públicas visam responder a demandas, principalmente dos setores marginalizados da sociedade, considerados como vulneráve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ssas demandas são interpretadas por aqueles que ocupam o poder, mas influenciadas por uma agenda que se cria na sociedade civ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Atores que originam as  demandas que formam as políticas públicas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tor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úblicos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- Os políticos e os membros da administração públic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rivados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- empresários,  trabalhadores, movimentos sociais, ONGs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gentes internacionais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ídi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As demandas são geradas por meio de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obilização de ação política:</a:t>
            </a:r>
            <a:r>
              <a:rPr b="0" lang="pt-BR" sz="3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seja ação coletiva de grandes grup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533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seja ação coletiva de pequenos grupos dotados de fortes recursos de po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seja ação de atores individuais estrategicamente situ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As demandas são geradas por meio de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B)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ituação de crise,</a:t>
            </a: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 calamidade ou catástrofe, de maneira que o ônus de não resolver  o problema seja maior que o ônus de resolvê-l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C)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ituação de oportunidade</a:t>
            </a: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, ou seja, haja vantagens, antevistas por algum ator relevante, a serem obtidas com o tratamento daquele probl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olíticas Governamentais X Políticas Públ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7488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Nem sempre “políticas governamentais” são públicas, embora sejam estata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ara serem “públicas”, é preciso consider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a) a quem se destinam os resultados ou benefíci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b) e se o seu processo de elaboração é submetido ao debate públ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Modalidade de Políticas Públic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Quanto à natureza ou grau da intervençã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a) estrutural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– buscam interferir em relações estruturais como renda, emprego, propriedade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b) conjuntural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u emergencial – objetivam atenuar uma situação temporária, imedi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Modalidade de Políticas Públ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Quanto à abrangência dos possíveis benefíci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a) universais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– para todos os cidadã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b) segmentais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– para um segmento da população, caracterizado por um fator determinado (idade, condição física, gênero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c) fragmentadas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– destinadas a grupos sociais dentro de cada segm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0:09:40Z</dcterms:created>
  <dc:creator>Katiani</dc:creator>
  <dc:description/>
  <dc:language>en-US</dc:language>
  <cp:lastModifiedBy>Katiani</cp:lastModifiedBy>
  <dcterms:modified xsi:type="dcterms:W3CDTF">2010-04-23T00:03:07Z</dcterms:modified>
  <cp:revision>2</cp:revision>
  <dc:subject/>
  <dc:title>Políticas públicas locais e participação</dc:title>
</cp:coreProperties>
</file>