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516-81F1-4DBD-97B5-E0CE671C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49A-7FC9-4C8D-A6DB-7302FEB1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3F5-6650-4A46-8A13-9E3912BB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140-0136-4F3A-AFD0-F61E0674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B8A-91DD-4333-8F55-32E06520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89D-65E4-4645-A3FD-9C35F90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066-AB33-4367-81CC-440EE45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5B3-CB3E-4FD2-948E-9DA4B02A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BED-B2B7-4608-8CE9-77D61117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E17-A90E-423F-AE32-216CC28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DDE-89BF-43BE-95C1-6AAC867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9CA-F4DC-433C-92DF-6FC3D6BE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D8C-186D-4CD5-8844-7FF646EE88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OLÍTICAS PÚBLICAS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E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Profa. Katiani Z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f497d"/>
                </a:solidFill>
                <a:latin typeface="Calibri"/>
              </a:rPr>
              <a:t>A) POLÍTICAS PÚBLICAS DISTRIBUTIVA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ende demandas pontuais de grupos sociais específ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Não é univers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de fácil implantação, porque não tem opositor ao atendimento dessas demandas fragmentadas, pontuais e quase individua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stumam ser instrumentalizadas pelo clientelismo, tornando-se moeda de tro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nanciamento: Sociedade por meio do orçamento geral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.: Bolsa famí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1f497d"/>
                </a:solidFill>
                <a:latin typeface="Calibri"/>
              </a:rPr>
              <a:t>b) POLÍTICAS PÚBLICAS REDISTRIBUTIV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1426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Visam redistribuir recursos entre os grupos sociais buscando certa eqüidad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tiram recursos de um grupo para beneficiar outros, o que provoca conflit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ão percebidas como direitos sociai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tingem grandes grupos sociai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inanciamento: extratos mais altos da sociedade para os de baixa rend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x.: cotas, Isenção de IPTU para camadas sociais mais pobres na cid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1f497d"/>
                </a:solidFill>
                <a:latin typeface="Calibri"/>
              </a:rPr>
              <a:t>POLÍTICAS PÚBLICAS REGULATÓR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1f497d"/>
                </a:solidFill>
                <a:latin typeface="Calibri"/>
              </a:rPr>
              <a:t>c)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– Visam definir regras e procedimentos que regulem comportamento dos atores para atender interesses gerais da sociedade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política regulatória se refere a legislaçã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É um instrumento que permite aplicar políticas redistributivas e distributiva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Não visam benefícios imediatos para qualquer grup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Lei do Uso do So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lguns Problemas Freqüentes na Implementação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nterfaces entre as políticas setoriai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feitos não esperados devido ao impacto na implementaç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edundânci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ecessidade de realizar escolh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ARTICIPAÇÃO POPULAR NA CONSTRUÇÃO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Katiani\Configurações locais\Temporary Internet Files\Content.IE5\E2Q2JTQB\MPj04394020000[1].jpg"/>
          <p:cNvPicPr/>
          <p:nvPr/>
        </p:nvPicPr>
        <p:blipFill>
          <a:blip r:embed="rId2"/>
          <a:stretch/>
        </p:blipFill>
        <p:spPr>
          <a:xfrm>
            <a:off x="2714760" y="2000160"/>
            <a:ext cx="39859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Questão a ser resolvi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ante da desconfiança em relação aos atos dos representantes políticos, e em sendo a burocracia ineficiente e pouco transparente aos olhos dos cidadãos, o que fazer para não comprometer as instituições políticas democráticas e assegurar a efetividade da gestão pública e conseqüentemente das políticas públic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sposta Encontra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modelos construídos para enfrentar tal dilema tendem a incluir, por exempl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ratégias de descentraliz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doção de mecanismos de responsabilização dos gestores públic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gestão por resultad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incremento do controle so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spositivos de participação social que visam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envolver cidadãos e organizações da sociedade civil na gestão públ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articipação 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de o início dos anos 1990 a participação dos cidadãos e as organizações da sociedade civil (OSC) no processo de formulação de políticas públicas foi transformado em modelo da gestão pública local contemporâne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ta participação envolve a consulta da população em geral, de associações, dos sindicatos, dos experts e de segmentos empresariais no processo de formulação de projetos de desenvolvimento e de políticas públic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onseqüência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 legitimação da voz política da sociedade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desenvolvimento da expertise de muitos atores não-governamentai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Maior aproximação da realidade e das necessidades da populaçã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proveitamento de idéias advinda de uma parcela da população que conhece o problema </a:t>
            </a: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in locu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envolvimento de lideranças locai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senvolvimento de um espírito coletivo e de pertencimento ao local.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imite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participação de atores diversificados é estimulada, mas nem sempre é vivida de forma eqüitati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termo “parceria” é corriqueiro nos discursos políticos dos atores governamentais e não-governamentais, mas sua prática efetiva parece ter dificuldades em influenciar os processos de deliberação democrática loc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O que são políticas públic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Política pública é o campo do conhecimento que busca, ao mesmo tempo, "colocar o governo em ação" e/ou analisar essa ação (variável independente) e, quando necessário, propor mudanças no rumo ou curso dessas ações (variável dependente) (Celina Souza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É mediante as políticas públicas que são distribuídos ou redistribuídos bens e serviços sociais, em resposta as demandas da sociedade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Limites da Particip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 participação dos atores não-governamentais no desenvolvimento e implementação de políticas públicas garantem maior transparência no processo, mas não garantem  a extinção da manipulação polít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s atores ouvidos carregam consigo interesses muitas vezes particulares, não representando o interesse da coletivida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Não se tem desenvolvido de forma homogênea e que a prática da participação cidadã apresenta variações importantes no contexto nac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ausência de participação popular na Bahia pode ser explicada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envolvimento contemporâneo, capitaneado pelo capital, reprodutor de exclusão social e de desigualda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projeto de modernização local não tem sido implementado à revelia das prioridade, valores e atitudes da elite bai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eparação entre a capital e o inter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 ausência de participação popular na Bahia pode ser explicada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erança patrimonialista – confusão público e o priv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ito da bahianidade – consciência coletiva forjada em torno da tradição, da cultura e dos temas como mestiçagem, democracia racial e do culto ao pop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Refer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los Milani. Políticas Públicas locais e participação na Bahia: o dilema gestão versus polí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jetivo das Políticas Públ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políticas públicas visam responder a demandas, principalmente dos setores marginalizados da sociedade, considerados como vulneráve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sas demandas são interpretadas por aqueles que ocupam o poder, mas influenciadas por uma agenda que se cria na sociedade ci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Atores que originam as  demandas que formam as políticas pública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tor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úblicos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- Os políticos e os membros da administração públic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rivado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- empresários,  trabalhadores, movimentos sociais, ONG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gentes internacionais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ídi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s demandas são geradas por meio de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obilização de ação política:</a:t>
            </a:r>
            <a:r>
              <a:rPr b="0" lang="pt-BR" sz="3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coletiva de grandes grup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533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coletiva de pequenos grupos dotados de fortes recursos de po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seja ação de atores individuais estrategicamente situ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As demandas são geradas por meio de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tuação de crise,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 calamidade ou catástrofe, de maneira que o ônus de não resolver  o problema seja maior que o ônus de resolvê-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C)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tuação de oportunidade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, ou seja, haja vantagens, antevistas por algum ator relevante, a serem obtidas com o tratamento daquele prob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olíticas Governamentais X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7488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em sempre “políticas governamentais” são públicas, embora sejam estata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ra serem “públicas”, é preciso consider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) a quem se destinam os resultados ou benefíc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e se o seu processo de elaboração é submetido ao debate públ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odalidade de Políticas Públic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Quanto à natureza ou grau da intervençã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) estrutur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– buscam interferir em relações estruturais como renda, emprego, propriedade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b) conjuntural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u emergencial – objetivam atenuar uma situação temporária,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Modalidade de Políticas Públ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Quanto à abrangência dos possíveis benefíci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) universai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para todos os cidadã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b) segmentai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para um segmento da população, caracterizado por um fator determinado (idade, condição física, gênero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c) fragmentadas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– destinadas a grupos sociais dentro de cada segm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09:40Z</dcterms:created>
  <dc:creator>Katiani</dc:creator>
  <dc:description/>
  <dc:language>en-US</dc:language>
  <cp:lastModifiedBy>Katiani</cp:lastModifiedBy>
  <dcterms:modified xsi:type="dcterms:W3CDTF">2010-04-23T00:03:07Z</dcterms:modified>
  <cp:revision>2</cp:revision>
  <dc:subject/>
  <dc:title>Políticas públicas locais e participação</dc:title>
</cp:coreProperties>
</file>