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9B32-D102-4A87-A945-B9871983CB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49E8-29D3-4A88-AB4C-592DE3E9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1790-1058-418B-AC2D-E7BDEE5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2F14-D380-446C-A19A-F6E7037614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D5C8-51FF-4807-A13C-EB92CE3B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4F4E-3B8C-4DE1-8B17-668875AF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34C1-AD8D-4BA2-9B45-05142EB1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3961-9B6A-411D-8777-658ADD21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20BD-E3E9-4624-A15C-ED677C9C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AB2A-8F05-4537-AEF5-459BA58E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D1E1-A6EA-4FCC-A412-C85508DF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C610-CB42-4D39-B33B-8D5DD365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4DD895-C1FF-4F7B-A6A3-359837D7910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86040" y="2357280"/>
            <a:ext cx="5457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Bens Públic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06720" y="3529080"/>
            <a:ext cx="4494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Formação do Patrimônio  Público e uso dos Bens Públicos pelo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imitação e 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ruição de acordo com o princípio da Proporcion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ervar os padrões da adequação, necessida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eito aos valores fundament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anormal ou extraordinári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ruir do bem público de modo a excluir idêntico benefício a outrem, em situação de absoluta igual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Administração Pública deve ser previamente consultada quanto à pretenção de uso anormal (privativo), sob pena de ilicit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imes Jurídicos para o uso anorm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utorização, Permissão e Conc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7280" y="1285920"/>
            <a:ext cx="63295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UTORIZAÇ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 o Poder Público consente que determinado indivíduo utilize bem público de modo privativo, atendendo primordialmente a seu próprio interesse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MI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 a  Administração consente que certa pessoa utilize privativamente bem público, atendendo ao mesmo tempo aos interesses público e privado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CE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contrato administrativo pelo qual o Poder Público confere a pessoa determinada o uso privativo de bem público, independentemente do maior ou menor interesse público da pessoa concedente. Pode ser remunerada ou gratuita. É bilateral e vinculado aos termos contratu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ferenç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cessão: É Contrato Administrativo. É Bilat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ermissão e Autorização: São atos administrativos. São Unilate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DIFERENÇAS ENTRE OS INSTITUT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2880" y="981000"/>
            <a:ext cx="7575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riz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to Unilateral, Discricionário e Precá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ispensa Lei e Licit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m prazo de dur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so Facultativ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rmiss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to Unilateral, Discricionário e Precá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icitação Prév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m prazo de dur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tilização Obrigató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cess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Contrato Administrativ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icitação Prév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tilização Obrigatór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Não há Precariedad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Rescis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8815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RIZAÇÃO DE U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35400" y="2060640"/>
            <a:ext cx="381024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84280"/>
            <a:ext cx="367164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feira de artesa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73240" y="2133720"/>
            <a:ext cx="3830400" cy="410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87280" y="1484280"/>
            <a:ext cx="374508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manifestação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ERMISSÃO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Barracas de Feira Li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62280" y="2143080"/>
            <a:ext cx="6024600" cy="45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NCESSÃO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xploração de Jazida 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7280" y="157176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Contratua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ecorrentes de negócio jurídico. Regulado pelo Direit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Naturais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Decorrentes de fenômenos da natur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Jurídicas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: Aquelas que a lei concede efeito especial translativ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RIZAÇÃO DE USO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acerbado ou Extraordinário 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2880" y="1052640"/>
            <a:ext cx="3809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*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normalida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Prejudica Terceiros e o B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*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rânsito em rodovia com veículo excepcionalmente longo ou de peso excessivo (fot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2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echamento de ruas por um final de seman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stalação de Cir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38720" y="1844640"/>
            <a:ext cx="3797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UTORIZAÇÃO DE USO -</a:t>
            </a:r>
            <a:br>
              <a:rPr sz="24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risprudê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utorização de uso de imóvel municipal por particular é ato unilateral da Administração Pública, de natureza discricionária, precária, através do qual esta consente na prática de determinada atividade individual incidente sobre um bem público. Trata-se, portanto, de ato revogável, sumariamente, a qualquer tempo, e sem ônus para o Poder Público” (RMS 16.280, 1ª T., rel. Min. José Delgado, j. em 19-02-2004, DJ de 19-04-2004, p. 154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PERMISSÃO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do Privativo ou exacerbado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35400" y="1916280"/>
            <a:ext cx="381024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3889440" cy="432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16000" y="1197000"/>
            <a:ext cx="3816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barracas de feiras 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1197000"/>
            <a:ext cx="3744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bancas de jornal e re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PERMISSÃO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do Privativo ou Exacerbado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967280" cy="439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32000" y="5950080"/>
            <a:ext cx="74880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s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 período maior que o previsto para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toriz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981000"/>
            <a:ext cx="56880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colocação de mesas e cadeiras em calçada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PERMISSÃO DE USO -</a:t>
            </a:r>
            <a:br>
              <a:rPr sz="24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risprudênc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ssão é ato administrativo discricionário e precário pelo qual a Administração consente que o particular execute serviço de utilidade pública ou utilize bem público de forma exclusiva” (RMS 22.677, 2ª T., rel. Min. Humberto Martins, j. em 06-03-2007, DJ de 20-03-2007, p. 257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ermissão de uso é instituto de caráter precário que pode ser revogado a qualquer tempo pela Administração Pública, desde que não se demonstre conveniente e oportuna. Aplicação da Súmula 473 do STF” (RMS 17.644, 1ª T., rel. Min. Teori Albino Zavaski, j. em 20-03-2007, DJ de 12-04-2007, p. 21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CONCESSÃO COMUM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ontrato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197000"/>
            <a:ext cx="3816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área para parque de diver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1197000"/>
            <a:ext cx="39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exploração de jazida miner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940200" cy="432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6308640"/>
            <a:ext cx="8388360" cy="54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.: por ser direito pessoal, não pode ser  transfer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 vivos” ou causa mortis”, para terc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48360" y="1981080"/>
            <a:ext cx="3744720" cy="42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de Concess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de Us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de Direito Real de Uso - CDRU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 para regularização fundiária de interesse social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preservação de comunidades tradicionai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Especial para fins de moradia – C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 para uso de imóvel urban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 regulamentado pela Medida Provisória 2.220/200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óvel de no máximo 250 metros quadrado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para fins de moradia própria ou da famíl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lo prazo de cinco 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dro Sinótico das diferenç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73240" y="981000"/>
          <a:ext cx="7772400" cy="55468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lici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ção prév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ção prév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facultativo do bem pel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ção obrigatória do bem pelo particular, conforme a finalidade permit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ção obrigatória do bem pelo particular, conforme a finalidade conced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predominante d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onderância entre o interesse público e o d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público e do particular podem ser equivalentes, ou haver predomínio de um ou de outr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prec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prec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precaried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prazo (reg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prazo (reg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zo determin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gação a qualquer tempo sem indenização, salvo se outorgada com prazo ou condici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gação a qualquer tempo sem indenização, salvo se outorgada com prazo ou condici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isão nas hipóteses previstas em lei. Cabe indenização, se a causa não for imputável ao concession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LHO, Marçal Justen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4.ed. São Paulo: Saraiva,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RVALHO FILHO, José dos Santos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20.ed. Lumen Juris,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quisiç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riginári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Não há transmissão de propriedade. É direta. Ex: Acessão por aluvi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rivad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Há uma cadeia de transmissibilidade do b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7280" y="1600200"/>
            <a:ext cx="6329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Formas de aquisição de imó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ontratos: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Estado pode celebrar contratos visando adquirir b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sucapi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lei civil não descartou o Estado como possível titular do direito de usucapir.(art. 1238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sapropri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erda da propriedade pelo proprietário privado gera a aquisição pelo expropriente que, em regra, são as pessoas de direi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cess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r formação de ilhas, etc. (art. 1248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9880" algn="just">
              <a:spcBef>
                <a:spcPts val="799"/>
              </a:spcBef>
              <a:tabLst>
                <a:tab algn="l" pos="0"/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Formas de aquisição de imóvei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usa Mort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ireito subjetivo à herança. Possibilidade de receber bens por via de testamento. Herança j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rremat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m leilão não há impedimento quanto à participação de pessoas de direi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djudic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ssível, desde que ocorridos os pressuposts da lei processual ( art. 685 – A,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Usados pela Pessoa Jurídica de direito público a que pertecem, independentemente de serem de uso comum, especial ou dominicai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ormas de u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Comum –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Generalidade da utilização d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discriminação do administrador no que toca ao uso d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compatibilização do uso com os fins normais a que se des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qualquer gravame para permitir a uti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57280" y="1600200"/>
            <a:ext cx="632952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Especial –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exclusividade do uso aos que pagam a remuneração ou aos que recebem consentimento estatal para o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onerosidade, nos casos de uso especial remun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rivatividade, nos casos de uso especial priv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compatibilidade estrita, em certos casos, entre o uso e o fim a que se destina 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57280" y="1600200"/>
            <a:ext cx="63295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regime de uso do bem público pelo particular varia em vista da espécie de bem que se 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e uso comum: Utilizado por todos do po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e uso especial: Utilizado exclusivamente pela Administração Pública e por aqueles que preci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ominical: Pode ser utilizado pela Administração Pública ou n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16:28Z</dcterms:created>
  <dc:creator>Jonathan Niger</dc:creator>
  <dc:description/>
  <dc:language>en-US</dc:language>
  <cp:lastModifiedBy>Morgana</cp:lastModifiedBy>
  <dcterms:modified xsi:type="dcterms:W3CDTF">2010-04-20T09:56:58Z</dcterms:modified>
  <cp:revision>15</cp:revision>
  <dc:subject/>
  <dc:title>Bens Públicos</dc:title>
</cp:coreProperties>
</file>