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FB3-E843-46EC-ACF4-8F52C51E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FDD-BCE3-41D1-AB30-A5AEFDA7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5E3-86E4-40FB-BD95-79E8215E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E65-D195-43AE-8A2B-6058E170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DDF-7A60-4B14-B689-DD702FE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665-E0F2-4B14-AE35-13973839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C99-AEE2-4041-8BF3-EED4BA2D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4FD-1C61-4133-B657-A305F9F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71F-249C-4F2C-9BEF-8A5E8897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D0E-2879-4EE7-ADEF-B85134F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169-0799-45B0-A0AB-9A830E6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B34-A866-4B42-A11C-89F74DE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54C4-D81C-43C8-A7A3-7BE67339E2C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alienação fiduciária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Alienação Fiduciár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5864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icar com a posse direta do bem alienado fiduciariam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ter a propriedade plena após a implementação da sua obrigação contratual, sob pena de multa para o fiduciári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 livre uso e fruição d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Intentar ações possessó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raticar atos conservatórios sobre 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o saldo do leil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urgar a mora em caso de atraso no cumprimento das obrigações, desde que decorrido o prazo de carência. O prazo será definido no contra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ivindicar a co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Intentar ação de consignação em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a divida e acessóri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o IPTU, contribuições de condomínio e demais encargos sobre 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der civilmente perante tercei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Manter a conversação do b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ermitir que o credor, fiscalize o estado do bem grav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Classific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Bilateral ou Sinalagmátic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Form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nero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ípic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cessóri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Comutativ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Indivisíve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Consensu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Solen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Legisl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4.728/65 (art. 66-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c.-Lei nº. 911/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ódigo Civil de 2002, arts. 1.361 a 1.3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I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9.514/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Penalidades pelo descumpr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usca e Apreensão do bem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ção de Depós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alência do alienante, postular restituição do bem para venda e solução do seu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a busca e apreensão pode ser convertida em ação de depós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se deixar de pagar uma prestação todo o débito vence antecipadamente (art. 2º, § 3º Dec. 9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xtin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Extinção da obrig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pereciment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renúncia do credor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adjudicação judicial, remição, arrematação ou venda extrajudicia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confus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desapropriaçã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implemento de condição resolutiva a que estava subordinado o domínio do alien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t0.gstatic.com/images?q=tbn:ANd9GcR5apJ4iPSTc6ARqciow6-LWDw99P26LJ4KSSEHeXeodzteO3zk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lienação fiduciária é o contrato pelo qual uma das partes aliena um bem para a outra sob a condição de ele ser restituído à sua propriedade quando verificado determinado fato”. (Fábio Ulho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"/>
          <p:cNvSpPr/>
          <p:nvPr/>
        </p:nvSpPr>
        <p:spPr>
          <a:xfrm>
            <a:off x="2411280" y="54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2"/>
          <p:cNvSpPr/>
          <p:nvPr/>
        </p:nvSpPr>
        <p:spPr>
          <a:xfrm>
            <a:off x="1042920" y="2136600"/>
            <a:ext cx="727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alienação fiduciária em garantia consiste na transferência feita pelo devedor ao credor da propriedade resolúvel e da posse indireta de um bem infungível  (CC, art. 1.361) ou de um bem imóvel (Lei n. 9.514/97, arts. 22 a 33), como garantia de seu débito, resolvendo-se o direito do adquirente com o adimplemento da obrigação, ou melhor, com o pagamento da dívida garantida” (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ttp://www.viajus.com.br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Contrato deve con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Valor total da dívida ou sua estim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ocal e data do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Taxa de juros contratu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láusula penal com indicação de correção monetária e juros morató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scrição do bem, objeto da garanti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Sujeitos</a:t>
            </a: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ár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an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seu créd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s direitos da propriedade resolúvel, bem como a posse indireta d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propriar-se do produto da venda do imóvel para pagar-se, em caso de inadimplemento do fiduciante, entregando o saldo, se houver, ao fiduci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consolidação da propriedade em seu nom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Intentar ação de reivindicação e ações possessóri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reintegração de posse do imóvel (liminar), após a consolid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mover a cessão de credito transferindo ao cessionário todos os direitos e obrigações inerentes à propriedade fiduciária em garantia. (art. 2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Utilizar a posse direta do fiducia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porcionar ao alienante o empréstimo a que se obrigou e que está sendo garantido pela propriedade fiduciár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Respeitar a posse e o uso da coisa pelo devedor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Fornecer o termo de quitação, apos o pagamento da divida e de seus encargos pelo devedor, para possibilitar o cancelamento da propriedade fiduciária. Aqui se faz direto no registro de imóveis, tratando-se de uma averbação conforme Lei dos Registros Públi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Liberar a garantia fiduciária até 30 dias após receber seu crédito, sob pena de mult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Se inadimplente o fiduciante, promover sua notificação e demais atos de cobrança e leilão de acordo com a lei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olocar o imóvel à venda, depois da consolidação, por meio de dois leilões públicos. (art. 27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Devolver ao fiduciante o saldo apurado na venda do imóvel. (art. 37, § 4º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19:08Z</dcterms:created>
  <dc:creator>Fábio Mansur</dc:creator>
  <dc:description/>
  <dc:language>en-US</dc:language>
  <cp:lastModifiedBy>Fábio Mansur</cp:lastModifiedBy>
  <dcterms:modified xsi:type="dcterms:W3CDTF">2011-04-27T22:38:04Z</dcterms:modified>
  <cp:revision>15</cp:revision>
  <dc:subject/>
  <dc:title>Alienação Fiduciária</dc:title>
</cp:coreProperties>
</file>