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8F1-1689-4280-A204-A7889D8D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448-7270-4E18-9249-5A89B6B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590-20B4-4663-8774-4FD40CB5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A0D-1F02-4842-AB0E-D86B72EF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B58-C148-454E-BC7A-53C157B8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7ED-A3AB-4620-AA8A-F9EC2CD9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F51-1CA6-4404-A940-C8C74FE5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D7E-F072-4599-A223-17130B60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DAA-19E1-4A0D-AE8A-50B4E176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C5D-3A90-410B-B114-368D322B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E58-7A98-4141-A05A-15F9E6D6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C8D-7D45-489B-9398-59E66353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9EF3-4DD3-4B98-84D1-5F5D6841BF7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3" descr="alienação fiduciária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Alienação Fiduciár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58644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icar com a posse direta do bem alienado fiduciariament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ter a propriedade plena após a implementação da sua obrigação contratual, sob pena de multa para o fiduciári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xercer o livre uso e fruição do imóve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Intentar ações possessó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raticar atos conservatórios sobre o b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ceber o saldo do leilã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urgar a mora em caso de atraso no cumprimento das obrigações, desde que decorrido o prazo de carência. O prazo será definido no contra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ivindicar a co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Intentar ação de consignação em pag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agar a divida e acessóri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agar o IPTU, contribuições de condomínio e demais encargos sobre o imóve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sponder civilmente perante tercei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Manter a conversação do b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Permitir que o credor, fiscalize o estado do bem grav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Classific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Bilateral ou Sinalagmátic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Form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Onero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Típic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Acessóri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Comutativ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Indivisíve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Consensu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Solen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Legisl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em Mó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i nº. 4.728/65 (art. 66-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c.-Lei nº. 911/6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Código Civil de 2002, arts. 1.361 a 1.3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em Imó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i nº. 9.514/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Penalidades pelo descumpr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Busca e Apreensão do bem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ção de Depósi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Falência do alienante, postular restituição do bem para venda e solução do seu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s.: a busca e apreensão pode ser convertida em ação de depós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Obs.: se deixar de pagar uma prestação todo o débito vence antecipadamente (art. 2º, § 3º Dec. 9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Extin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Extinção da obrig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 perecimento da coisa alienada fiduciariam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renúncia do credor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adjudicação judicial, remição, arrematação ou venda extrajudicial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confus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A desapropriação da coisa alienada fiduciariam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 implemento de condição resolutiva a que estava subordinado o domínio do alien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t0.gstatic.com/images?q=tbn:ANd9GcR5apJ4iPSTc6ARqciow6-LWDw99P26LJ4KSSEHeXeodzteO3zk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lienação fiduciária é o contrato pelo qual uma das partes aliena um bem para a outra sob a condição de ele ser restituído à sua propriedade quando verificado determinado fato”. (Fábio Ulho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t0.gstatic.com/images?q=tbn:ANd9GcQqljnz7dT9GiPwYBv4VtIUOKB9iE4qbQqc9aoVyj2gi68osVUcuA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"/>
          <p:cNvSpPr/>
          <p:nvPr/>
        </p:nvSpPr>
        <p:spPr>
          <a:xfrm>
            <a:off x="2411280" y="54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2"/>
          <p:cNvSpPr/>
          <p:nvPr/>
        </p:nvSpPr>
        <p:spPr>
          <a:xfrm>
            <a:off x="1042920" y="2136600"/>
            <a:ext cx="727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A alienação fiduciária em garantia consiste na transferência feita pelo devedor ao credor da propriedade resolúvel e da posse indireta de um bem infungível  (CC, art. 1.361) ou de um bem imóvel (Lei n. 9.514/97, arts. 22 a 33), como garantia de seu débito, resolvendo-se o direito do adquirente com o adimplemento da obrigação, ou melhor, com o pagamento da dívida garantida” (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ttp://www.viajus.com.br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0.gstatic.com/images?q=tbn:ANd9GcQqljnz7dT9GiPwYBv4VtIUOKB9iE4qbQqc9aoVyj2gi68osVUcuA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Contrato deve con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Valor total da dívida ou sua estim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ocal e data do pag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Taxa de juros contratu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Cláusula penal com indicação de correção monetária e juros morató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escrição do bem, objeto da garanti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Sujeitos</a:t>
            </a: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alibri"/>
              </a:rPr>
              <a:t>Fiduciár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alibri"/>
              </a:rPr>
              <a:t>Fiducian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Receber seu crédi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Exercer os direitos da propriedade resolúvel, bem como a posse indireta do b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propriar-se do produto da venda do imóvel para pagar-se, em caso de inadimplemento do fiduciante, entregando o saldo, se houver, ao fiduci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Direito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bter a consolidação da propriedade em seu nom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Intentar ação de reivindicação e ações possessóri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Obter a reintegração de posse do imóvel (liminar), após a consolidaçã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mover a cessão de credito transferindo ao cessionário todos os direitos e obrigações inerentes à propriedade fiduciária em garantia. (art. 28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Utilizar a posse direta do fiducia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Proporcionar ao alienante o empréstimo a que se obrigou e que está sendo garantido pela propriedade fiduciári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Respeitar a posse e o uso da coisa pelo devedor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Fornecer o termo de quitação, apos o pagamento da divida e de seus encargos pelo devedor, para possibilitar o cancelamento da propriedade fiduciária. Aqui se faz direto no registro de imóveis, tratando-se de uma averbação conforme Lei dos Registros Públi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libri"/>
              </a:rPr>
              <a:t>Obrigações do Fiduci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Liberar a garantia fiduciária até 30 dias após receber seu crédito, sob pena de mult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Se inadimplente o fiduciante, promover sua notificação e demais atos de cobrança e leilão de acordo com a lei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Colocar o imóvel à venda, depois da consolidação, por meio de dois leilões públicos. (art. 27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alibri"/>
              </a:rPr>
              <a:t>Devolver ao fiduciante o saldo apurado na venda do imóvel. (art. 37, § 4º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19:08Z</dcterms:created>
  <dc:creator>Fábio Mansur</dc:creator>
  <dc:description/>
  <dc:language>en-US</dc:language>
  <cp:lastModifiedBy>Fábio Mansur</cp:lastModifiedBy>
  <dcterms:modified xsi:type="dcterms:W3CDTF">2011-04-27T22:38:04Z</dcterms:modified>
  <cp:revision>15</cp:revision>
  <dc:subject/>
  <dc:title>Alienação Fiduciária</dc:title>
</cp:coreProperties>
</file>