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B78-AD41-4F96-AFE4-9A67DF42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B67-1660-48EB-8514-1ADD90D7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EBC-F880-4079-9DA8-448D0784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A17-7C39-4FFC-86A9-1ECA3E02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D06-3856-4C16-A5DD-68AAAEFA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003-5077-45F5-B29D-20D459B6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54C-6559-4806-B0B2-371AF0E8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CFD-275C-4F8A-A168-58DFF569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CFD-4D61-4D7F-AB89-14C05A79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998-7DCF-4111-B17B-B8CA5207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B25-B598-496A-9CCA-3117E4B0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89C-97EE-4366-BA61-4902BD61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CD36-B9B6-4B58-8BA7-F85BBD28AA8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85680" y="2356920"/>
            <a:ext cx="54579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Bens Público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06720" y="3528720"/>
            <a:ext cx="4494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Formação do Patrimônio  Público e uso dos Bens Públicos pelo partic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imitação e Requisit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ruição de acordo com o princípio da Proporcional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bservar os padrões da adequação, necessida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Respeito aos valores fundamenta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anormal ou extraordinári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ruir do bem público de modo a excluir idêntico benefício a outrem, em situação de absoluta igualda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Administração Pública deve ser previamente consultada quanto à pretenção de uso anormal, sob pena de ilicitu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imes Jurídicos para o uso anorm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xistem uma pluraridade de regimes jurídicos, que variam em função de cada categoria de bem público. Há, porém, institutos genéricos: Autorização, Permissão e Concess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UTORIZAÇ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 o Poder Público consente que determinado indivíduo utilize bem público de modo privativo, atendendo primordialmente a seu próprio interesse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MI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 a  Administração consente que certa pessoa utilize privativamente bem público, atendendo ao mesmo tempo aos interesses público e privado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CE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contrato administrativo pelo qual o Poder Público confere a pessoa determinada o uso privativo de bem público, independentemente do maior ou menor interesse público da pessoa concedente. Pode ser remunerada ou gratui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utorização de Us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anifestação Públ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1maio74a11.jpg"/>
          <p:cNvPicPr/>
          <p:nvPr/>
        </p:nvPicPr>
        <p:blipFill>
          <a:blip r:embed="rId2"/>
          <a:stretch/>
        </p:blipFill>
        <p:spPr>
          <a:xfrm>
            <a:off x="2643120" y="2071800"/>
            <a:ext cx="63579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missã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Barracas de Feira Liv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feira.jpg"/>
          <p:cNvPicPr/>
          <p:nvPr/>
        </p:nvPicPr>
        <p:blipFill>
          <a:blip r:embed="rId2"/>
          <a:stretch/>
        </p:blipFill>
        <p:spPr>
          <a:xfrm>
            <a:off x="2762280" y="2143080"/>
            <a:ext cx="60246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CESSÃO DE US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xploração de Jazida Mine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12695_000ecza2.jpg"/>
          <p:cNvPicPr/>
          <p:nvPr/>
        </p:nvPicPr>
        <p:blipFill>
          <a:blip r:embed="rId2"/>
          <a:stretch/>
        </p:blipFill>
        <p:spPr>
          <a:xfrm>
            <a:off x="2714760" y="214308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ferenç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ncessão: É Contrato Administrativo. É Bilater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rmissão e Autorização: São atos administrativos. São Unilatera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4572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pecto Comum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Discricionariedade é igual para to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LHO, Marçal Justen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4.ed. São Paulo: Saraiva, 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RVALHO FILHO, José dos Santos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20.ed. Lumen Juris, 200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57280" y="157176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Contratua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ecorrentes de negócio jurídico. Regulado pelo Direito Priv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Naturais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omo fenômeno da nature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Jurídicas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: Como aquelas que a lei consede efeito especial translativo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quisiçã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riginári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Não há transmissão de propriedade. É direta. Ex: Acessão por aluvi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rivad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Há uma cadeia de transmissibilidade do bem. Discussão doutrinária sobre os vícios da vontade e sobre o próprio negócio jurídico de transferência do b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ormas de aquisiçã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ntratos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Estado pode celebrar contratos visando adquirir b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Usucapi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lei civil não descartou o Estado como possível titular do direi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sapropri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erda da propriedade pelo proprietário privado gera a aquisição pelo expropriente que, em regra, são as pessoas de direito públ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cess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orma de aquisição de bem imó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usa Mort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ireito subjetivo à herança. Possibilidade de receber bens por via de testa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rremat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Não há impedimento quanto à participação de pessoas de direito públ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djudic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ossível, desde que ocorridos os pressuposts da lei processual ( art. 685 – A, CP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Usados pela Pessoa Jurídica de direito público a que pertecem, independentemente de serem de uso comum, especial ou dominicais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ormas de us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o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spe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Comum – Característic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Generalidade da utilização do b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discriminação do administrador no que toca ao uso d b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compatibilização do uso com os fins normais a que se dest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qualquer gravame para permitir a utiliza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Especial – Característic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exclusividade do uso aos que pagam a remuneração ou aos que recebem consentimento estatal para o u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onerosidade, nos casos de uso especial remune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rivatividade, nos casos de uso especial priv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compatibilidade estrita, em certos casos, entre o uso e o fim a que se destina o b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regime de uso do bem público pelo particular varia em vista da espécie de bem que se tr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Bem de uso comum: Utilizado por todos do po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Bem de uso especial: Utilizado exclusivamente pela Administração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Bem dominical: Pode ser utilizados pela Administração Pública e supõe a possibilidade de uso pelos partic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16:28Z</dcterms:created>
  <dc:creator>Jonathan Niger</dc:creator>
  <dc:description/>
  <dc:language>en-US</dc:language>
  <cp:lastModifiedBy>Morgana</cp:lastModifiedBy>
  <dcterms:modified xsi:type="dcterms:W3CDTF">2010-04-14T21:05:22Z</dcterms:modified>
  <cp:revision>13</cp:revision>
  <dc:subject/>
  <dc:title>Bens Públicos</dc:title>
</cp:coreProperties>
</file>