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20A9B-2038-400F-9FAA-E76504A0D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91837-C7AF-4922-A39D-2CE7217E2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6ACB3-999F-43C8-B07A-8CB899C4E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3DB50-A7C9-4FCC-A99F-1B2E5B9A7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46740-A05F-47EC-AA47-086D263C8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AD768-CFED-48AB-AF24-5B9F81D91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4838B-50F5-490E-A84C-6CBAEDA8E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9E425-93AC-4F09-A969-7CEF0C7A1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2C2F3-5A18-40A6-A366-8C23BAC68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1ABD8-D6BB-409F-A863-D921CF1E0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670C4-4519-4F09-9C3D-C74D8FAF3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C8074-787B-40E1-AEBB-430D17AC4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FF911-E052-43CC-A936-66C265E46808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685680" y="2356920"/>
            <a:ext cx="5457960" cy="112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800" spc="-1" strike="noStrike">
                <a:solidFill>
                  <a:srgbClr val="ffffff"/>
                </a:solidFill>
                <a:latin typeface="Calibri"/>
              </a:rPr>
              <a:t>Bens Público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906720" y="3528720"/>
            <a:ext cx="449424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ffffff"/>
                </a:solidFill>
                <a:latin typeface="Calibri"/>
              </a:rPr>
              <a:t>Formação do Patrimônio  Público e uso dos Bens Públicos pelo particul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57280" y="274320"/>
            <a:ext cx="632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Uso dos Bens Públicos por particul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2357280" y="1600200"/>
            <a:ext cx="6329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Limitação e Requisito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 algn="just">
              <a:spcBef>
                <a:spcPts val="601"/>
              </a:spcBef>
              <a:buClr>
                <a:srgbClr val="000000"/>
              </a:buClr>
              <a:buFont typeface="Calibri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Calibri"/>
              </a:rPr>
              <a:t>Fruição de acordo com o princípio da Proporcionalida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 algn="just">
              <a:spcBef>
                <a:spcPts val="601"/>
              </a:spcBef>
              <a:buClr>
                <a:srgbClr val="000000"/>
              </a:buClr>
              <a:buFont typeface="Calibri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Calibri"/>
              </a:rPr>
              <a:t>Observar os padrões da adequação, necessidad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 algn="just">
              <a:spcBef>
                <a:spcPts val="601"/>
              </a:spcBef>
              <a:buClr>
                <a:srgbClr val="000000"/>
              </a:buClr>
              <a:buFont typeface="Calibri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Calibri"/>
              </a:rPr>
              <a:t>Respeito aos valores fundamentai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357280" y="274320"/>
            <a:ext cx="632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Uso dos Bens Públicos por particul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2357280" y="1600200"/>
            <a:ext cx="6329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Uso anormal ou extraordinário: </a:t>
            </a:r>
            <a:r>
              <a:rPr b="0" lang="fr-CA" sz="2400" spc="-1" strike="noStrike">
                <a:solidFill>
                  <a:srgbClr val="000000"/>
                </a:solidFill>
                <a:latin typeface="Calibri"/>
              </a:rPr>
              <a:t>Fruir do bem público de modo a excluir idêntico benefício a outrem, em situação de absoluta igualdad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Regra Geral: </a:t>
            </a:r>
            <a:r>
              <a:rPr b="0" lang="fr-CA" sz="2400" spc="-1" strike="noStrike">
                <a:solidFill>
                  <a:srgbClr val="000000"/>
                </a:solidFill>
                <a:latin typeface="Calibri"/>
              </a:rPr>
              <a:t>A Administração Pública deve ser previamente consultada quanto à pretenção de uso anormal, sob pena de ilicitud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57280" y="274320"/>
            <a:ext cx="632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Uso dos Bens Públicos por particul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2357280" y="1600200"/>
            <a:ext cx="6329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Regimes Jurídicos para o uso anormal: </a:t>
            </a:r>
            <a:r>
              <a:rPr b="0" lang="fr-CA" sz="2400" spc="-1" strike="noStrike">
                <a:solidFill>
                  <a:srgbClr val="000000"/>
                </a:solidFill>
                <a:latin typeface="Calibri"/>
              </a:rPr>
              <a:t>Existem uma pluraridade de regimes jurídicos, que variam em função de cada categoria de bem público. Há, porém, institutos genéricos: Autorização, Permissão e Concessã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357280" y="274320"/>
            <a:ext cx="632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Uso dos Bens Públicos por particul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2357280" y="1285920"/>
            <a:ext cx="632952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AUTORIZAÇÃO DE USO: 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é o ato administrativo pelo qual o Poder Público consente que determinado indivíduo utilize bem público de modo privativo, atendendo primordialmente a seu próprio interesse. É unilateral, discricionário e precári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  </a:t>
            </a: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PERMISSÃO DE USO: 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é o ato administrativo pelo qual a  Administração consente que certa pessoa utilize privativamente bem público, atendendo ao mesmo tempo aos interesses público e privado. É unilateral, discricionário e precári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57280" y="274320"/>
            <a:ext cx="632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Uso dos Bens Públicos por particul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2357280" y="1285920"/>
            <a:ext cx="632952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CONCESSÃO DE USO: 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é o contrato administrativo pelo qual o Poder Público confere a pessoa determinada o uso privativo de bem público, independentemente do maior ou menor interesse público da pessoa concedente. Pode ser remunerada ou gratuit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357280" y="274320"/>
            <a:ext cx="632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Uso dos Bens Públicos por particul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357280" y="1285920"/>
            <a:ext cx="632952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Autorização de Uso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Manifestação Públic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3" descr="1maio74a11.jpg"/>
          <p:cNvPicPr/>
          <p:nvPr/>
        </p:nvPicPr>
        <p:blipFill>
          <a:blip r:embed="rId2"/>
          <a:stretch/>
        </p:blipFill>
        <p:spPr>
          <a:xfrm>
            <a:off x="2643120" y="2071800"/>
            <a:ext cx="6357960" cy="458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357280" y="274320"/>
            <a:ext cx="632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Uso dos Bens Públicos por particul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2357280" y="1285920"/>
            <a:ext cx="632952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Permissão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Barracas de Feira Liv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3" descr="feira.jpg"/>
          <p:cNvPicPr/>
          <p:nvPr/>
        </p:nvPicPr>
        <p:blipFill>
          <a:blip r:embed="rId2"/>
          <a:stretch/>
        </p:blipFill>
        <p:spPr>
          <a:xfrm>
            <a:off x="2762280" y="2143080"/>
            <a:ext cx="6024600" cy="45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57280" y="274320"/>
            <a:ext cx="632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Uso dos Bens Públicos por particul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2357280" y="1285920"/>
            <a:ext cx="632952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CONCESSÃO DE USO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Exploração de Jazida Minera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3" descr="12695_000ecza2.jpg"/>
          <p:cNvPicPr/>
          <p:nvPr/>
        </p:nvPicPr>
        <p:blipFill>
          <a:blip r:embed="rId2"/>
          <a:stretch/>
        </p:blipFill>
        <p:spPr>
          <a:xfrm>
            <a:off x="2714760" y="2143080"/>
            <a:ext cx="6072120" cy="45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357280" y="274320"/>
            <a:ext cx="632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Uso dos Bens Públicos por particul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2357280" y="1285920"/>
            <a:ext cx="632952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Diferença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257480" indent="-457200" algn="just">
              <a:spcBef>
                <a:spcPts val="601"/>
              </a:spcBef>
              <a:buClr>
                <a:srgbClr val="000000"/>
              </a:buClr>
              <a:buFont typeface="Calibri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Concessão: É Contrato Administrativo. É Bilateral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57480" indent="-457200" algn="just">
              <a:spcBef>
                <a:spcPts val="601"/>
              </a:spcBef>
              <a:buClr>
                <a:srgbClr val="000000"/>
              </a:buClr>
              <a:buFont typeface="Calibri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Permissão e Autorização: São atos administrativos. São Unilaterai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57480" indent="-457200" algn="just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Aspecto Comum: 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A Discricionariedade é igual para todo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357280" y="274320"/>
            <a:ext cx="632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Calibri"/>
              </a:rPr>
              <a:t>Bibliografi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2357280" y="1600200"/>
            <a:ext cx="6329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FILHO, Marçal Justen. </a:t>
            </a:r>
            <a:r>
              <a:rPr b="1" lang="fr-CA" sz="3200" spc="-1" strike="noStrike">
                <a:solidFill>
                  <a:srgbClr val="000000"/>
                </a:solidFill>
                <a:latin typeface="Calibri"/>
              </a:rPr>
              <a:t>Curso de Direito Administrativo. </a:t>
            </a: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4.ed. São Paulo: Saraiva, 2009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CARVALHO FILHO, José dos Santos. </a:t>
            </a:r>
            <a:r>
              <a:rPr b="1" lang="fr-CA" sz="3200" spc="-1" strike="noStrike">
                <a:solidFill>
                  <a:srgbClr val="000000"/>
                </a:solidFill>
                <a:latin typeface="Calibri"/>
              </a:rPr>
              <a:t>Curso de Direito Administrativo. </a:t>
            </a: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20.ed. Lumen Juris, 2008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357280" y="274320"/>
            <a:ext cx="632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600" spc="-1" strike="noStrike">
                <a:solidFill>
                  <a:srgbClr val="000000"/>
                </a:solidFill>
                <a:latin typeface="Calibri"/>
              </a:rPr>
              <a:t>Formação do Patrimônio Públic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2357280" y="1571760"/>
            <a:ext cx="6329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Causas Contratuais:</a:t>
            </a:r>
            <a:r>
              <a:rPr b="0" lang="fr-CA" sz="2400" spc="-1" strike="noStrike">
                <a:solidFill>
                  <a:srgbClr val="000000"/>
                </a:solidFill>
                <a:latin typeface="Calibri"/>
              </a:rPr>
              <a:t> Decorrentes de negócio jurídico. Regulado pelo Direito Privad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Causas Naturais: </a:t>
            </a:r>
            <a:r>
              <a:rPr b="0" lang="fr-CA" sz="2400" spc="-1" strike="noStrike">
                <a:solidFill>
                  <a:srgbClr val="000000"/>
                </a:solidFill>
                <a:latin typeface="Calibri"/>
              </a:rPr>
              <a:t>Como fenômeno da naturez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Causas Jurídicas</a:t>
            </a:r>
            <a:r>
              <a:rPr b="0" lang="fr-CA" sz="2400" spc="-1" strike="noStrike">
                <a:solidFill>
                  <a:srgbClr val="000000"/>
                </a:solidFill>
                <a:latin typeface="Calibri"/>
              </a:rPr>
              <a:t>: Como aquelas que a lei consede efeito especial translativo.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357280" y="274320"/>
            <a:ext cx="632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600" spc="-1" strike="noStrike">
                <a:solidFill>
                  <a:srgbClr val="000000"/>
                </a:solidFill>
                <a:latin typeface="Calibri"/>
              </a:rPr>
              <a:t>Formação do Patrimônio Públic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2357280" y="1600200"/>
            <a:ext cx="6329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Aquisição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Calibri"/>
              </a:rPr>
              <a:t>Originária: </a:t>
            </a:r>
            <a:r>
              <a:rPr b="0" lang="fr-CA" sz="2400" spc="-1" strike="noStrike">
                <a:solidFill>
                  <a:srgbClr val="000000"/>
                </a:solidFill>
                <a:latin typeface="Calibri"/>
              </a:rPr>
              <a:t>Não há transmissão de propriedade. É direta. Ex: Acessão por aluviã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Calibri"/>
              </a:rPr>
              <a:t>Derivada: </a:t>
            </a:r>
            <a:r>
              <a:rPr b="0" lang="fr-CA" sz="2400" spc="-1" strike="noStrike">
                <a:solidFill>
                  <a:srgbClr val="000000"/>
                </a:solidFill>
                <a:latin typeface="Calibri"/>
              </a:rPr>
              <a:t>Há uma cadeia de transmissibilidade do bem. Discussão doutrinária sobre os vícios da vontade e sobre o próprio negócio jurídico de transferência do bem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357280" y="274320"/>
            <a:ext cx="632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600" spc="-1" strike="noStrike">
                <a:solidFill>
                  <a:srgbClr val="000000"/>
                </a:solidFill>
                <a:latin typeface="Calibri"/>
              </a:rPr>
              <a:t>Formação do Patrimônio Públic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357280" y="1600200"/>
            <a:ext cx="6329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Formas de aquisição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Contratos: </a:t>
            </a:r>
            <a:r>
              <a:rPr b="0" lang="fr-CA" sz="2400" spc="-1" strike="noStrike">
                <a:solidFill>
                  <a:srgbClr val="000000"/>
                </a:solidFill>
                <a:latin typeface="Calibri"/>
              </a:rPr>
              <a:t>O Estado pode celebrar contratos visando adquirir ben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Calibri"/>
              </a:rPr>
              <a:t>Usucapião: </a:t>
            </a:r>
            <a:r>
              <a:rPr b="0" lang="fr-CA" sz="2400" spc="-1" strike="noStrike">
                <a:solidFill>
                  <a:srgbClr val="000000"/>
                </a:solidFill>
                <a:latin typeface="Calibri"/>
              </a:rPr>
              <a:t>A lei civil não descartou o Estado como possível titular do direit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Calibri"/>
              </a:rPr>
              <a:t>Desapropriação: </a:t>
            </a:r>
            <a:r>
              <a:rPr b="0" lang="fr-CA" sz="2400" spc="-1" strike="noStrike">
                <a:solidFill>
                  <a:srgbClr val="000000"/>
                </a:solidFill>
                <a:latin typeface="Calibri"/>
              </a:rPr>
              <a:t>A perda da propriedade pelo proprietário privado gera a aquisição pelo expropriente que, em regra, são as pessoas de direito públic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Calibri"/>
              </a:rPr>
              <a:t>Acessão: </a:t>
            </a:r>
            <a:r>
              <a:rPr b="0" lang="fr-CA" sz="2400" spc="-1" strike="noStrike">
                <a:solidFill>
                  <a:srgbClr val="000000"/>
                </a:solidFill>
                <a:latin typeface="Calibri"/>
              </a:rPr>
              <a:t>forma de aquisição de bem imóvel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357280" y="274320"/>
            <a:ext cx="632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600" spc="-1" strike="noStrike">
                <a:solidFill>
                  <a:srgbClr val="000000"/>
                </a:solidFill>
                <a:latin typeface="Calibri"/>
              </a:rPr>
              <a:t>Formação do Patrimônio Públic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2357280" y="1600200"/>
            <a:ext cx="6329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 algn="just">
              <a:spcBef>
                <a:spcPts val="601"/>
              </a:spcBef>
              <a:buClr>
                <a:srgbClr val="000000"/>
              </a:buClr>
              <a:buFont typeface="Calibri"/>
              <a:buAutoNum type="romanU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Calibri"/>
              </a:rPr>
              <a:t>Causa Mortis:</a:t>
            </a:r>
            <a:r>
              <a:rPr b="0" lang="fr-CA" sz="2400" spc="-1" strike="noStrike">
                <a:solidFill>
                  <a:srgbClr val="000000"/>
                </a:solidFill>
                <a:latin typeface="Calibri"/>
              </a:rPr>
              <a:t> Direito subjetivo à herança. Possibilidade de receber bens por via de testament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 algn="just">
              <a:spcBef>
                <a:spcPts val="601"/>
              </a:spcBef>
              <a:buClr>
                <a:srgbClr val="000000"/>
              </a:buClr>
              <a:buFont typeface="Calibri"/>
              <a:buAutoNum type="romanU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Calibri"/>
              </a:rPr>
              <a:t>Arrematação: </a:t>
            </a:r>
            <a:r>
              <a:rPr b="0" lang="fr-CA" sz="2400" spc="-1" strike="noStrike">
                <a:solidFill>
                  <a:srgbClr val="000000"/>
                </a:solidFill>
                <a:latin typeface="Calibri"/>
              </a:rPr>
              <a:t>Não há impedimento quanto à participação de pessoas de direito públic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 algn="just">
              <a:spcBef>
                <a:spcPts val="601"/>
              </a:spcBef>
              <a:buClr>
                <a:srgbClr val="000000"/>
              </a:buClr>
              <a:buFont typeface="Calibri"/>
              <a:buAutoNum type="romanU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Calibri"/>
              </a:rPr>
              <a:t>Adjudicação: </a:t>
            </a:r>
            <a:r>
              <a:rPr b="0" lang="fr-CA" sz="2400" spc="-1" strike="noStrike">
                <a:solidFill>
                  <a:srgbClr val="000000"/>
                </a:solidFill>
                <a:latin typeface="Calibri"/>
              </a:rPr>
              <a:t>Possível, desde que ocorridos os pressuposts da lei processual ( art. 685 – A, CPC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357280" y="274320"/>
            <a:ext cx="632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Calibri"/>
              </a:rPr>
              <a:t>Uso de Bens Públic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2357280" y="1600200"/>
            <a:ext cx="6329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Regra Geral: </a:t>
            </a:r>
            <a:r>
              <a:rPr b="0" lang="fr-CA" sz="2400" spc="-1" strike="noStrike">
                <a:solidFill>
                  <a:srgbClr val="000000"/>
                </a:solidFill>
                <a:latin typeface="Calibri"/>
              </a:rPr>
              <a:t>Usados pela Pessoa Jurídica de direito público a que pertecem, independentemente de serem de uso comum, especial ou dominicais</a:t>
            </a: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Formas de uso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Calibri"/>
              </a:rPr>
              <a:t>Comu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Calibri"/>
              </a:rPr>
              <a:t>Especi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57280" y="274320"/>
            <a:ext cx="632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Calibri"/>
              </a:rPr>
              <a:t>Uso de Bens Públic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2357280" y="1600200"/>
            <a:ext cx="6329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Uso Comum – Característica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Calibri"/>
              </a:rPr>
              <a:t>Generalidade da utilização do be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Calibri"/>
              </a:rPr>
              <a:t>A indiscriminação do administrador no que toca ao uso d be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Calibri"/>
              </a:rPr>
              <a:t>A compatibilização do uso com os fins normais a que se destin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Calibri"/>
              </a:rPr>
              <a:t>A inexistência de qualquer gravame para permitir a utilizaçã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57280" y="274320"/>
            <a:ext cx="632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Calibri"/>
              </a:rPr>
              <a:t>Uso de Bens Públic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2357280" y="1600200"/>
            <a:ext cx="6329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Uso Especial – Característica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spcBef>
                <a:spcPts val="601"/>
              </a:spcBef>
              <a:buClr>
                <a:srgbClr val="000000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Calibri"/>
              </a:rPr>
              <a:t>A exclusividade do uso aos que pagam a remuneração ou aos que recebem consentimento estatal para o us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spcBef>
                <a:spcPts val="601"/>
              </a:spcBef>
              <a:buClr>
                <a:srgbClr val="000000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Calibri"/>
              </a:rPr>
              <a:t>A onerosidade, nos casos de uso especial remunerad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spcBef>
                <a:spcPts val="601"/>
              </a:spcBef>
              <a:buClr>
                <a:srgbClr val="000000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Calibri"/>
              </a:rPr>
              <a:t>A privatividade, nos casos de uso especial privativ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spcBef>
                <a:spcPts val="601"/>
              </a:spcBef>
              <a:buClr>
                <a:srgbClr val="000000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Calibri"/>
              </a:rPr>
              <a:t>A inexistência de compatibilidade estrita, em certos casos, entre o uso e o fim a que se destina o bem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357280" y="274320"/>
            <a:ext cx="632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Uso dos Bens Públicos por particul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357280" y="1600200"/>
            <a:ext cx="6329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Regra Geral: </a:t>
            </a:r>
            <a:r>
              <a:rPr b="0" lang="fr-CA" sz="2400" spc="-1" strike="noStrike">
                <a:solidFill>
                  <a:srgbClr val="000000"/>
                </a:solidFill>
                <a:latin typeface="Calibri"/>
              </a:rPr>
              <a:t>O regime de uso do bem público pelo particular varia em vista da espécie de bem que se trat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 algn="just">
              <a:spcBef>
                <a:spcPts val="601"/>
              </a:spcBef>
              <a:buClr>
                <a:srgbClr val="000000"/>
              </a:buClr>
              <a:buFont typeface="Calibri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Calibri"/>
              </a:rPr>
              <a:t>Bem de uso comum: Utilizado por todos do pov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 algn="just">
              <a:spcBef>
                <a:spcPts val="601"/>
              </a:spcBef>
              <a:buClr>
                <a:srgbClr val="000000"/>
              </a:buClr>
              <a:buFont typeface="Calibri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Calibri"/>
              </a:rPr>
              <a:t>Bem de uso especial: Utilizado exclusivamente pela Administração Públic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 algn="just">
              <a:spcBef>
                <a:spcPts val="601"/>
              </a:spcBef>
              <a:buClr>
                <a:srgbClr val="000000"/>
              </a:buClr>
              <a:buFont typeface="Calibri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Calibri"/>
              </a:rPr>
              <a:t>Bem dominical: Pode ser utilizados pela Administração Pública e supõe a possibilidade de uso pelos particular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4T14:16:28Z</dcterms:created>
  <dc:creator>Jonathan Niger</dc:creator>
  <dc:description/>
  <dc:language>en-US</dc:language>
  <cp:lastModifiedBy>Morgana</cp:lastModifiedBy>
  <dcterms:modified xsi:type="dcterms:W3CDTF">2010-04-14T21:05:22Z</dcterms:modified>
  <cp:revision>13</cp:revision>
  <dc:subject/>
  <dc:title>Bens Públicos</dc:title>
</cp:coreProperties>
</file>