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orinho%20-%2004%20-%20Vou%20Vivendo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320" y="-388944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-5965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0800000">
            <a:off x="0" y="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orinho%20-%2004%20-%20Vou%20Vivendo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284720" y="486900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LIGUE O SOM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704840" y="595008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00"/>
                </a:solidFill>
                <a:latin typeface="Times New Roman"/>
              </a:rPr>
              <a:t>Clique para pas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orinho%20-%2004%20-%20Vou%20Viven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15920"/>
            <a:ext cx="8748720" cy="55940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morte para vocês é um drama cristão numa cama, no ataque do coração... A morte para nós é o presunto diário, desovado numa vala... Vocês intelectuais não falavam em luta de classe, em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SEJA MARGINAL, SEJA HERÓI?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ois é: chegamos, somos nós! Há,há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VOCÊS NUNCA ESPERAVAM ESSES GUERREIROS DO PÓ, NÉ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u sou inteligente. Eu leio, li 3000 livros e leio Dantes... Ma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MEUS SOLDAD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todos são estranhas anomalias do desenvolvimento torto desse paí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3440" y="128520"/>
            <a:ext cx="8872560" cy="58014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Não há mais proletários, ou infelizes ou explorados. Há uma terceira cois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CRESCENDO AÍ FORA, CULTIVADO NA LAMA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se educando no absolut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ANALFABETISMO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se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DIPLOMANDO NAS CADEIAS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como um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MONSTRO ALIEN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escondido nas brechas da cida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Já surgiu uma nova linguagem. Vocês não ouvem as gravações feitas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COM AUTORIZAÇÃO DA JUSTICA”?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Pois é. É outra língu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Estamos diante de uma espécie de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PÓS-MISÉRIA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. Isso. 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PÓS-MISÉRIA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gera um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NOVA CULTURA ASSASSINA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ajudada pela tecnologia, satélites, celulares, internet, armas modernas. É a merda com chips, com megabytes. Meus comandados são um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MUTAÇÃO DA ESPÉCIE SOCIAL”,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sã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FUNGOS DE UM GRANDE ERRO SUJO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600" y="1257480"/>
            <a:ext cx="8637480" cy="56275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MARCOLA RESPONDE: GRANA.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A gente hoje tem. Você acha que quem tem U$ 400 MILHÕES de dólares como 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BEIRA MAR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não manda? Com 40 MILHÕES a prisão é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UM HOTEL, UM ESCRITÓRIO...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Qual 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POLÍCIA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que vai queimar ess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MINA DE OURO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tá ligado? Nós somos uma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EMPRESA MODERNA”,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RICA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. Se funcionári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VACILA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, é despedido e jogado n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MICROONDAS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... Há... há... Vocês são um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ESTADO QUEBRADO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dominado por incompetentes. Nós temos métodos ágeis de gestão. Vocês são lentos e burocrático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" y="115920"/>
            <a:ext cx="8637480" cy="100944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O repórter volta a perguntar: - O que mudou nas perifer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6000" y="65160"/>
            <a:ext cx="8820000" cy="67086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LUTAMOS EM TERRENO PRÓPRIO”. Vocês,  em terra estranh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NÃO TEMEMOS A MORTE”. “VOCÊS MORREM DE MEDO”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SOMOS BEM ARMADOS. “VOCÊS VÃO DE TRÊS-OITÃO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ESTAMOS SEMPRE NO ATAQUE. “VOCÊS NA DEFESA”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CÊS TEM MANIA DE HUMANISMO. NÓS SOMOS CRUÉIS, SEM PIEDA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CÊS NOS TRANSFORMAM EM SUPERSTARS DO CRIME. NÓS FAZEMOS VOCÊS DE PALHAÇOS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6324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344520"/>
            <a:ext cx="8964720" cy="3328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somos ajudados pela população das favelas, por medo ou por amor. Vocês são odiado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cês são regionais provincianos. Nossas armas e produtos vêm de fora, somos globai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ós não esquecemos vocês, são nossos fregueses. Vocês  nos esquecem assim que passa o surto da violê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572000"/>
            <a:ext cx="8640720" cy="180972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O repórter meio incrédulo pelo que ouve pergu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Futura Md BT"/>
              </a:rPr>
              <a:t>- MAS O QUE DEVEMOS FAZ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6880" y="266760"/>
            <a:ext cx="8637840" cy="633096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Com aquele ar de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SUPERIORIDADE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veja a resposta irônica,  que o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MARCOLA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dá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u dar um toque, mesmo contra mim. Peguem os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BARÕES DO PÓ”.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Tem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DEPUTADO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 SENADOR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tem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GENERAIS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tem até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EX-PRESIDENTES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do Paraguai nas paradas de cocaína e armas. Mas quem vai fazer isso? O Exército ? Com que grana? Eles não tem dinheiro nem para o rancho dos recrutas...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O PAÍS ESTÁ QUEBRADO !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Sustentando um Estado morto a juros de 20% ao ano, e o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LULA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ainda aumenta os gastos públicos,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EMPREGANDO 40 MIL PICARETAS”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2920" y="187200"/>
            <a:ext cx="9001080" cy="51134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Você acha que o Exército vai lutar contra o P.C.C. e o C.V.?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Estou lendo 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KLAUSEWITZ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,  “sobre a guerra”. 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Não há perspectiva de êxito... Nós somos formigas devoradoras, escondidas nas brechas... A gente já tem até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FOGUETES ANTITANQUES”...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SE BOBEAR, VÃO ROLAR UNS “STINGERS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por aí... Para acabar com a gente só jogand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BOMBA ATÔMICA”  NAS FAVELAS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... Aliás, a gente acaba arranjando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UMAZINHAS ”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daquelas bombas sujas mesmo... Já pensou? </a:t>
            </a:r>
            <a:r>
              <a:rPr b="0" lang="pt-BR" sz="2300" spc="-1" strike="noStrike">
                <a:solidFill>
                  <a:srgbClr val="000099"/>
                </a:solidFill>
                <a:latin typeface="Arial Black"/>
              </a:rPr>
              <a:t>“IPANEMA RADIOATIVA”?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5556240"/>
            <a:ext cx="8637480" cy="1112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cc00ff">
                  <a:alpha val="80392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Mais uma vez o repórter intervém:              - Mas ... Não haveria outra soluçã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5600" y="1724040"/>
            <a:ext cx="8637480" cy="494496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ão há mais normalidade alguma. Vocês precisam fazer um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AUTOCRÍTICA DA PRÓPRIA INCOMPETÊNCIA”.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Mas vou ser franco...N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BOA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... N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MORAL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.. Estamos todos no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CENTRO DO INSOLÚVEL”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só que com uma diferença muito grande,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NÓS VIVEMOS DELE”...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e vocês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NÃO TEM SAÍDA. SÓ A MERDA 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E NÓS JÁ TRABALHAMOS DENTRO DE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Olha aqui,  mano, não há SOLUÇÃO. Sabem porque?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PORQUE VOCÊS NÃO ENTENDEM A EXTENSÃO DO PROBLEM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9000"/>
            <a:ext cx="8637480" cy="14065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E o MARCOLA responde: - Vocês só podem chegar a algum sucesso se desistirem de defender 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NORMALIDADE”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216000"/>
            <a:ext cx="8997840" cy="14126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Como escreveu o divino Dante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Black"/>
              </a:rPr>
              <a:t>Lasciate ogna speranza voi che entrate!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637480" cy="865080"/>
          </a:xfrm>
          <a:prstGeom prst="rect">
            <a:avLst/>
          </a:prstGeom>
          <a:gradFill rotWithShape="0">
            <a:gsLst>
              <a:gs pos="0">
                <a:srgbClr val="ccff99">
                  <a:alpha val="60392"/>
                </a:srgbClr>
              </a:gs>
              <a:gs pos="50000">
                <a:srgbClr val="e4feca"/>
              </a:gs>
              <a:gs pos="100000">
                <a:srgbClr val="ccff99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9966"/>
                </a:solidFill>
                <a:latin typeface="Arial Black"/>
              </a:rPr>
              <a:t>PERCAM TODAS AS ESPERANÇAS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642160" cy="2519640"/>
          </a:xfrm>
          <a:prstGeom prst="rect">
            <a:avLst/>
          </a:prstGeom>
          <a:gradFill rotWithShape="0">
            <a:gsLst>
              <a:gs pos="0">
                <a:srgbClr val="ff7c80">
                  <a:alpha val="55294"/>
                </a:srgbClr>
              </a:gs>
              <a:gs pos="50000">
                <a:srgbClr val="a95255"/>
              </a:gs>
              <a:gs pos="100000">
                <a:srgbClr val="ff7c80">
                  <a:alpha val="55294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Estamos todos 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INFERN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84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OU SE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858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 A PERGUNTA QUE NÃO QUER SE CAL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2767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Verdana"/>
              </a:rPr>
              <a:t>E AGORA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00"/>
                            </p:stCondLst>
                            <p:childTnLst>
                              <p:par>
                                <p:cTn id="2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3880"/>
            <a:ext cx="914400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843120"/>
            <a:ext cx="8637480" cy="71892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Uma “LIÇÃO” para nós brasil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5600" y="2089080"/>
            <a:ext cx="8637480" cy="4364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 que vocês vão ver, é uma transcrição de uma entrevista que o marginal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MARCOLA’’,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concedeu a um jornalista  de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O GLOBO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onde uma análise estarrecedora do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NOVOS TEMPOS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se faz presente na vida de todos os brasil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lo depoimento do marginal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MARCOLA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não há solução, poi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NÃO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conhecemos nem os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424400"/>
            <a:ext cx="84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rmatação e  Criação: Antonio Carlos Corr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Imagens :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Texto: Extraído do Jornal “O GLOB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Música: Vou Vivendo - Chouri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89000"/>
            <a:ext cx="8820360" cy="48916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staria de chamar a atenção de vocês, para o fato desta entrevista ter sido publicada em um dos maiores jornais desse país, e que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TODAS AS AUTORIDADES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tomaram conhecimento da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GRAVIDADE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o assu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 o que estamos vendo... Exatamente o que o marginal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MARCOLA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rofetizou... e o mais estarrecedor, que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NAD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 concreto esteja sendo feito... vide a atitude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IRRESPONSÁV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o Governador de São Paulo, negando-se a receber ajuda do Governo Fede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360" y="6111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AGORA VEJAM A ENTREVIST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052640"/>
            <a:ext cx="87631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Arial Black"/>
              </a:rPr>
              <a:t>ESTAM0S TOD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Arial Black"/>
              </a:rPr>
              <a:t>N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 Black"/>
              </a:rPr>
              <a:t>INFERNO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0280"/>
            <a:ext cx="8351640" cy="60336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O repórter pergunta: - Você é do P.C.C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440" y="1052640"/>
            <a:ext cx="8386560" cy="457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COLA resp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u sou mais do que isso. Sou o sinal do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NOVOS TEMPOS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. Eu era pobre e “invisível”. Vocês nunca me olharam durante dé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lha, antigamente era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MOLE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solver o problema da miséria, o diagnóstico era óbvio: migração rural, desnível de renda, favelas,  ralas periferias, etc.,etc... E a solução nunca vinha. E o que fizera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11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BSOLUTAMENTE  NAD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1000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33360"/>
            <a:ext cx="8101080" cy="57844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gora te pergunto: O governo federal alguma vez alocou uma verba para nó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ão, só aparecíamos nos desabamentos dos morros ou nas músicas românticas, sobre a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BELEZA DOS MORROS AO AMANHECER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essas coisas... Agora, estamo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RICOS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com a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“MULTINACIONAL DO PÓ”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 E vocês, estão morrendo de me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...“NÓS SOMOS O INÍCIO TARDIO DE VOSSA CONSCIÊNCIA SOCIAL”.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u? Sou culto... Leio Dante na pris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820360" cy="101592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O repórter contra-argumenta: - Mas, a solução seri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557360"/>
            <a:ext cx="8785440" cy="423396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MARCOL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contra ata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lução? Não há mais solução, cara... A própria idéia de solução já é um grande erro. Já olhou o tamanho das 560 favelas do Rio de Janeiro? Já andou de helicóptero por cima da periferia de São Paulo?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OLUÇÃO COMO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ó viria com muitos bilhões de dólares gastos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ORGANIZADAMENT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com um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GOVERNO DE ALTO NÍV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uma imensa vontade política, crescimento econômico, uma verdadeira revolução na educação, urbanização geral, etc.,etc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5920"/>
            <a:ext cx="9140760" cy="61754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E tudo isso teria que ser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SOB A BATUTA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quase de um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TIRANIA ESCLARECIDA”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, que pulasse por cima da paralisia burocrática secular, que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PASSASSE POR CIMA DO LEGISLATIVO CÚMPLICE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(ou você acha que os 287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SANGUESSUGAS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vão agir? Se  bobear,  vão até roubar o P.C.C.). E do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JUDICIÁRIO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que impede puniçõ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Teria de haver uma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REFORMA RADICAL”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do processo penal do País... Teria de haver comunicação e inteligência entre policiais municipais, estaduais e federais... (veja bem, nós até fazemos “CONFERENCE CALLS” entre PRESÍDIOS...). E tudo isso custaria BILHÕES DE DÓLARES e implicaria numa mudança PSICOSSOCIAL profunda na estrutura política do país.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Ou sej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6237360"/>
            <a:ext cx="853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Black"/>
              </a:rPr>
              <a:t>É IMPOSSÍVEL ... NÃO HÁ SOLUÇÃO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8640720" cy="1081080"/>
          </a:xfrm>
          <a:prstGeom prst="rect">
            <a:avLst/>
          </a:prstGeom>
          <a:gradFill rotWithShape="0">
            <a:gsLst>
              <a:gs pos="0">
                <a:srgbClr val="cc00ff">
                  <a:alpha val="80392"/>
                </a:srgbClr>
              </a:gs>
              <a:gs pos="50000">
                <a:srgbClr val="ffccff"/>
              </a:gs>
              <a:gs pos="100000">
                <a:srgbClr val="cc00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 Md BT"/>
              </a:rPr>
              <a:t>O repórter faz outra pergunta: - Você não tem medo de morr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1463760"/>
            <a:ext cx="8750520" cy="48798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E mais uma vez o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MARCOLA”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nos surpreen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cês é que tem medo de morrer,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EU NÃO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. Aliás, aqui na cadeia vocês não podem entrar e me matar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MAS EU POSSO MANDAR MATAR VOCÊS LÁ FORA...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Nós somos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HOMENS-BOMB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a favela tem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CEM MIL HOMENS-BOMBAS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... Estamos no centro do insolúvel, mesmo!.. Vocês no bem e eu no mal e, no meio  </a:t>
            </a:r>
            <a:r>
              <a:rPr b="0" lang="en-US" sz="2300" spc="-1" strike="noStrike">
                <a:solidFill>
                  <a:srgbClr val="000099"/>
                </a:solidFill>
                <a:latin typeface="Arial Black"/>
              </a:rPr>
              <a:t>“A FRONTEIRA DA MORTE”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a única fronteir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Sabe, já somos uma outra espécie, já somos outros bichos, diferentes de você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io Carlos Correia</dc:creator>
  <dc:description>Análise estarrecedora daentrevista com o MARCOLA</dc:description>
  <dc:language>en-US</dc:language>
  <cp:lastModifiedBy>Katia Gonzaga Rodrigues</cp:lastModifiedBy>
  <dcterms:modified xsi:type="dcterms:W3CDTF">2007-03-21T17:54:19Z</dcterms:modified>
  <cp:revision>25</cp:revision>
  <dc:subject>ESTAMOS NO INFERNO !</dc:subject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TAMOS NO INFERNO">
    <vt:lpwstr>F</vt:lpwstr>
  </property>
</Properties>
</file>