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5CB-7324-4ACF-A533-80810493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0C6-3C7E-457C-AD7A-47402420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BC4-F5E1-4D1E-8E6F-1AF3E6B5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189-80E6-4AE5-B24F-CE1B9ADD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414-19E7-4B85-8DD3-8E6796F2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60C-1FED-4652-9CF2-A4FC257C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77A-6DFB-4498-B5D2-84EFB58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4ED-8BCF-4EA9-8010-CE737310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D1B-C797-4B1F-BA82-9B6C1CA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266-88AD-4EFA-A803-81762C0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59F-3622-48A0-8FC9-A468CA0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2E7-0E10-4964-A753-240DD53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9F9E-9411-4D89-B827-7F117E255F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Vej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quem tem memória cur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/08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/01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/02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/05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1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8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6/07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8/01/2003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6/07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/07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7/07/05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6198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3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7/09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/09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/10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/01/03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2/11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/01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198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8/03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/03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5/04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/04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5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/06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/07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198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7/09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/08/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e b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ulgue esse e-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 sua 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9/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/02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3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/03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/08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23:22:20Z</dcterms:created>
  <dc:creator>Windows</dc:creator>
  <dc:description/>
  <dc:language>en-US</dc:language>
  <cp:lastModifiedBy>User</cp:lastModifiedBy>
  <dcterms:modified xsi:type="dcterms:W3CDTF">2008-10-27T17:49:39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7136425</vt:r8>
  </property>
  <property fmtid="{D5CDD505-2E9C-101B-9397-08002B2CF9AE}" pid="3" name="_AuthorEmail">
    <vt:lpwstr>daniel.moya@click21.com.br</vt:lpwstr>
  </property>
  <property fmtid="{D5CDD505-2E9C-101B-9397-08002B2CF9AE}" pid="4" name="_AuthorEmailDisplayName">
    <vt:lpwstr>Daniel</vt:lpwstr>
  </property>
  <property fmtid="{D5CDD505-2E9C-101B-9397-08002B2CF9AE}" pid="5" name="_EmailSubject">
    <vt:lpwstr/>
  </property>
  <property fmtid="{D5CDD505-2E9C-101B-9397-08002B2CF9AE}" pid="6" name="_PreviousAdHocReviewCycleID">
    <vt:r8>-1962317448</vt:r8>
  </property>
  <property fmtid="{D5CDD505-2E9C-101B-9397-08002B2CF9AE}" pid="7" name="_ReviewingToolsShownOnce">
    <vt:lpwstr/>
  </property>
</Properties>
</file>