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11E-F411-4709-AD5E-2E32478E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7AD-7D01-48D7-8061-CC759D52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3A9-3042-4B3F-A7F6-ADC4D777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B59-CF18-49F5-BAC4-1497CEB8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2CE-61D6-4EA8-BD8B-D4EE0ABD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9AD-F150-4107-9B2C-99F848CA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48C-207F-4E68-8788-2F45EEE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61B-CD95-4E1A-98A7-FD527707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921-8FC8-44AA-8398-48EBE588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719-C1AC-4DBD-9FD1-814DBCAA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386-6CF6-4594-8EEC-E74FA051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8FD-E7BE-4C12-AFD8-67A6768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14D8-7FA9-47FF-93DE-3D28AFD4763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Veja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quem tem memória cur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/08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/01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/02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/05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1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8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2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/06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6/07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8/01/2003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6/07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/07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7/07/05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6198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3/08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/08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/08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/08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7/09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/09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/10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/01/03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2/11/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/01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198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8/03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9/03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5/04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/04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/05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/06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/07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6198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7/09/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/08/0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se b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ulgue esse e-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ça sua 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/09/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/02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/03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/03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36194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/08/0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3619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23:22:20Z</dcterms:created>
  <dc:creator>Windows</dc:creator>
  <dc:description/>
  <dc:language>en-US</dc:language>
  <cp:lastModifiedBy>User</cp:lastModifiedBy>
  <dcterms:modified xsi:type="dcterms:W3CDTF">2008-10-27T17:49:39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7136425</vt:r8>
  </property>
  <property fmtid="{D5CDD505-2E9C-101B-9397-08002B2CF9AE}" pid="3" name="_AuthorEmail">
    <vt:lpwstr>daniel.moya@click21.com.br</vt:lpwstr>
  </property>
  <property fmtid="{D5CDD505-2E9C-101B-9397-08002B2CF9AE}" pid="4" name="_AuthorEmailDisplayName">
    <vt:lpwstr>Daniel</vt:lpwstr>
  </property>
  <property fmtid="{D5CDD505-2E9C-101B-9397-08002B2CF9AE}" pid="5" name="_EmailSubject">
    <vt:lpwstr/>
  </property>
  <property fmtid="{D5CDD505-2E9C-101B-9397-08002B2CF9AE}" pid="6" name="_PreviousAdHocReviewCycleID">
    <vt:r8>-1962317448</vt:r8>
  </property>
  <property fmtid="{D5CDD505-2E9C-101B-9397-08002B2CF9AE}" pid="7" name="_ReviewingToolsShownOnce">
    <vt:lpwstr/>
  </property>
</Properties>
</file>