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5E53-6877-440C-8D40-D1AF9FF57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91DC-8221-421F-B320-6895AC38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BD7F-B970-4195-AF7F-1A808DDB7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C561-6008-498C-BB62-A9F452E15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126B-563E-4A84-9C55-CABBCED0F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DE7B-CF7D-460B-B455-4EFF42BA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7541-E564-4313-944C-7545EB12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6465-896D-4BD1-995E-45F1B807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7B05-D068-4C7D-B459-F883B0BD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97A8-1EF0-4BF9-8494-E7F1BFB1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AF76-B032-48C8-A2E7-8A409D8B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A2FC-9F83-433F-A646-8860BEB3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430B-13EE-4A81-AE8D-999759C8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54BD-8FC1-408C-AF61-B2CB9BA0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9DD6-50ED-4D7D-B861-41EB5744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C125-4BEF-416C-832E-78DAF11A3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2A01-9541-4EA5-9512-4DCBB846C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E6EE-E8DF-47F1-ACF5-628C2B74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1EC4-0E5A-4E0A-B48B-F39851AE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D1A8-EF62-49E8-AEDF-82AC8493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0236-AF1A-4AE9-BFDD-858F545A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9B90-8715-408C-9B20-D7BF5C26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4525-2C28-4007-BA45-5CE8ED99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A8F0-7285-40B5-BB4F-96EDE944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FEF5-08AF-41AE-8AB5-8DCDA204A1C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7E65-9141-41DD-A411-F6CEA55A393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280" y="764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66"/>
                </a:solidFill>
                <a:latin typeface="Arial"/>
              </a:rPr>
              <a:t>RESPONSABILIDADE CIVIL EXTRACONTRATUAL DO ESTADO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Profa. Morgana Bellazz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66"/>
                </a:solidFill>
                <a:latin typeface="Arial"/>
              </a:rPr>
              <a:t>RESPONSABILIDADE CIVIL EXTRACONTRATUAL DO ESTADO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ós essas explicações como você decidiria os seguintes caso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66"/>
                </a:solidFill>
                <a:latin typeface="Arial"/>
              </a:rPr>
              <a:t>RESPONSABILIDADE CIVIL EXTRACONTRATUAL DO ESTADO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Sugestões bibliográfica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BANDEIRA DE MELLO, Celso Antonio. Curso de Direito Administrativ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ARVALHO FILHO, José dos Santos. Manual de Direito Administrativ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DI PIETRO, Maria Sylvia Zanella. Direito Administrativo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JUSTEN FILHO, Marçal. Curso de Direito Administrativ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66"/>
                </a:solidFill>
                <a:latin typeface="Arial"/>
              </a:rPr>
              <a:t>RESPONSABILIDADE CIVIL EXTRACONTRATUAL DO ESTADO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todologia da exposiçã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eúdo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66"/>
                </a:solidFill>
                <a:latin typeface="Arial"/>
              </a:rPr>
              <a:t>RESPONSABILIDADE CIVIL EXTRACONTRATUAL DO ESTADO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 que é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de-se dizer que, hoje, é consenso universal e pacífico entre os povos e as legislações o dever do Estado ressarcir as vítimas de seus comportamentos danosos que lhes tenham causado prejuízo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66"/>
                </a:solidFill>
                <a:latin typeface="Arial"/>
              </a:rPr>
              <a:t>RESPONSABILIDADE CIVIL EXTRACONTRATUAL DO ESTADO</a:t>
            </a:r>
            <a:endParaRPr b="1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o evoluiu historicamente a responsabilidade do estado? Quais as teorias mais relevant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oria da Irresponsabilida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oria da Responsabilidade civi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oria da Responsabilidade Objeti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66"/>
                </a:solidFill>
                <a:latin typeface="Arial"/>
              </a:rPr>
              <a:t>RESPONSABILIDADE CIVIL EXTRACONTRATUAL DO ESTADO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o é a responsabilidade civil do Estado no Brasil de acordo com a legislação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l o pressuposto que deve existir impreterivelmente para que haja a responsabilidade do Estado?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66"/>
                </a:solidFill>
                <a:latin typeface="Arial"/>
              </a:rPr>
              <a:t>RESPONSABILIDADE CIVIL EXTRACONTRATUAL DO ESTADO</a:t>
            </a:r>
            <a:endParaRPr b="1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 que é o nexo causal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66"/>
                </a:solidFill>
                <a:latin typeface="Arial"/>
              </a:rPr>
              <a:t>RESPONSABILIDADE CIVIL EXTRACONTRATUAL DO ESTADO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 Estado brasileiro é um segurador universal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 Estado deve responder por qualquer dano que ocorra aos indivíduos que nasçam ou vivam no paí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66"/>
                </a:solidFill>
                <a:latin typeface="Arial"/>
              </a:rPr>
              <a:t>RESPONSABILIDADE CIVIL EXTRACONTRATUAL DO ESTADO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tão, diante das respostas às perguntas anteriores quando a responsabilidade civil do Estado deve ser excluída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nos causados pela naturez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nos causados por terceir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ulpa exclusiva da víti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66"/>
                </a:solidFill>
                <a:latin typeface="Arial"/>
              </a:rPr>
              <a:t>RESPONSABILIDADE CIVIL EXTRACONTRATUAL DO ESTADO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o vem decidindo a jurisprudência brasileira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20:50:48Z</dcterms:created>
  <dc:creator>Morgana</dc:creator>
  <dc:description/>
  <dc:language>en-US</dc:language>
  <cp:lastModifiedBy>Morgana</cp:lastModifiedBy>
  <dcterms:modified xsi:type="dcterms:W3CDTF">2009-05-20T14:33:16Z</dcterms:modified>
  <cp:revision>8</cp:revision>
  <dc:subject/>
  <dc:title>          RESPONSABILIDADE CIVIL EXTRACONTRATUAL DO ESTADO</dc:title>
</cp:coreProperties>
</file>