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DE8-F61F-4CA4-B5C4-81F5A1FD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8C0-8098-4F3B-A9E0-82F53149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415-94C5-4A8C-A53A-39ED7E0E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B49-65CF-4906-8F4D-3F6FF06C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0143-3949-42D1-8017-A5F7E0F5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DFB4-473B-44AD-B49D-AA663851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2742-12B3-4508-8756-4B959DB6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CCE6-7FD7-454E-9355-A251EABB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6871-535B-4DEE-B8D5-2E1C947F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7335-0BDA-4E46-B898-B2CF3F82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2660-8095-481A-BB44-FEB69B2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499-9F4B-426C-883C-DA339184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C2FE-02EF-499C-A01D-D9B35281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F0A1-AE44-45FD-89FD-DAD52C0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083E-A2FA-4ADA-B8DB-4FD4E655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D3BC-8919-4D19-B20F-F5DE90F5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202B-67E1-45B8-BFE9-9D4952C8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1C6-6621-498E-A6A4-6697A32F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84F-AB4C-44FE-A363-28835D3D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F55-AB3C-472F-9F14-12651E1B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053-267B-48C0-B1C9-A9DD6680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EEC-EFF3-448E-8B69-4F26ADAC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455-8E3B-4B06-8828-BAB540F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148-E647-4B92-9598-B5941B04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D253-D62C-428A-BA0D-580991B1600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6A1D-A831-4175-A3FC-5BADA3E6926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fa. Morgana Bellazz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ós essas explicações como você decidiria os seguintes cas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ugestões bibliográfic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BANDEIRA DE MELLO, Celso Antonio. Curso de Direito Administrativ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ARVALHO FILHO, José dos Santos. Manual de Direito Administrativ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 PIETRO, Maria Sylvia Zanella. Direito Administrativ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JUSTEN FILHO, Marçal. Curso de Direito Administrativ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odologia da exposiç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údo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 que é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e-se dizer que, hoje, é consenso universal e pacífico entre os povos e as legislações o dever do Estado ressarcir as vítimas de seus comportamentos danosos que lhes tenham causado prejuíz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evoluiu historicamente a responsabilidade do estado? Quais as teorias mais relevant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oria da Irresponsabilid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oria da Responsabilidade civ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oria da Responsabilidade Obje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é a responsabilidade civil do Estado no Brasil de acordo com a legislaçã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 o pressuposto que deve existir impreterivelmente para que haja a responsabilidade do Estado?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 que é o nexo caus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 Estado brasileiro é um segurador univers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 Estado deve responder por qualquer dano que ocorra aos indivíduos que nasçam ou vivam no paí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ão, diante das respostas às perguntas anteriores quando a responsabilidade civil do Estado deve ser excluíd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os causados pela nature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os causados por tercei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lpa exclusiva da vít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RESPONSABILIDADE CIVIL EXTRACONTRATUAL DO ESTAD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vem decidindo a jurisprudência brasilei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0:50:48Z</dcterms:created>
  <dc:creator>Morgana</dc:creator>
  <dc:description/>
  <dc:language>en-US</dc:language>
  <cp:lastModifiedBy>Morgana</cp:lastModifiedBy>
  <dcterms:modified xsi:type="dcterms:W3CDTF">2009-05-20T14:33:16Z</dcterms:modified>
  <cp:revision>8</cp:revision>
  <dc:subject/>
  <dc:title>          RESPONSABILIDADE CIVIL EXTRACONTRATUAL DO ESTADO</dc:title>
</cp:coreProperties>
</file>