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9F08-3BED-4745-B2E6-B36F3FD1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A8FB-3CE4-4B3B-B1BF-F24A0E2EDE5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D4C8-EC43-4D4A-B53D-DF8DB78D173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0E2E-21AF-4413-9483-7FA9B9CB28B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BAF6-E847-4340-9DE9-3B9DAF18609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7D1C-837E-4F10-AD11-5D805072991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1261-7F9B-42AF-B4DE-EF5EFEDD798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972-B0FF-45F8-B132-73D556DFB20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62DE-6571-4B3D-9405-1B78E0A46BD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8F97-0E88-4BF5-846F-7BF4D6A15A1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821F-7E19-4056-BBE2-1907B55F355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D758-BCC4-43F2-9F15-F7F53EC91F1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A8D-1E45-48B2-9055-DE781DF6AD8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944-8983-4B01-AC72-75E355FAAE8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149D-13A9-479A-A7FF-B50EE8E4997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8308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9816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8308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9816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604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8308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8160" y="213372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8308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898160" y="4465440"/>
            <a:ext cx="21092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604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25360" y="446544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375920"/>
            <a:ext cx="604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5360" y="2133720"/>
            <a:ext cx="31971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465440"/>
            <a:ext cx="65516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f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2133720"/>
            <a:ext cx="655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f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4581000"/>
            <a:ext cx="50864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80808"/>
                </a:solidFill>
                <a:latin typeface="Tahoma"/>
              </a:rPr>
              <a:t>Arrendamento Mercanti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920" y="5000400"/>
            <a:ext cx="17143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Bruno Albuquerque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Cecília Dantas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Felipe Freitas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Pollyana Sales</a:t>
            </a:r>
            <a:endParaRPr b="0" lang="en-US" sz="12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357960" y="4857840"/>
            <a:ext cx="1157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80808"/>
                </a:solidFill>
                <a:latin typeface="Tahoma"/>
              </a:rPr>
              <a:t>Leasi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Meio-quadro 4"/>
          <p:cNvSpPr/>
          <p:nvPr/>
        </p:nvSpPr>
        <p:spPr>
          <a:xfrm>
            <a:off x="71280" y="4857840"/>
            <a:ext cx="357480" cy="928440"/>
          </a:xfrm>
          <a:custGeom>
            <a:avLst/>
            <a:gdLst/>
            <a:ahLst/>
            <a:rect l="l" t="t" r="r" b="b"/>
            <a:pathLst>
              <a:path w="357187" h="928688">
                <a:moveTo>
                  <a:pt x="0" y="0"/>
                </a:moveTo>
                <a:lnTo>
                  <a:pt x="357187" y="0"/>
                </a:lnTo>
                <a:lnTo>
                  <a:pt x="311394" y="119061"/>
                </a:lnTo>
                <a:lnTo>
                  <a:pt x="119061" y="119061"/>
                </a:lnTo>
                <a:lnTo>
                  <a:pt x="119061" y="619128"/>
                </a:lnTo>
                <a:lnTo>
                  <a:pt x="0" y="928688"/>
                </a:lnTo>
                <a:close/>
              </a:path>
            </a:pathLst>
          </a:cu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7. Leasing x Alienação Fiduciári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5600" y="857160"/>
            <a:ext cx="352116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leasing é, grosso modo, uma          locação com opção final de compra. Nem sempre, pois, o arrendatário quer adquirir o bem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forma de cobrança do devedor em caso de inadimplemento, no leasing, é necessária a ação de reintegração de posse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429160" y="3429000"/>
            <a:ext cx="352116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alienação fiduciária em garantia é um contrato de aquisição de um bem, ou seja, ele instrumentaliza uma venda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brança ao devedor inadimplente se faz por uso da busca de apreensão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Seta para a esquerda e para cima 10"/>
          <p:cNvSpPr/>
          <p:nvPr/>
        </p:nvSpPr>
        <p:spPr>
          <a:xfrm rot="5400000">
            <a:off x="2964600" y="4893480"/>
            <a:ext cx="1643040" cy="714240"/>
          </a:xfrm>
          <a:custGeom>
            <a:avLst/>
            <a:gdLst>
              <a:gd name="textAreaLeft" fmla="*/ 89280 w 1643040"/>
              <a:gd name="textAreaRight" fmla="*/ 1464480 w 1643040"/>
              <a:gd name="textAreaTop" fmla="*/ 446400 h 714240"/>
              <a:gd name="textAreaBottom" fmla="*/ 624960 h 714240"/>
            </a:gdLst>
            <a:ahLst/>
            <a:rect l="textAreaLeft" t="textAreaTop" r="textAreaRight" b="textAreaBottom"/>
            <a:pathLst>
              <a:path w="1643063" h="714375">
                <a:moveTo>
                  <a:pt x="0" y="535781"/>
                </a:moveTo>
                <a:lnTo>
                  <a:pt x="178594" y="357188"/>
                </a:lnTo>
                <a:lnTo>
                  <a:pt x="178594" y="446484"/>
                </a:lnTo>
                <a:lnTo>
                  <a:pt x="1375172" y="446484"/>
                </a:lnTo>
                <a:lnTo>
                  <a:pt x="1375172" y="178594"/>
                </a:lnTo>
                <a:lnTo>
                  <a:pt x="1285876" y="178594"/>
                </a:lnTo>
                <a:lnTo>
                  <a:pt x="1464469" y="0"/>
                </a:lnTo>
                <a:lnTo>
                  <a:pt x="1643063" y="178594"/>
                </a:lnTo>
                <a:lnTo>
                  <a:pt x="1553766" y="178594"/>
                </a:lnTo>
                <a:lnTo>
                  <a:pt x="1553766" y="625078"/>
                </a:lnTo>
                <a:lnTo>
                  <a:pt x="178594" y="625078"/>
                </a:lnTo>
                <a:lnTo>
                  <a:pt x="178594" y="714375"/>
                </a:lnTo>
                <a:close/>
              </a:path>
            </a:pathLst>
          </a:custGeom>
          <a:solidFill>
            <a:srgbClr val="393939"/>
          </a:solidFill>
          <a:ln w="25560">
            <a:solidFill>
              <a:srgbClr val="2727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Seta para a esquerda e para cima 11"/>
          <p:cNvSpPr/>
          <p:nvPr/>
        </p:nvSpPr>
        <p:spPr>
          <a:xfrm rot="16200000">
            <a:off x="6393600" y="1893240"/>
            <a:ext cx="1643040" cy="714240"/>
          </a:xfrm>
          <a:custGeom>
            <a:avLst/>
            <a:gdLst>
              <a:gd name="textAreaLeft" fmla="*/ 89280 w 1643040"/>
              <a:gd name="textAreaRight" fmla="*/ 1464480 w 1643040"/>
              <a:gd name="textAreaTop" fmla="*/ 446400 h 714240"/>
              <a:gd name="textAreaBottom" fmla="*/ 624960 h 714240"/>
            </a:gdLst>
            <a:ahLst/>
            <a:rect l="textAreaLeft" t="textAreaTop" r="textAreaRight" b="textAreaBottom"/>
            <a:pathLst>
              <a:path w="1643063" h="714375">
                <a:moveTo>
                  <a:pt x="0" y="535781"/>
                </a:moveTo>
                <a:lnTo>
                  <a:pt x="178594" y="357188"/>
                </a:lnTo>
                <a:lnTo>
                  <a:pt x="178594" y="446484"/>
                </a:lnTo>
                <a:lnTo>
                  <a:pt x="1375172" y="446484"/>
                </a:lnTo>
                <a:lnTo>
                  <a:pt x="1375172" y="178594"/>
                </a:lnTo>
                <a:lnTo>
                  <a:pt x="1285876" y="178594"/>
                </a:lnTo>
                <a:lnTo>
                  <a:pt x="1464469" y="0"/>
                </a:lnTo>
                <a:lnTo>
                  <a:pt x="1643063" y="178594"/>
                </a:lnTo>
                <a:lnTo>
                  <a:pt x="1553766" y="178594"/>
                </a:lnTo>
                <a:lnTo>
                  <a:pt x="1553766" y="625078"/>
                </a:lnTo>
                <a:lnTo>
                  <a:pt x="178594" y="625078"/>
                </a:lnTo>
                <a:lnTo>
                  <a:pt x="178594" y="714375"/>
                </a:lnTo>
                <a:close/>
              </a:path>
            </a:pathLst>
          </a:custGeom>
          <a:solidFill>
            <a:srgbClr val="393939"/>
          </a:solidFill>
          <a:ln w="25560">
            <a:solidFill>
              <a:srgbClr val="2727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7.1 Valor Residual (V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úmula nº 263 STJ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rte Especial do STJ Resp nº 213.828/RS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úmula nº 293 STJ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Entende a doutrina majoritária que devido o contrato de leasing possuir a tríplice opção do arrendatário ao final da locação (renovar, não renovar ou comprar), a cobrança antecipada do valor residual descaracteriza o contrato de leasing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8. Responsabilidad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8000" y="1123920"/>
            <a:ext cx="70567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TF – Súmula 492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empresa locadora de veículos responde, civil e solidariamente com o locatário, pelos danos por este causados a terceiro, no uso do carro locado.”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Transferência da guarda presuntiva da coisa ao arrendatário, pelo fato do poder de direção recair sobre este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jurisprudência vem se solidificando majoritariamente, a favor das empresas de Leasing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143680" y="423720"/>
            <a:ext cx="4055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das empresas de Leasing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9. Extinç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contrato de arrendamento mercantil pode extinguir-se: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or decurso do prazo, ocasião em que o arrendatário terá a escolha de comprar o bem, devolvê-lo ou prorrogar o contrato – caso em que ele não se extingue;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or vontade das partes, caso em que estarão previstas indenizações cabíveis pela rescisão, seja por parte do arrendante, seja do arrendatári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ela falência de qualquer das partes do contrato de arredament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10. Foro de Extinç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8000" y="1123920"/>
            <a:ext cx="70567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inda que não cabendo a aplicação do Código de Defesa do Consumidor no </a:t>
            </a:r>
            <a:r>
              <a:rPr b="0" i="1" lang="pt-BR" sz="1800" spc="-1" strike="noStrike">
                <a:solidFill>
                  <a:srgbClr val="1f1111"/>
                </a:solidFill>
                <a:latin typeface="Arial"/>
              </a:rPr>
              <a:t>Leasing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, não se deve permitir a validade de cláusulas que estabelecem vantagens descabidas para a arrendadora, enquanto é lesado o arrendatário.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ão cláusulas leoninas, injustas, que estabelecem vantagens para apenas uma parte da relação, e que felizmente estão sendo repelidas por nossos tribunais, como a de eleição de foro, promovendo a dificuldade ao acesso à justiça. ( 4.ª Turma, STJ, RESP 26,788-MG, 17/11/92; 3.ª Turma , STJ, RESP 39,280-RS, 09/11/93)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6048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133720"/>
            <a:ext cx="8104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1f1111"/>
                </a:solidFill>
                <a:latin typeface="Arial"/>
              </a:rPr>
              <a:t>Os contratos de leasing são úteis para empresários que estão iniciando uma atividade, e para aqueles que não possuem capital de giro disponível para investir. Isso porque, por meio do arrendamento, eles conseguem adquirir infra-estrutura sem o dispêndio de capital e, ainda, pagar o valor dos bens arrendados com o produto do trabalho deles. Isso, sem dúvida, explica o crescimento desta modalidade contratual.</a:t>
            </a:r>
            <a:endParaRPr b="0" lang="en-US" sz="20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1. Parte Históric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No Brasil, na década de 60, empresas locadoras realizaram operações assemelhadas ao leasing. Os primeiros contratos foram efetivados pela RENT-A-MAQ, uma pequena empresa independente localizada em São Paulo referentes ao arrendamento de máquinas de escrever. O setor ganhou impulso durante a década de 70, quando grupos financeiros internacionais e posteriormente nacionais decidiram concentrar-se na expansão das operações e começaram a divulgar os contratos através da rede de agências bancárias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aumento da utilização do contrato de leasing fez com que fosse criada a Associação Brasileira de Empresas de leasing.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 Lei nº 6.099/74 regula apenas o aspecto tributário. Entretanto, no seu artigo 1º, parágrafo único, apresenta uma definição desta modalidade contratual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Em 1983, essa Lei sofreu alteração pela </a:t>
            </a: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i nº 7.132/83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, passando a ser um </a:t>
            </a:r>
            <a:r>
              <a:rPr b="0" lang="pt-BR" sz="1800" spc="-1" strike="noStrike" u="sng">
                <a:solidFill>
                  <a:srgbClr val="1f1111"/>
                </a:solidFill>
                <a:uFillTx/>
                <a:latin typeface="Arial"/>
              </a:rPr>
              <a:t>contrato típico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2. Legislaçã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Lei nº 6.099/74: Dispõe sobre o tratamento tributário das operações de arrendamento mercantil e dá outras providências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Lei nº 7.132/83: Que faz alterações à Lei nº 6.099/74, tornando o arrendamento mercantil um contrato típic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Lei nº 11.649/08: Leasing que tem por objetivo veículo automotiv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3. Conceit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ode-se definir o contrato de arrendamento mercantil, também chamado de leasing, como um contrato especial de locação, que assegura ao locatário, a prerrogativa de adquirir o bem alugado ao final da avença, pagando, nesse caso, uma diferença chamada de </a:t>
            </a:r>
            <a:r>
              <a:rPr b="0" i="1" lang="pt-BR" sz="1800" spc="-1" strike="noStrike" u="sng">
                <a:solidFill>
                  <a:srgbClr val="1f1111"/>
                </a:solidFill>
                <a:uFillTx/>
                <a:latin typeface="Arial"/>
              </a:rPr>
              <a:t>valor residual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Trata-se na essencial de um contrato de arredamento com tríplice opção ao final do aluguel assegurada ao arrendatário: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i) renovar bem alugado;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ii) encerrar o contrato;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iii) comprar o bem alugado, pagando-se o valor residual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4. Part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São três as partes de um contrato de leasing: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a) Arrendante (pessoa jurídica que será a compradora da mercadoria)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b) Arrendatário (o interessado pelo uso – pessoa jurídica ou física)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) Vendedor da mercadoria almejada pelo arrendatári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5. Característica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ntrato bilateral, em que figuram como partes proprietários do bem (arredante) e arrendatári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nsensual, pois o simples consentimento das partes basta para a celebração do contrat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neroso, já que o proprietário (arrendante) concede o direito de uso do bem ao arrendatário e este último se compromete a pagar parcelas periódicas como contraprestação ao us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Contrato comutativo, pois as partes estão cientes desde o inicio do contrato das obrigações que lhes são inerentes e dos deveres que devem ser cumpridos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5.1 Obrigações (Arrendant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er de adquirir de outrem um bem para ser dado em arredament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er de receber este bem de volta, ou vendê-lo pelo preço ajustado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er de possibilitar a renovação do contato, se o arrendatário assim desejar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5.2 Obrigações (Arrendatário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Pagar as prestações combinadas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Zelar pela conservação do bem;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Devolvê-lo, se não optar pela compra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8000" y="117360"/>
            <a:ext cx="705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6. Espécies de Lea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8000" y="909360"/>
            <a:ext cx="705672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asing financeiro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leasing financeiro é a modalidade típica de arrendamento mercantil, em que o bem arrendado não pertence à arrendadora, mas é indicado pelo arrendatário. Ela então deverá adquirir o bem indicado para depois alugá-lo ao arrendatário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asing Operacional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No leasing operacional, o bem arrendado já pertence à arrendadora, que então apenas aluga ao arrendatário, sem ter custo inicial de aquisição do bem, comprometendo-se também a prestar assistência técnica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f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1111"/>
                </a:solidFill>
                <a:latin typeface="Arial"/>
              </a:rPr>
              <a:t>Lease-back ou de retorno 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1f1111"/>
                </a:solidFill>
                <a:latin typeface="Arial"/>
              </a:rPr>
              <a:t>O bem arrendado era de propriedade do arrendatário, que o vende à arrendadora para depois arrendá-lo, podendo obviamente, readquirir o bem ao final do contrato, caso se utilize da opção de compra pagando o valor residual.</a:t>
            </a: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38:55Z</dcterms:created>
  <dc:creator>PoweredTemplates.com</dc:creator>
  <dc:description/>
  <dc:language>en-US</dc:language>
  <cp:lastModifiedBy>SANDRA ALVES DE SOUZA</cp:lastModifiedBy>
  <dcterms:modified xsi:type="dcterms:W3CDTF">2011-05-02T22:28:40Z</dcterms:modified>
  <cp:revision>93</cp:revision>
  <dc:subject/>
  <dc:title>PowerPoint Template</dc:title>
</cp:coreProperties>
</file>