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BDE8B-6033-4424-AF24-BC727DDE1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F901-B6D2-43A9-BB24-DA302497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5C7FD-7CFF-4A26-A074-A5D3187E1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EE74D-65E2-41DF-AB5A-6D50B580E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C0535-3E95-48E8-B9BE-10A581D27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A70FC-820A-401E-B50C-BA9C57877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644B4-4BFD-42EB-87D1-64962E542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C0F0F-DD07-4916-90E1-9936CA919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A7602-654D-4E95-B845-557ABB7D8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84764-97F1-46CB-AEAE-58838FE9C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669B3-DEAF-4793-BA2C-6101158E9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322AC-94F9-4018-9BBB-61B19645F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9E8F1-C7E9-4358-9983-71593BAE0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AC89A-306A-4220-9FF3-6B4939D99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6CCF0-B3F6-47B3-9DE6-43A09B8D6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E224C-D5C1-46D3-9BBC-BAF6C75B2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26033-6187-4C9F-817D-AAD1F10D4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B2F1A-76FE-470C-BB11-BBE64CAB6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74594-197C-4062-B0C7-AF19D339C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87E5-E096-403B-920B-F6FE6EB5F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A9A6E-2683-41E2-A400-09831EDF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6C6DC-F605-4A22-A302-31CF5B91A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DCCC8-BF91-49AA-9F1E-0118BAB70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B3E23-202F-4C74-974F-5FEC4EE95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C8DC-3D16-43A3-B106-04F7279C23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BAB5-9917-4F0E-8FB4-51C7C45F32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tvi24.iol.pt/multimedia/oratvi/multimedia/imagem/id/3884548/318&amp;imgrefurl=http://www.tvi24.iol.pt/noticias/violencia-apav-vitimas-abrigo-vila-real-vitima/880705-291.html&amp;usg=__k6yHfOdv5t5JQwSK8VLOCaCiT_M=&amp;h=262&amp;w=318&amp;sz=14&amp;hl=pt-BR&amp;start=8&amp;um=1&amp;tbnid=UIXljjKjqicsjM:&amp;tbnh=97&amp;tbnw=118&amp;prev=/images%3Fq%3Dimagens%2Bde%2Buma%2Bv%25C3%25ADtima%2Bde%2Bcrime%26hl%3Dpt-BR%26lr%3D%26rls%3Dcom.microsoft:pt-br:IE-Address%26rlz%3D1I7ADBS%26um%3D1"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parana-online.com.br/imagens/imagens/2007/janeiro/25_01_07/assalto2250107.gif&amp;imgrefurl=http://www.parana-online.com.br/editoria/policia/news/221717/&amp;usg=__zUJ-VIBedNYDAx3Xxm6e6rDJkY8=&amp;h=457&amp;w=440&amp;sz=87&amp;hl=pt-BR&amp;start=23&amp;um=1&amp;tbnid=-o0rXO1U8lXP0M:&amp;tbnh=128&amp;tbnw=123&amp;prev=/images%3Fq%3Dimagens%2Bde%2Bassaltantes%26ndsp%3D20%26hl%3Dpt-BR%26lr%3D%26rls%3Dcom.microsoft:pt-br:IE-Address%26rlz%3D1I7ADBS%26sa%3DN%26start%3D20%26um%3D1"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2.bp.blogspot.com/_ALxYgVVnwzo/SBeULDNQmdI/AAAAAAAACJ8/w_FW_vEuOEs/s400/interrogacao.jpg&amp;imgrefurl=http://www.semsacanagem.net/2008/04/como-escolher-mulher-perfeita.html&amp;usg=__Md9IAIqngAClpKBJEeQBzcNGczM=&amp;h=400&amp;w=360&amp;sz=20&amp;hl=pt-BR&amp;start=34&amp;um=1&amp;tbnid=ZOAwlZmio6dvcM:&amp;tbnh=124&amp;tbnw=112&amp;prev=/images%3Fq%3Dimagens%2Bde%2Buma%2Binterroga%25C3%25A7%25C3%25A3o%26ndsp%3D20%26hl%3Dpt-BR%26lr%3D%26rls%3Dcom.microsoft:pt-br:IE-Address%26rlz%3D1I7ADBS%26sa%3DN%26start%3D20%26um%3D1"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www.finep.gov.br/imprensa/imagens/Exclamacao2.JPG&amp;imgrefurl=http://www.finep.gov.br/imprensa/noticia.asp%3Fcod_noticia%3D1776&amp;usg=__KQA9AMpXumiXFGzgA5xjJ5CaJ5M=&amp;h=222&amp;w=233&amp;sz=6&amp;hl=pt-BR&amp;start=54&amp;um=1&amp;tbnid=xDdQl0Fx_1QrhM:&amp;tbnh=104&amp;tbnw=109&amp;prev=/images%3Fq%3Dimagens%2Bde%2Buma%2Bexclama%25C3%25A7%25C3%25A3o%26ndsp%3D20%26hl%3Dpt-BR%26lr%3D%26rls%3Dcom.microsoft:pt-br:IE-Address%26rlz%3D1I7ADBS%26sa%3DN%26start%3D40%26um%3D1" TargetMode="Externa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upload.wikimedia.org/wikipedia/commons/thumb/2/22/Albatros_ceja_negra_-_paso_drake_-_noviembre_2005.jpg/250px-Albatros_ceja_negra_-_paso_drake_-_noviembre_2005.jpg&amp;imgrefurl=http://poemasetsonetos.blogspot.com/2009_02_01_archive.html&amp;usg=__f0H7-w846ZRo6UAYhfjnJeSOETo=&amp;h=242&amp;w=250&amp;sz=15&amp;hl=pt-BR&amp;start=123&amp;um=1&amp;tbnid=W03iSR0mzp9rvM:&amp;tbnh=107&amp;tbnw=111&amp;prev=/images%3Fq%3Dfigura%2Bde%2Bhomem%2Benvergonhado%26ndsp%3D20%26hl%3Dpt-BR%26lr%3D%26rls%3Dcom.microsoft:pt-br:IE-Address%26rlz%3D1I7ADBS%26sa%3DN%26start%3D120%26um%3D1"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pdic.com.br/imagens/conteudo/Image/Fotos%2520Dive%2520News/carol_div_3_baixa.jpg&amp;imgrefurl=http://www.pdic.com.br/pdic2005/divenews.asp%3FidD%3D198&amp;usg=__4M9zdzrhlHcGrRFsj4ExAePM9c4=&amp;h=1512&amp;w=1134&amp;sz=94&amp;hl=pt-BR&amp;start=60&amp;um=1&amp;tbnid=EYgk_PWYaASp6M:&amp;tbnh=150&amp;tbnw=113&amp;prev=/images%3Fq%3Dbandeira%2Bdo%2Bbrasil%26ndsp%3D20%26hl%3Dpt-BR%26lr%3D%26rls%3Dcom.microsoft:pt-br:IE-Address%26rlz%3D1I7ADBS%26sa%3DN%26start%3D40%26um%3D1" TargetMode="External"/><Relationship Id="rId2" Type="http://schemas.openxmlformats.org/officeDocument/2006/relationships/image" Target="../media/image19.jpeg"/><Relationship Id="rId3" Type="http://schemas.openxmlformats.org/officeDocument/2006/relationships/hyperlink" Target="http://images.google.com/imgres?imgurl=http://paraserzen.blogspirit.com/images/medium_DalaiLama.jpg&amp;imgrefurl=http://ospensamentosdemonica.blogspot.com/&amp;usg=__JQt0YbA5Tj8J4l5X7YxQgOsnz6M=&amp;h=383&amp;w=286&amp;sz=34&amp;hl=pt-BR&amp;start=171&amp;um=1&amp;tbnid=Bl66dSy-uU0o2M:&amp;tbnh=123&amp;tbnw=92&amp;prev=/images%3Fq%3Dfigura%2Bde%2Bhomem%2Benvergonhado%26ndsp%3D20%26hl%3Dpt-BR%26lr%3D%26rls%3Dcom.microsoft:pt-br:IE-Address%26rlz%3D1I7ADBS%26sa%3DN%26start%3D160%26um%3D1" TargetMode="External"/><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lifenews.com/baraobam8.jpg&amp;imgrefurl=http://angelodacia.blogspot.com/2009_01_01_archive.html&amp;usg=__UrnZDfuho5eqaitznxrNRvmxGSI=&amp;h=200&amp;w=178&amp;sz=15&amp;hl=pt-BR&amp;start=232&amp;um=1&amp;tbnid=rWlG2O9V82b2gM:&amp;tbnh=104&amp;tbnw=93&amp;prev=/images%3Fq%3Dfigura%2Bde%2Bhomem%2Benvergonhado%26ndsp%3D20%26hl%3Dpt-BR%26lr%3D%26rls%3Dcom.microsoft:pt-br:IE-Address%26rlz%3D1I7ADBS%26sa%3DN%26start%3D220%26um%3D1"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gustavomutran.com/images/Fernando_collor.jpg&amp;imgrefurl=http://gustavomutran.com/eueminhatablet.html&amp;usg=__8E4nU1fls5u1xTBXhXOaGktdWzA=&amp;h=790&amp;w=526&amp;sz=80&amp;hl=pt-BR&amp;start=2&amp;um=1&amp;tbnid=EYawO3MxY2Kw7M:&amp;tbnh=143&amp;tbnw=95&amp;prev=/images%3Fq%3Dimagens%2Bde%2BFernando%2BCollor%26hl%3Dpt-BR%26lr%3D%26rls%3Dcom.microsoft:pt-br:IE-Address%26rlz%3D1I7ADBS%26um%3D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ateus.net/humor/cartoons/imagens/utilidade_para_biblias.gif&amp;imgrefurl=http://rv.cnt.br/viewtopic.php%3Ff%3D1%26t%3D19075%26start%3D25&amp;usg=__foNv9nWmrpp80uaRbUqkAKKEEOU=&amp;h=350&amp;w=400&amp;sz=11&amp;hl=pt-BR&amp;start=15&amp;um=1&amp;tbnid=tl9OZV4Ww6VkiM:&amp;tbnh=109&amp;tbnw=124&amp;prev=/images%3Fq%3Dimagens%2Bda%2Bcorrup%25C3%25A7%25C3%25A3o%2Bno%2BBrasil%26hl%3Dpt-BR%26lr%3D%26rls%3Dcom.microsoft:pt-br:IE-Address%26rlz%3D1I7ADBS%26um%3D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3.bp.blogspot.com/_hpCFBDlesvc/SZWhlgW9xAI/AAAAAAAAASM/VLSxm6ZhrFE/s320/GilsonBarreto_ForaCollor.jpg&amp;imgrefurl=http://versoeavesso.blogspot.com/&amp;usg=__GfapiGIYs4UmP-Ntqwv-kLqMTY4=&amp;h=216&amp;w=320&amp;sz=18&amp;hl=pt-BR&amp;start=17&amp;um=1&amp;tbnid=PmYBu0jBbN4awM:&amp;tbnh=80&amp;tbnw=118&amp;prev=/images%3Fq%3Dimagens%2Bdo%2Bfora%2BCollor%26hl%3Dpt-BR%26lr%3D%26rls%3Dcom.microsoft:pt-br:IE-Address%26rlz%3D1I7ADBS%26um%3D1" TargetMode="External"/><Relationship Id="rId2" Type="http://schemas.openxmlformats.org/officeDocument/2006/relationships/image" Target="../media/image6.jpeg"/><Relationship Id="rId3" Type="http://schemas.openxmlformats.org/officeDocument/2006/relationships/hyperlink" Target="http://images.google.com/imgres?imgurl=http://www.sebodomessias.com.br/loja/imagens/produtos/produtos/32613_535.jpg&amp;imgrefurl=http://www.sebodomessias.com.br/sebo/(S(z3dwumjum1jaff554tzakf3m))/detalheproduto.aspx%3FidItem%3D32613&amp;usg=__1AM8Uan0evn8c5og488BYgvEkuY=&amp;h=500&amp;w=360&amp;sz=19&amp;hl=pt-BR&amp;start=7&amp;um=1&amp;tbnid=p4FrvX2dfbHNEM:&amp;tbnh=130&amp;tbnw=94&amp;prev=/images%3Fq%3Dimagens%2Bdo%2Bfora%2BCollor%26hl%3Dpt-BR%26lr%3D%26rls%3Dcom.microsoft:pt-br:IE-Address%26rlz%3D1I7ADBS%26um%3D1" TargetMode="External"/><Relationship Id="rId4" Type="http://schemas.openxmlformats.org/officeDocument/2006/relationships/image" Target="../media/image7.jpeg"/><Relationship Id="rId5" Type="http://schemas.openxmlformats.org/officeDocument/2006/relationships/hyperlink" Target="http://images.google.com/imgres?imgurl=http://www.alerj.rj.gov.br/livro/imagens/inpeachment/pag_182.gif&amp;imgrefurl=http://www.alerj.rj.gov.br/livro/pag_182.htm&amp;usg=__4tgKluHD0PLCPXL1WUiICJVVaiE=&amp;h=535&amp;w=400&amp;sz=221&amp;hl=pt-BR&amp;start=8&amp;um=1&amp;tbnid=GNtYR7RSSgu_xM:&amp;tbnh=132&amp;tbnw=99&amp;prev=/images%3Fq%3Dimagens%2Bdo%2Bfora%2BCollor%26hl%3Dpt-BR%26lr%3D%26rls%3Dcom.microsoft:pt-br:IE-Address%26rlz%3D1I7ADBS%26um%3D1" TargetMode="External"/><Relationship Id="rId6" Type="http://schemas.openxmlformats.org/officeDocument/2006/relationships/image" Target="../media/image8.jpeg"/><Relationship Id="rId7" Type="http://schemas.openxmlformats.org/officeDocument/2006/relationships/hyperlink" Target="http://images.google.com/imgres?imgurl=http://4.bp.blogspot.com/_lOSe7CxJx6Q/SYN4VBJ2a7I/AAAAAAAAAuQ/CJHAUZR4QWk/s400/Brasil%2Bmoderno%2B-%2BEm%2B1992,%2Bmanifesta&#231;&#245;es%2Bexigiam%2Ba%2Bdestitui&#231;&#227;o%2Bde%2BCollor.%2BA%2Bnota%2Bda%2Bcampanha,%2BFora%2BCollor%2Bfoi%2Bdada%2Bpelos%2Bestudantes%2Bliderados%2Bpela%2BUNE..jpg&amp;imgrefurl=http://novahistorianet.blogspot.com/&amp;usg=__memw0nLDtQJKCyp_HweVrDLwJXc=&amp;h=239&amp;w=400&amp;sz=29&amp;hl=pt-BR&amp;start=15&amp;um=1&amp;tbnid=p-6Mr1zJjBT6nM:&amp;tbnh=74&amp;tbnw=124&amp;prev=/images%3Fq%3Dimagens%2Bdo%2Bfora%2BCollor%26hl%3Dpt-BR%26lr%3D%26rls%3Dcom.microsoft:pt-br:IE-Address%26rlz%3D1I7ADBS%26um%3D1" TargetMode="External"/><Relationship Id="rId8" Type="http://schemas.openxmlformats.org/officeDocument/2006/relationships/image" Target="../media/image9.jpeg"/><Relationship Id="rId9" Type="http://schemas.openxmlformats.org/officeDocument/2006/relationships/hyperlink" Target="http://images.google.com/imgres?imgurl=http://4.bp.blogspot.com/_xAH-47hY8Uk/SKC3GReY-kI/AAAAAAAAAQU/XrkN8OPdJ8M/s320/fora-collor.jpg&amp;imgrefurl=http://umasreflexoes.blogspot.com/2008/08/uma-vez-algum-j-disse-no-gosto-de.html&amp;usg=__njPHKmzZtjs75eVshugTjxbnOxM=&amp;h=222&amp;w=320&amp;sz=23&amp;hl=pt-BR&amp;start=25&amp;um=1&amp;tbnid=0UvKv5H34DxrPM:&amp;tbnh=82&amp;tbnw=118&amp;prev=/images%3Fq%3Dimagens%2Bdo%2Bfora%2BCollor%26ndsp%3D20%26hl%3Dpt-BR%26lr%3D%26rls%3Dcom.microsoft:pt-br:IE-Address%26rlz%3D1I7ADBS%26sa%3DN%26start%3D20%26um%3D1" TargetMode="External"/><Relationship Id="rId10" Type="http://schemas.openxmlformats.org/officeDocument/2006/relationships/image" Target="../media/image10.jpeg"/><Relationship Id="rId11" Type="http://schemas.openxmlformats.org/officeDocument/2006/relationships/hyperlink" Target="http://images.google.com/imgres?imgurl=http://1.bp.blogspot.com/_NZOMrf8Xa78/SVp8BPfYRkI/AAAAAAAAP94/vZBRxelzbKY/s400/renunciacollor.jpg&amp;imgrefurl=http://oficinadegerencia.blogspot.com/2008_12_28_archive.html&amp;usg=__QQwP4PnYkqpwVzCs4lO16qGbmv4=&amp;h=400&amp;w=312&amp;sz=30&amp;hl=pt-BR&amp;start=18&amp;um=1&amp;tbnid=-gb4yI0Q-991AM:&amp;tbnh=124&amp;tbnw=97&amp;prev=/images%3Fq%3Dimagens%2Bda%2Bren%25C3%25BAncia%2Bde%2BCollor%26hl%3Dpt-BR%26lr%3D%26rls%3Dcom.microsoft:pt-br:IE-Address%26rlz%3D1I7ADBS%26um%3D1" TargetMode="External"/><Relationship Id="rId12" Type="http://schemas.openxmlformats.org/officeDocument/2006/relationships/image" Target="../media/image11.jpeg"/><Relationship Id="rId13" Type="http://schemas.openxmlformats.org/officeDocument/2006/relationships/hyperlink" Target="http://images.google.com/imgres?imgurl=http://3.bp.blogspot.com/_NZOMrf8Xa78/SVp_Dn74waI/AAAAAAAAP-o/hox3bFTFaYU/s400/Collor%2Bsai%2Bdo%2Bpal&#225;cio.bmp&amp;imgrefurl=http://oficinadegerencia.blogspot.com/2008_12_28_archive.html&amp;usg=__CjFBohpk712yg8uOI9Lc9elzCZA=&amp;h=243&amp;w=326&amp;sz=25&amp;hl=pt-BR&amp;start=5&amp;um=1&amp;tbnid=pWakZhnwvXmkiM:&amp;tbnh=88&amp;tbnw=118&amp;prev=/images%3Fq%3Dimagens%2Bda%2Bren%25C3%25BAncia%2Bde%2BCollor%26hl%3Dpt-BR%26lr%3D%26rls%3Dcom.microsoft:pt-br:IE-Address%26rlz%3D1I7ADBS%26um%3D1" TargetMode="External"/><Relationship Id="rId14" Type="http://schemas.openxmlformats.org/officeDocument/2006/relationships/image" Target="../media/image12.jpe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senado.gov.br/noticia/multimidia/verImagem.aspx%3FcodImagem%3D144996&amp;imgrefurl=http://www.senado.gov.br/AGENCIA/verNoticia.aspx%3FcodNoticia%3D89319%26codAplicativo%3D2&amp;usg=__ktfMn4087nnLboMLVfI3ai-k2Po=&amp;h=274&amp;w=412&amp;sz=28&amp;hl=pt-BR&amp;start=14&amp;um=1&amp;tbnid=VOGcZ8jwIJkh7M:&amp;tbnh=83&amp;tbnw=125&amp;prev=/images%3Fq%3Dimagens%2Bde%2BFernando%2BCollor%26hl%3Dpt-BR%26lr%3D%26rls%3Dcom.microsoft:pt-br:IE-Address%26rlz%3D1I7ADBS%26um%3D1"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br>
              <a:rPr sz="4200"/>
            </a:br>
            <a:br>
              <a:rPr sz="4200"/>
            </a:br>
            <a:br>
              <a:rPr sz="4200"/>
            </a:br>
            <a:br>
              <a:rPr sz="4200"/>
            </a:br>
            <a:r>
              <a:rPr b="1" lang="en-US" sz="4000" spc="-1" strike="noStrike">
                <a:solidFill>
                  <a:srgbClr val="000000"/>
                </a:solidFill>
                <a:latin typeface="Arial"/>
              </a:rPr>
              <a:t>ASPECTOS RELEVANTES DA LEI DE IMPROBIDADE ADMINISTRATIVA</a:t>
            </a:r>
            <a:endParaRPr b="0" lang="en-US" sz="4000" spc="-1" strike="noStrike">
              <a:solidFill>
                <a:srgbClr val="000000"/>
              </a:solidFill>
              <a:latin typeface="Arial"/>
            </a:endParaRPr>
          </a:p>
        </p:txBody>
      </p:sp>
      <p:sp>
        <p:nvSpPr>
          <p:cNvPr id="95" name="PlaceHolder 2"/>
          <p:cNvSpPr>
            <a:spLocks noGrp="1"/>
          </p:cNvSpPr>
          <p:nvPr>
            <p:ph/>
          </p:nvPr>
        </p:nvSpPr>
        <p:spPr>
          <a:xfrm>
            <a:off x="468360" y="2565360"/>
            <a:ext cx="8229600" cy="3959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rofa. Morgana Bellazzi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AMOS CONHECER UM POUCO </a:t>
            </a:r>
            <a:br>
              <a:rPr sz="3000"/>
            </a:br>
            <a:r>
              <a:rPr b="1" lang="en-US" sz="3000" spc="-1" strike="noStrike">
                <a:solidFill>
                  <a:srgbClr val="000000"/>
                </a:solidFill>
                <a:latin typeface="Arial"/>
              </a:rPr>
              <a:t>SOBRE ESTA LEI?</a:t>
            </a:r>
            <a:endParaRPr b="0" lang="en-US" sz="30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o improbo é crime? NÃO.</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art. 37, §4º </a:t>
            </a:r>
            <a:r>
              <a:rPr b="0" i="1" lang="pt-BR" sz="2400" spc="-1" strike="noStrike">
                <a:solidFill>
                  <a:srgbClr val="000000"/>
                </a:solidFill>
                <a:latin typeface="Arial"/>
              </a:rPr>
              <a:t>in fine</a:t>
            </a:r>
            <a:r>
              <a:rPr b="0" lang="pt-BR" sz="2400" spc="-1" strike="noStrike">
                <a:solidFill>
                  <a:srgbClr val="000000"/>
                </a:solidFill>
                <a:latin typeface="Arial"/>
              </a:rPr>
              <a:t>, da CF, + art. 12 da LIA + decisão do STF na ADI 2797 indicam isso, pois foram julgados inconstitucionais os parágrafos 1º e 2º do Código de Processo Penal, introduzidos pela Lei 10.628/02, que equiparavam a ação de improbidade administrativa à ação penal contra altas autoridades federais, como o presidente da República, o vice-presidente, ministros de Estado e congressistas, entre outros, cujo julgamento é de competência do STF. Portanto a natureza jurídica da improbidade administrativa é civil e não penal.</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ntas e quais sanções a LIA estabelece? (art. 12 da LIA + art. 37 §4º da C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AMOS CONHECER UM POUCO </a:t>
            </a:r>
            <a:br>
              <a:rPr sz="3000"/>
            </a:br>
            <a:r>
              <a:rPr b="1" lang="en-US" sz="3000" spc="-1" strike="noStrike">
                <a:solidFill>
                  <a:srgbClr val="000000"/>
                </a:solidFill>
                <a:latin typeface="Arial"/>
              </a:rPr>
              <a:t>SOBRE ESTA LEI?</a:t>
            </a:r>
            <a:endParaRPr b="0" lang="en-US" sz="30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is as modalidades de atos de improbidade?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s que importam enriquecimento ilícito (art. 9º da Lei 8.429/92);</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s que importam dano ao Erário (art. 10 da Lei 8.429/92);</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s que importam violação de princípios (art. 11 da Lei 8.429/92).</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condutas cada modalidade de improbidade abrange? (incisos de cada artigo mencion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00000"/>
                </a:solidFill>
                <a:latin typeface="Arial"/>
              </a:rPr>
              <a:t>QUEM PODE SER VÍTIMA DE IMPROBIDADE? </a:t>
            </a:r>
            <a:br>
              <a:rPr sz="3000"/>
            </a:br>
            <a:r>
              <a:rPr b="0" lang="en-US" sz="2100" spc="-1" strike="noStrike">
                <a:solidFill>
                  <a:srgbClr val="000000"/>
                </a:solidFill>
                <a:latin typeface="Arial"/>
              </a:rPr>
              <a:t>SUJEITOS PASSIVOS </a:t>
            </a:r>
            <a:endParaRPr b="0" lang="en-US" sz="2100" spc="-1" strike="noStrike">
              <a:solidFill>
                <a:srgbClr val="000000"/>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rt. 1º da Lei estabelece que podem ser vítimas: a União, os Estados, o Distrito Federal, os Municípios e as Autarquias, as empresas públicas, sociedades de economia mista, empresas incorporadas ou entidades para cuja criação ou custeio o Poder Público tenha concorrido ou concorra com mais de 50% do patrimônio ou da receita anual;</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ém disso, as entidades que recebam subvenção, benefício ou incentivo, fiscal ou creditício, de órgãos ou empresas públicas.</a:t>
            </a:r>
            <a:endParaRPr b="0" lang="en-US" sz="2800" spc="-1" strike="noStrike">
              <a:solidFill>
                <a:srgbClr val="000000"/>
              </a:solidFill>
              <a:latin typeface="Arial"/>
            </a:endParaRPr>
          </a:p>
        </p:txBody>
      </p:sp>
      <p:pic>
        <p:nvPicPr>
          <p:cNvPr id="131" name="" descr="">
            <a:hlinkClick r:id="rId1"/>
          </p:cNvPr>
          <p:cNvPicPr/>
          <p:nvPr/>
        </p:nvPicPr>
        <p:blipFill>
          <a:blip r:embed="rId2"/>
          <a:stretch/>
        </p:blipFill>
        <p:spPr>
          <a:xfrm>
            <a:off x="7596360" y="333360"/>
            <a:ext cx="1195200" cy="115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00000"/>
                </a:solidFill>
                <a:latin typeface="Arial"/>
              </a:rPr>
              <a:t>QUEM PODE CAUSAR </a:t>
            </a:r>
            <a:br>
              <a:rPr sz="3000"/>
            </a:br>
            <a:r>
              <a:rPr b="1" lang="en-US" sz="3000" spc="-1" strike="noStrike">
                <a:solidFill>
                  <a:srgbClr val="000000"/>
                </a:solidFill>
                <a:latin typeface="Arial"/>
              </a:rPr>
              <a:t>IMPROBIDADE? </a:t>
            </a:r>
            <a:br>
              <a:rPr sz="3000"/>
            </a:br>
            <a:r>
              <a:rPr b="0" lang="en-US" sz="2100" spc="-1" strike="noStrike">
                <a:solidFill>
                  <a:srgbClr val="000000"/>
                </a:solidFill>
                <a:latin typeface="Arial"/>
              </a:rPr>
              <a:t>SUJEITOS ATIVOS</a:t>
            </a:r>
            <a:endParaRPr b="0" lang="en-US" sz="21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rt. 3º da LIA estabelece que o </a:t>
            </a:r>
            <a:r>
              <a:rPr b="0" lang="en-US" sz="2800" spc="-1" strike="noStrike" u="sng">
                <a:solidFill>
                  <a:srgbClr val="000000"/>
                </a:solidFill>
                <a:uFillTx/>
                <a:latin typeface="Arial"/>
              </a:rPr>
              <a:t>agente público</a:t>
            </a:r>
            <a:r>
              <a:rPr b="0" lang="en-US" sz="2800" spc="-1" strike="noStrike">
                <a:solidFill>
                  <a:srgbClr val="000000"/>
                </a:solidFill>
                <a:latin typeface="Arial"/>
              </a:rPr>
              <a:t> e o </a:t>
            </a:r>
            <a:r>
              <a:rPr b="0" lang="en-US" sz="2800" spc="-1" strike="noStrike" u="sng">
                <a:solidFill>
                  <a:srgbClr val="000000"/>
                </a:solidFill>
                <a:uFillTx/>
                <a:latin typeface="Arial"/>
              </a:rPr>
              <a:t>particular</a:t>
            </a:r>
            <a:r>
              <a:rPr b="0" lang="en-US" sz="2800" spc="-1" strike="noStrike">
                <a:solidFill>
                  <a:srgbClr val="000000"/>
                </a:solidFill>
                <a:latin typeface="Arial"/>
              </a:rPr>
              <a:t> podem vir a cometer ato de improbidade repreendido por esta lei.</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rt. 8º dispõe que os sucessores dos sujeitos ativos devem suportar as condenações patrimoniais advindas do ato de improbidade até o limite da herança, posto que se trata de sanção de natureza civil.</a:t>
            </a:r>
            <a:endParaRPr b="0" lang="en-US" sz="2800" spc="-1" strike="noStrike">
              <a:solidFill>
                <a:srgbClr val="000000"/>
              </a:solidFill>
              <a:latin typeface="Arial"/>
            </a:endParaRPr>
          </a:p>
        </p:txBody>
      </p:sp>
      <p:pic>
        <p:nvPicPr>
          <p:cNvPr id="134" name="" descr="">
            <a:hlinkClick r:id="rId1"/>
          </p:cNvPr>
          <p:cNvPicPr/>
          <p:nvPr/>
        </p:nvPicPr>
        <p:blipFill>
          <a:blip r:embed="rId2"/>
          <a:stretch/>
        </p:blipFill>
        <p:spPr>
          <a:xfrm>
            <a:off x="7596360" y="189000"/>
            <a:ext cx="1223640" cy="15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M A LIA CONSIDERA COMO AGENTE PÚBLICO? </a:t>
            </a:r>
            <a:endParaRPr b="0" lang="en-US" sz="3000" spc="-1" strike="noStrike">
              <a:solidFill>
                <a:srgbClr val="000000"/>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ssoa que está vinculada ou foi investida no Poder Público por concurso público, nomeação, designação, eleição ou contrataçã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m, a caracterização de agente público independe do caráter do vínculo que este tiver com o Estado: podendo ser cargo permanente ou temporário, remunerado ou nã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M A LIA CONSIDERA COMO PARTICULAR?</a:t>
            </a:r>
            <a:endParaRPr b="0" lang="en-US" sz="30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la pessoa maior de idade, capaz, que, não sendo agente público, induziu ou concorreu para prática do ato de improbidade, ou ainda dele se beneficiou direta ou indiretam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000" spc="-1" strike="noStrike">
                <a:solidFill>
                  <a:srgbClr val="000000"/>
                </a:solidFill>
                <a:latin typeface="Arial"/>
              </a:rPr>
              <a:t>QUAL A DIFERENÇA ENTRE ATO DE IMPROBIDADE PRÓPRIO E ATO IMPRÓPRIO?</a:t>
            </a:r>
            <a:endParaRPr b="0" lang="en-US" sz="3000" spc="-1" strike="noStrike">
              <a:solidFill>
                <a:srgbClr val="000000"/>
              </a:solidFill>
              <a:latin typeface="Arial"/>
            </a:endParaRPr>
          </a:p>
        </p:txBody>
      </p:sp>
      <p:sp>
        <p:nvSpPr>
          <p:cNvPr id="140" name="PlaceHolder 2"/>
          <p:cNvSpPr>
            <a:spLocks noGrp="1"/>
          </p:cNvSpPr>
          <p:nvPr>
            <p:ph/>
          </p:nvPr>
        </p:nvSpPr>
        <p:spPr>
          <a:xfrm>
            <a:off x="468360" y="1915920"/>
            <a:ext cx="8229600" cy="4941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 Próprio – cometido por agente públic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 Impróprio – cometido por particula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NÇÕES PREVISTAS NA CF/88 </a:t>
            </a:r>
            <a:br>
              <a:rPr sz="3000"/>
            </a:br>
            <a:r>
              <a:rPr b="0" lang="en-US" sz="2500" spc="-1" strike="noStrike">
                <a:solidFill>
                  <a:srgbClr val="000000"/>
                </a:solidFill>
                <a:latin typeface="Arial"/>
              </a:rPr>
              <a:t>art. 37 §4º</a:t>
            </a:r>
            <a:endParaRPr b="0" lang="en-US" sz="25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ão de direitos polític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da da função públ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sponibilidade de be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arcimentos ao Erári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NÇÕES PREVISTAS NA LIA</a:t>
            </a:r>
            <a:br>
              <a:rPr sz="3000"/>
            </a:br>
            <a:r>
              <a:rPr b="0" lang="en-US" sz="2500" spc="-1" strike="noStrike">
                <a:solidFill>
                  <a:srgbClr val="000000"/>
                </a:solidFill>
                <a:latin typeface="Arial"/>
              </a:rPr>
              <a:t>art. 12</a:t>
            </a:r>
            <a:endParaRPr b="0" lang="en-US" sz="25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da de be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ibição de contratar com a Administração Públ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AIS AS CARACTERÍSTICAS DA AÇÃO DE IMPROBIDADE?</a:t>
            </a:r>
            <a:endParaRPr b="0" lang="en-US" sz="30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ção possui rito ordinário e pode ser proposta pelo Ministério Público ou por pessoa jurídica interessada – art. 17;</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 vedada a transação ou acordo - art. 17, §1º;</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Ministério Público se não for o autor da ação intervirá sempre como fiscal da lei, sob pena de nulidade do processo - art. 17, §4º;</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e resultar em 07 tipos de sançõ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denação em dinheiro reverte para a pessoa jurídica lesada – art. 1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endParaRPr b="0" lang="en-US" sz="4200" spc="-1" strike="noStrike">
              <a:solidFill>
                <a:srgbClr val="000000"/>
              </a:solidFill>
              <a:latin typeface="Arial"/>
            </a:endParaRPr>
          </a:p>
        </p:txBody>
      </p:sp>
      <p:sp>
        <p:nvSpPr>
          <p:cNvPr id="97" name="PlaceHolder 2"/>
          <p:cNvSpPr>
            <a:spLocks noGrp="1"/>
          </p:cNvSpPr>
          <p:nvPr>
            <p:ph/>
          </p:nvPr>
        </p:nvSpPr>
        <p:spPr>
          <a:xfrm>
            <a:off x="468360" y="1988640"/>
            <a:ext cx="822960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 tanto ver triunfar as nulidades,</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tanto ver prosperar a desonra, de tanto agigantarem-se os poderes nas mãos dos maus, o homem chega a desanimar-se da virtude, a rir-se da honra e a ter vergonha de ser hones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ui Barbos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8" name="" descr=""/>
          <p:cNvPicPr/>
          <p:nvPr/>
        </p:nvPicPr>
        <p:blipFill>
          <a:blip r:embed="rId1"/>
          <a:stretch/>
        </p:blipFill>
        <p:spPr>
          <a:xfrm>
            <a:off x="6156360" y="333360"/>
            <a:ext cx="2663640" cy="1873440"/>
          </a:xfrm>
          <a:prstGeom prst="rect">
            <a:avLst/>
          </a:prstGeom>
          <a:ln w="0">
            <a:noFill/>
          </a:ln>
        </p:spPr>
      </p:pic>
      <p:pic>
        <p:nvPicPr>
          <p:cNvPr id="99" name="" descr=""/>
          <p:cNvPicPr/>
          <p:nvPr/>
        </p:nvPicPr>
        <p:blipFill>
          <a:blip r:embed="rId2"/>
          <a:stretch/>
        </p:blipFill>
        <p:spPr>
          <a:xfrm>
            <a:off x="324000" y="4797360"/>
            <a:ext cx="172692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O SE OPERA A PRESCRIÇÃO DO ATO DE IMPROBIDADE?</a:t>
            </a:r>
            <a:endParaRPr b="0" lang="en-US" sz="30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to de improbidade está sujeito à prescrição (perda do direito de ação), mas o dano ao Erário é imprescritíve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eve o direito de entrar com ação de improbidade em 05 anos após o término do exercício de mandato, de cargo em comissão ou de função de confiança - art. 23, I, da 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br>
              <a:rPr sz="1900"/>
            </a:br>
            <a:r>
              <a:rPr b="1" lang="en-US" sz="3000" spc="-1" strike="noStrike">
                <a:solidFill>
                  <a:srgbClr val="000000"/>
                </a:solidFill>
                <a:latin typeface="Arial"/>
              </a:rPr>
              <a:t>PERGUNTA-SE:</a:t>
            </a:r>
            <a:br>
              <a:rPr sz="3000"/>
            </a:br>
            <a:endParaRPr b="0" lang="en-US" sz="30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 possível aplicar todas as normas da Lei de Ação Civil Pública (Lei nº 7.347/85) nas ações de improbidade administrativa?</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1" name="" descr="">
            <a:hlinkClick r:id="rId1"/>
          </p:cNvPr>
          <p:cNvPicPr/>
          <p:nvPr/>
        </p:nvPicPr>
        <p:blipFill>
          <a:blip r:embed="rId2"/>
          <a:stretch/>
        </p:blipFill>
        <p:spPr>
          <a:xfrm>
            <a:off x="3924360" y="4292640"/>
            <a:ext cx="1066680" cy="118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br>
              <a:rPr sz="1900"/>
            </a:br>
            <a:r>
              <a:rPr b="1" lang="en-US" sz="3000" spc="-1" strike="noStrike">
                <a:solidFill>
                  <a:srgbClr val="000000"/>
                </a:solidFill>
                <a:latin typeface="Arial"/>
              </a:rPr>
              <a:t>RESPOSTA:</a:t>
            </a:r>
            <a:endParaRPr b="0" lang="en-US" sz="30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s não, as normas processuais da Lei de Improbidade prevalecem sobre as da Lei da Ação Civil Pública em nome da aplicação do princípio da especialidade – art. 17. </a:t>
            </a:r>
            <a:endParaRPr b="0" lang="en-US" sz="3200" spc="-1" strike="noStrike">
              <a:solidFill>
                <a:srgbClr val="000000"/>
              </a:solidFill>
              <a:latin typeface="Arial"/>
            </a:endParaRPr>
          </a:p>
        </p:txBody>
      </p:sp>
      <p:pic>
        <p:nvPicPr>
          <p:cNvPr id="154" name="" descr="">
            <a:hlinkClick r:id="rId1"/>
          </p:cNvPr>
          <p:cNvPicPr/>
          <p:nvPr/>
        </p:nvPicPr>
        <p:blipFill>
          <a:blip r:embed="rId2"/>
          <a:stretch/>
        </p:blipFill>
        <p:spPr>
          <a:xfrm>
            <a:off x="3924360" y="4941720"/>
            <a:ext cx="103824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R FIM DESTACA-SE:</a:t>
            </a:r>
            <a:endParaRPr b="0" lang="en-US" sz="30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a LIA ampliou o rol das sanções previsto na CF/88 e previu que a gravidade das penas deve observar a conformidade com a gravidade do ato perpetrado - art. 12, §único;</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as sanções mais graves dizem respeito à modalidade que envolve enriquecimento ilícito;</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a imposição de sanções independe de decisão do Tribunal de Contas ou da efetiva ocorrência de dano ao patrimônio público – art. 21.</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a:hlinkClick r:id="rId1"/>
          </p:cNvPr>
          <p:cNvPicPr/>
          <p:nvPr/>
        </p:nvPicPr>
        <p:blipFill>
          <a:blip r:embed="rId2"/>
          <a:stretch/>
        </p:blipFill>
        <p:spPr>
          <a:xfrm>
            <a:off x="250920" y="1268280"/>
            <a:ext cx="1057320" cy="1019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CLUINDO...</a:t>
            </a:r>
            <a:endParaRPr b="0" lang="en-US" sz="30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 fato, a Lei de Improbidade “veio a calhar”, mas é preciso muito mais do que a edição de leis ou estatutos para que se efetivem direitos e princípios, e que se combata a corrupção. É preciso que cada um nós orgulhe-se de ser honesto, comprometa-se com a ética, com a moralidade e não perca a capacidade de se indignar com a impunidade! </a:t>
            </a:r>
            <a:endParaRPr b="0" lang="en-US" sz="2800" spc="-1" strike="noStrike">
              <a:solidFill>
                <a:srgbClr val="000000"/>
              </a:solidFill>
              <a:latin typeface="Arial"/>
            </a:endParaRPr>
          </a:p>
        </p:txBody>
      </p:sp>
      <p:pic>
        <p:nvPicPr>
          <p:cNvPr id="160" name="" descr="">
            <a:hlinkClick r:id="rId1"/>
          </p:cNvPr>
          <p:cNvPicPr/>
          <p:nvPr/>
        </p:nvPicPr>
        <p:blipFill>
          <a:blip r:embed="rId2"/>
          <a:stretch/>
        </p:blipFill>
        <p:spPr>
          <a:xfrm>
            <a:off x="7524720" y="333360"/>
            <a:ext cx="1292400" cy="1787400"/>
          </a:xfrm>
          <a:prstGeom prst="rect">
            <a:avLst/>
          </a:prstGeom>
          <a:ln w="0">
            <a:noFill/>
          </a:ln>
        </p:spPr>
      </p:pic>
      <p:pic>
        <p:nvPicPr>
          <p:cNvPr id="161" name="" descr="">
            <a:hlinkClick r:id="rId3"/>
          </p:cNvPr>
          <p:cNvPicPr/>
          <p:nvPr/>
        </p:nvPicPr>
        <p:blipFill>
          <a:blip r:embed="rId4"/>
          <a:stretch/>
        </p:blipFill>
        <p:spPr>
          <a:xfrm>
            <a:off x="7812000" y="5300640"/>
            <a:ext cx="1092240" cy="13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ÊNCIAS BIBLIOGRÁFICAS</a:t>
            </a:r>
            <a:endParaRPr b="0" lang="en-US" sz="30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ípio da Probidade Administrati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utor: Francisco Chaves dos Anjos Ne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Del Re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robidade Administrativa: 10 anos da Lei 8.429/9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Organizadores: José Adércio Lima Sampaio, Nicolau Dino de Castro, Nívio de Freitas Silva Filho, Robério Nunes dos Anjos Filh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Del Rey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 Limite da improbidade Administrati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utor: Mauro Roberto Gomes de Matt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América Juríd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ÊNCIAS BIBLIOGRÁFICAS</a:t>
            </a:r>
            <a:endParaRPr b="0" lang="en-US" sz="30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Lei de Improbidade Administrativa Comenta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utor: Pazzaglini Filh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Atla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robidade Administrativa em Defesa do Patrimônio Públic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utores: Pazzaglini Filho, Márcio Fernando Elias Rosa,Waldo Fazzio Júni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Atla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robidade Administrati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ordenadores: Cássio Scarpinella Bueno e Pedro Paulo Porto Filh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Malhei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 QUE SERÁ TRATADO SOBRE IMPROBIDADE ADMINISTRATIVA?</a:t>
            </a:r>
            <a:endParaRPr b="0" lang="en-US" sz="30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o histórico do ano de edição da Lei de Improbidade Administrativ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s de improbidade: definição, modalidades e condutas implicadas;</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ções cabíveis;</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culiaridades sobre a ação de improbidade;</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crição.</a:t>
            </a:r>
            <a:endParaRPr b="0" lang="en-US" sz="3200" spc="-1" strike="noStrike">
              <a:solidFill>
                <a:srgbClr val="000000"/>
              </a:solidFill>
              <a:latin typeface="Arial"/>
            </a:endParaRPr>
          </a:p>
        </p:txBody>
      </p:sp>
      <p:pic>
        <p:nvPicPr>
          <p:cNvPr id="102" name="" descr="">
            <a:hlinkClick r:id="rId1"/>
          </p:cNvPr>
          <p:cNvPicPr/>
          <p:nvPr/>
        </p:nvPicPr>
        <p:blipFill>
          <a:blip r:embed="rId2"/>
          <a:stretch/>
        </p:blipFill>
        <p:spPr>
          <a:xfrm>
            <a:off x="7667640" y="260280"/>
            <a:ext cx="1081080" cy="129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ANDO E POR QUEM FOI EDITADA A LEI DE IMPROBIDADE?</a:t>
            </a:r>
            <a:endParaRPr b="0" lang="en-US" sz="30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art. 37, </a:t>
            </a:r>
            <a:r>
              <a:rPr b="0" lang="en-US" sz="3200" spc="-1" strike="noStrike">
                <a:solidFill>
                  <a:srgbClr val="000000"/>
                </a:solidFill>
                <a:latin typeface="Arial"/>
                <a:ea typeface="Arial"/>
              </a:rPr>
              <a:t>§4º da CF/88 prevê sanções civis para os atos de improbidade na forma e gradação previstas em le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 lei foi decretada e sancionada em 02/06/1992, por Fernando Collor, presidente que exerceu o mandato apenas de 1990 a 1992 (Lei 8.429/9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QUEM (OU O QUE) FOI COLLOR PARA </a:t>
            </a:r>
            <a:r>
              <a:rPr b="1" lang="en-US" sz="3000" spc="-1" strike="noStrike">
                <a:solidFill>
                  <a:srgbClr val="000000"/>
                </a:solidFill>
                <a:latin typeface="Arial"/>
              </a:rPr>
              <a:t>	</a:t>
            </a:r>
            <a:r>
              <a:rPr b="1" lang="en-US" sz="3000" spc="-1" strike="noStrike">
                <a:solidFill>
                  <a:srgbClr val="000000"/>
                </a:solidFill>
                <a:latin typeface="Arial"/>
              </a:rPr>
              <a:t>O BRASIL?</a:t>
            </a:r>
            <a:endParaRPr b="0" lang="en-US" sz="30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or foi eleito em 1989, após apertada margem de votos sobre  Luiz Inácio Lula da Silva. Ele se autodenominava “caçador de marajás”, mas, em menos de 02 anos de governo, foi descoberto enorme esquema de corrupção e tráfico de influência, denunciado pelo próprio irmão do presidente, Pedro Collor, que veio a falecer meses depois vítima de 04 tumores malignos no céreb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a:hlinkClick r:id="rId1"/>
          </p:cNvPr>
          <p:cNvPicPr/>
          <p:nvPr/>
        </p:nvPicPr>
        <p:blipFill>
          <a:blip r:embed="rId2"/>
          <a:stretch/>
        </p:blipFill>
        <p:spPr>
          <a:xfrm>
            <a:off x="324000" y="189000"/>
            <a:ext cx="90468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REPERCUSSÃO DO ESQUEMA PC NA IMPRENSA EM 1992</a:t>
            </a:r>
            <a:endParaRPr b="0" lang="en-US" sz="30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2 – Revista Veja publica dossiê do irmão do presidente: as contas de Collor e de PC não entraram no confisco dos 15 primeiros dias do mandato de Collo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5 – PC Farias tem participação em pelo menos 09 empresas no exterio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07 – Os jardins nababescos da Dinda bancados pelos cofres públic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a:hlinkClick r:id="rId1"/>
          </p:cNvPr>
          <p:cNvPicPr/>
          <p:nvPr/>
        </p:nvPicPr>
        <p:blipFill>
          <a:blip r:embed="rId2"/>
          <a:stretch/>
        </p:blipFill>
        <p:spPr>
          <a:xfrm>
            <a:off x="3348000" y="5084640"/>
            <a:ext cx="1871640" cy="132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REPERCUSSÃO DO ESQUEMA PC NA IMPRENSA EM 1992</a:t>
            </a:r>
            <a:endParaRPr b="0" lang="en-US" sz="30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10/08 – População vai às ruas para pedir o </a:t>
            </a:r>
            <a:r>
              <a:rPr b="0" i="1" lang="pt-BR" sz="3200" spc="-1" strike="noStrike">
                <a:solidFill>
                  <a:srgbClr val="000000"/>
                </a:solidFill>
                <a:latin typeface="Arial"/>
              </a:rPr>
              <a:t>impeachement </a:t>
            </a:r>
            <a:r>
              <a:rPr b="0" lang="pt-BR" sz="3200" spc="-1" strike="noStrike">
                <a:solidFill>
                  <a:srgbClr val="000000"/>
                </a:solidFill>
                <a:latin typeface="Arial"/>
              </a:rPr>
              <a:t> de Collor (jovens caras-pintadas com dois “L” um verde e um amarelo clamam Fora-Collo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30/09 – Presidente renuncia, após voto da maioria do Congresso pela abertura de </a:t>
            </a:r>
            <a:r>
              <a:rPr b="0" i="1" lang="pt-BR" sz="3200" spc="-1" strike="noStrike">
                <a:solidFill>
                  <a:srgbClr val="000000"/>
                </a:solidFill>
                <a:latin typeface="Arial"/>
              </a:rPr>
              <a:t>impeachement</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a:hlinkClick r:id="rId1"/>
          </p:cNvPr>
          <p:cNvPicPr/>
          <p:nvPr/>
        </p:nvPicPr>
        <p:blipFill>
          <a:blip r:embed="rId2"/>
          <a:stretch/>
        </p:blipFill>
        <p:spPr>
          <a:xfrm>
            <a:off x="395280" y="3500280"/>
            <a:ext cx="1123920" cy="762120"/>
          </a:xfrm>
          <a:prstGeom prst="rect">
            <a:avLst/>
          </a:prstGeom>
          <a:ln w="0">
            <a:noFill/>
          </a:ln>
        </p:spPr>
      </p:pic>
      <p:pic>
        <p:nvPicPr>
          <p:cNvPr id="114" name="" descr="">
            <a:hlinkClick r:id="rId3"/>
          </p:cNvPr>
          <p:cNvPicPr/>
          <p:nvPr/>
        </p:nvPicPr>
        <p:blipFill>
          <a:blip r:embed="rId4"/>
          <a:stretch/>
        </p:blipFill>
        <p:spPr>
          <a:xfrm>
            <a:off x="7812000" y="3068640"/>
            <a:ext cx="895320" cy="1238400"/>
          </a:xfrm>
          <a:prstGeom prst="rect">
            <a:avLst/>
          </a:prstGeom>
          <a:ln w="0">
            <a:noFill/>
          </a:ln>
        </p:spPr>
      </p:pic>
      <p:pic>
        <p:nvPicPr>
          <p:cNvPr id="115" name="" descr="">
            <a:hlinkClick r:id="rId5"/>
          </p:cNvPr>
          <p:cNvPicPr/>
          <p:nvPr/>
        </p:nvPicPr>
        <p:blipFill>
          <a:blip r:embed="rId6"/>
          <a:stretch/>
        </p:blipFill>
        <p:spPr>
          <a:xfrm>
            <a:off x="6443640" y="3068640"/>
            <a:ext cx="942840" cy="1257120"/>
          </a:xfrm>
          <a:prstGeom prst="rect">
            <a:avLst/>
          </a:prstGeom>
          <a:ln w="0">
            <a:noFill/>
          </a:ln>
        </p:spPr>
      </p:pic>
      <p:pic>
        <p:nvPicPr>
          <p:cNvPr id="116" name="" descr="">
            <a:hlinkClick r:id="rId7"/>
          </p:cNvPr>
          <p:cNvPicPr/>
          <p:nvPr/>
        </p:nvPicPr>
        <p:blipFill>
          <a:blip r:embed="rId8"/>
          <a:stretch/>
        </p:blipFill>
        <p:spPr>
          <a:xfrm>
            <a:off x="4572000" y="3573360"/>
            <a:ext cx="1181160" cy="704880"/>
          </a:xfrm>
          <a:prstGeom prst="rect">
            <a:avLst/>
          </a:prstGeom>
          <a:ln w="0">
            <a:noFill/>
          </a:ln>
        </p:spPr>
      </p:pic>
      <p:pic>
        <p:nvPicPr>
          <p:cNvPr id="117" name="" descr="">
            <a:hlinkClick r:id="rId9"/>
          </p:cNvPr>
          <p:cNvPicPr/>
          <p:nvPr/>
        </p:nvPicPr>
        <p:blipFill>
          <a:blip r:embed="rId10"/>
          <a:stretch/>
        </p:blipFill>
        <p:spPr>
          <a:xfrm>
            <a:off x="2700360" y="3500280"/>
            <a:ext cx="1123920" cy="781200"/>
          </a:xfrm>
          <a:prstGeom prst="rect">
            <a:avLst/>
          </a:prstGeom>
          <a:ln w="0">
            <a:noFill/>
          </a:ln>
        </p:spPr>
      </p:pic>
      <p:pic>
        <p:nvPicPr>
          <p:cNvPr id="118" name="" descr="">
            <a:hlinkClick r:id="rId11"/>
          </p:cNvPr>
          <p:cNvPicPr/>
          <p:nvPr/>
        </p:nvPicPr>
        <p:blipFill>
          <a:blip r:embed="rId12"/>
          <a:stretch/>
        </p:blipFill>
        <p:spPr>
          <a:xfrm>
            <a:off x="7956720" y="5516640"/>
            <a:ext cx="923760" cy="1181160"/>
          </a:xfrm>
          <a:prstGeom prst="rect">
            <a:avLst/>
          </a:prstGeom>
          <a:ln w="0">
            <a:noFill/>
          </a:ln>
        </p:spPr>
      </p:pic>
      <p:pic>
        <p:nvPicPr>
          <p:cNvPr id="119" name="" descr="">
            <a:hlinkClick r:id="rId13"/>
          </p:cNvPr>
          <p:cNvPicPr/>
          <p:nvPr/>
        </p:nvPicPr>
        <p:blipFill>
          <a:blip r:embed="rId14"/>
          <a:stretch/>
        </p:blipFill>
        <p:spPr>
          <a:xfrm>
            <a:off x="6300720" y="5734080"/>
            <a:ext cx="11239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INDA RELEMBRANDO COLLOR...</a:t>
            </a:r>
            <a:endParaRPr b="0" lang="en-US" sz="30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ale destacar que Collor acreditou em sua impunidade até o último momento, só renunciando ao cargo após a derrota no Congresso (441 deputados foram a favor da abertura de processo de </a:t>
            </a:r>
            <a:r>
              <a:rPr b="0" i="1" lang="pt-BR" sz="2400" spc="-1" strike="noStrike">
                <a:solidFill>
                  <a:srgbClr val="000000"/>
                </a:solidFill>
                <a:latin typeface="Arial"/>
              </a:rPr>
              <a:t>impeachement, contra</a:t>
            </a:r>
            <a:r>
              <a:rPr b="0" lang="pt-BR" sz="2400" spc="-1" strike="noStrike">
                <a:solidFill>
                  <a:srgbClr val="000000"/>
                </a:solidFill>
                <a:latin typeface="Arial"/>
              </a:rPr>
              <a:t> 38 votos, tendo havido 23 ausências e 01 abstençã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enção: como o processo foi instaurado, malgrado ele tenha renunciado, as sanções da LIA foram aplicadas e ele teve seus direitos políticos cassados por 08 anos, quando tirou férias em Miami e atualmente é Senador da Repúbli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a:hlinkClick r:id="rId1"/>
          </p:cNvPr>
          <p:cNvPicPr/>
          <p:nvPr/>
        </p:nvPicPr>
        <p:blipFill>
          <a:blip r:embed="rId2"/>
          <a:stretch/>
        </p:blipFill>
        <p:spPr>
          <a:xfrm>
            <a:off x="3276720" y="5229360"/>
            <a:ext cx="22320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TÃO...</a:t>
            </a:r>
            <a:endParaRPr b="0" lang="en-US" sz="30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acontecimentos narrados, que marcaram o ano de 1992, indicam a importância e a oportunidade da Lei de Improbidade Administrativa ou Lei do Colarinho Branco para o momento histórico brasileiro e em prol da punição contra a corrupçã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5:34:06Z</dcterms:created>
  <dc:creator>Francisco</dc:creator>
  <dc:description/>
  <dc:language>en-US</dc:language>
  <cp:lastModifiedBy>Morgana</cp:lastModifiedBy>
  <dcterms:modified xsi:type="dcterms:W3CDTF">2009-11-11T13:36:53Z</dcterms:modified>
  <cp:revision>23</cp:revision>
  <dc:subject/>
  <dc:title>IMPROBIDADE ADMINISTRATIVA</dc:title>
</cp:coreProperties>
</file>