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99B6-F4A2-47A9-B8DC-53D1A36BD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247840"/>
            <a:ext cx="8229600" cy="16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106160"/>
            <a:ext cx="8229600" cy="16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0E71-5502-4AC7-B3CE-D165175E3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247840"/>
            <a:ext cx="4015800" cy="16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2247840"/>
            <a:ext cx="4015800" cy="16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106160"/>
            <a:ext cx="4015800" cy="16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106160"/>
            <a:ext cx="4015800" cy="16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447A-C211-4510-9BE2-DB455E720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2247840"/>
            <a:ext cx="2649600" cy="16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2247840"/>
            <a:ext cx="2649600" cy="16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2247840"/>
            <a:ext cx="2649600" cy="16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106160"/>
            <a:ext cx="2649600" cy="16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106160"/>
            <a:ext cx="2649600" cy="16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106160"/>
            <a:ext cx="2649600" cy="16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744F-4FA6-456E-9A8D-91527478C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224784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A5DA-F3F6-4100-9B41-F02467E63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224784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8408-E832-4DE3-B929-9408D933B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247840"/>
            <a:ext cx="401580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2247840"/>
            <a:ext cx="401580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5514-CEFE-4A96-865A-57D813D73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5C5E-D1AF-4166-BE89-24A956335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E25F-1F04-40C3-92E5-8D7FA1B0D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247840"/>
            <a:ext cx="4015800" cy="16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247840"/>
            <a:ext cx="401580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106160"/>
            <a:ext cx="4015800" cy="16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29AF-BE43-4491-B37D-6E54CDA2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7840"/>
            <a:ext cx="401580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7840"/>
            <a:ext cx="4015800" cy="16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106160"/>
            <a:ext cx="4015800" cy="16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3C33-0469-423A-AD44-2278A896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247840"/>
            <a:ext cx="4015800" cy="16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2247840"/>
            <a:ext cx="4015800" cy="16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06160"/>
            <a:ext cx="8229600" cy="16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59C1-94EB-4D37-9D5B-F7A239B5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224784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982800" indent="-19656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375920" indent="-1965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769040" indent="-19656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769040" indent="-196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769040" indent="-196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4F0C9-86BE-4035-AA16-C0BCAFB7CDC1}" type="slidenum">
              <a:rPr b="0" lang="pt-B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133200" y="95400"/>
            <a:ext cx="1054080" cy="842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640" y="3284640"/>
            <a:ext cx="7632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www.absolucta.com.br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10920" y="4724280"/>
            <a:ext cx="784836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ffffff"/>
                </a:solidFill>
                <a:latin typeface="Tahoma"/>
              </a:rPr>
              <a:t>APRESENTA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843280" y="909720"/>
            <a:ext cx="3168720" cy="23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96020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Legalidade, moralidade, eficiência, probidade, a razoabilidade (espelhos da opinião pública) e outros. Toda conduta ou ato administrativo capaz  de produzir efeitos jurídicos, que tenham sido emanados da Administração Pública nesta qualidade será objeto de contro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OBJETO DO CONTROL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95912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F/88 arts. 5º, incisos XXXV (princípio da ubigüidade ou da inafastabilidade do poder judiciário), II, XXXIII,XXXIV, XXXVI, LIV, LXVIII, LXIX, LXX, LXXI, LXXII, LXXII, LXXVII, 70/75, 97, 102, 103 e  EC nº 19 (introduziu o princípio da eficiência)  e 20; Leis nº 4.898/65, 8429/92 (Lei de Improbidade), 8.666/93, Lei Complementar 101/01 (Lei de Responsabilidade Fiscal), Código Penal, Leis Orgânicas municipais, Constituições Estaduais, entre outr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REGIME JURÍDIC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989000"/>
            <a:ext cx="8229600" cy="29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OBS: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A CF/88 enfatiza a necessidade do controle principiológico: publicidade, eficiência, moralidade, probidade, economicidade (relação entre custo e benefício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REGIME JURÍDICO - continuaçã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6840" y="2637000"/>
            <a:ext cx="843588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1- Quanto à Localização  do Órgão que Realiza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1.a) Interno (realizado por órgãos da própria Administração - Súmula 473 do STF); e,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1.b) Externo (efetivado por órgãos alheios à Administração, por exemplo, Tribunal de Contas e Câmara de Vereadore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519120" y="76464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CLASSIFICAÇÃ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96020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2 - Quanto ao momento em que é exercid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2.a) prévio: antes do ato ser editado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2.b) concomitante: durante a vigência do ato; e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2.c) posterior: após o ato ser editad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CLASSIFICAÇÃO - Continuaçã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96020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3 – Quanto ao objet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3.a) de legalidade: visa anular o ato ilegal;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3.b) de mérito: diz respeito à conveniência e oportunidade do ato. O controle de mérito visa aferir se o administrador público alcançou o resultado pretendido da melhor forma e com menos custos para a Administraçã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CLASSIFICAÇÃO - Continuaçã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68360" y="2205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4 – Quanto à origem do órgão que realiz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4.a) ADMINISTRATIVO: interno/autocontrole (realizado por órgãos da própria Administração - Súmula 473 do STF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4.b) LEGISLATIVO: externo/político (realizado pelo Poder Legislativo – art. 49, X, da CF/88)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4.c) JURISDICIONAL: externo/heterocontrole (realizado pelo Poder Judiciário), podendo ser preventivo ou corretiv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CLASSIFICAÇÃO - Continuaçã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ontrole administrativo ou executivo é exercido por órgãos sobre suas respectivas administraçõ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Decorre, em primeiro lugar, do princípio da autotutela, e, em segundo, da hierarquia administrativ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Súmula 473 do STF: “</a:t>
            </a:r>
            <a:r>
              <a:rPr b="0" i="1" lang="pt-BR" sz="2400" spc="-1" strike="noStrike">
                <a:solidFill>
                  <a:srgbClr val="ffffff"/>
                </a:solidFill>
                <a:latin typeface="Tahoma"/>
              </a:rPr>
              <a:t>A Administração pode anular seus próprios atos quando eivados de vícios que os tornem ilegais, porque deles não se originam direitos; ou revogá-los, por motivo de conveniência ou oportunidade, respeitados os direitos adquiridos, e ressalvada, em todos os casos, a apreciação judicial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”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CONTROLE ADMINISTRATIV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2247480"/>
            <a:ext cx="8229600" cy="38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O controle administrativo pode ser: de ofício ou por provocação da parte interessad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CONTROLE ADMINISTRATIVO - TIPO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2247480"/>
            <a:ext cx="8229600" cy="38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ffff"/>
                </a:solidFill>
                <a:uFillTx/>
                <a:latin typeface="Tahoma"/>
              </a:rPr>
              <a:t>Tipos de controle de ofício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) fiscalização hierárquica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b) supervisão superior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) controle financeiro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d) pareceres vinculantes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e) ouvidoria; e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f) recursos administrativos hierárquicos ou de ofício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CONTROLE ADMINISTRATIVO DE OFÍCI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45680" y="2349360"/>
            <a:ext cx="83739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1. CONTROLE DOS ATOS ADMINISTRATIV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2. FISCALIZAÇÃO PELO TRIBUNAL DE CONT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TEMAS: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2247480"/>
            <a:ext cx="8229600" cy="31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ffff"/>
                </a:solidFill>
                <a:uFillTx/>
                <a:latin typeface="Tahoma"/>
              </a:rPr>
              <a:t>Tipos de controle por provocação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) direito de petição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b) pedido de reconsideração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) reclamação administrativa; e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d) recurso administrativ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d.1) não vedação à </a:t>
            </a:r>
            <a:r>
              <a:rPr b="0" i="1" lang="pt-BR" sz="2400" spc="-1" strike="noStrike">
                <a:solidFill>
                  <a:srgbClr val="ffffff"/>
                </a:solidFill>
                <a:latin typeface="Tahoma"/>
              </a:rPr>
              <a:t>reformatio in pejus – 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pode julgar o recurso para piorar a situação do recorr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CONTROLE ADMINISTRATIVO POR PROVOCAÇÃ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98900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ffff"/>
                </a:solidFill>
                <a:uFillTx/>
                <a:latin typeface="Tahoma"/>
              </a:rPr>
              <a:t>Coisa julgada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– não existe na esfera administrativa. A decisão administrativa não faz coisa julgada material, porque não é definitiva como a judicial. Porém, há doutrinadores administrativistas que defendem a incidência da decadência administrativa, ou seja, o ato/decisão administrativa não pode ser revisto/a após 05 anos.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CONTROLE ADMINISTRATIVO E COISA JULGADA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23640" y="1990440"/>
            <a:ext cx="856908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O controle legislativo constitui uma das funções típicas do Poder Legislativo, ao lado da função de legisla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CONTROLE LEGISLATIV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23640" y="1990440"/>
            <a:ext cx="856908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 CF/88, no art. 49, X, dispõe que o Congresso Nacional tem a competência genérica para fiscalizar e controlar, diretamente, ou por qualquer de suas Casas, os atos do Poder Executivo, incluídos os da Administração indiret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 expressão máxima desse tipo de controle no Brasil é a possibilidade de perda de mandato pelo Presidente da República, Vice, Ministros de Estado, Ministros do STF, Procurador-Geral da República, Advogado-Geral da União, por prática de crime de responsabilidade (arts. 51, I, 52, I, 85 e 86, da CF/88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CONTROLE LEGISLATIVO - COMPETÊNCIA GENÉRICA 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23640" y="1990440"/>
            <a:ext cx="856908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)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instaurar CPI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b)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proceder a convocação de Ministro de Estado ou titular de órgão diretamente subordinado à Presidência da República, para prestarem pessoalmente informações sobre assuntos previamente determinado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)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sustar atos normativos do Poder Executivo que exorbitem o poder regulamentar ou extrapolem o âmbito da delegação legislativa; e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d)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exercer a fiscalização financeira, contábil, operacional e orçamentária sobre os atos e contratos dos demais poderes, com apoio técnico consultivo do Tribunal de Contas (controle legislativo indireto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CONTROLE LEGISLATIVO - COMPETÊNCIAS ESPECÍFICA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23640" y="2349000"/>
            <a:ext cx="8569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O legislativo faz ainda o controle das leis, através do controle prévio de constitucionalidade das normas, realizado pelas Comissões de Constituição e Justiç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DIMENSÃO POLÍTICA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95280" y="2060640"/>
            <a:ext cx="835344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Exercido privativamente pelo Judiciári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Decorre de ações constitucionai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Essa possibilidade de controle decorre de duas premissas do nosso ordenamento: a inafastabilidade da jurisdição e a legalidade - fundamentos do Estado Democrático de Direi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É exercido por meio de ações anulatórias, de repetição de indébito e de ações constitucionais (MS, MI, HC, HD, AP, ACP, ADIN, ADC, ADPF, etc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CONTROLE JUDICIÁRI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95280" y="2060640"/>
            <a:ext cx="835344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O controle dos atos discricionários pode ser feito pelo Judiciário? SIM. De acordo com o art. 5º, XXXV, CF/88 e a súmula 473 do STF em qualquer caso o ato poderá ser submetido à apreciação do Poder Judiciári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DISCRICIONARIEDADE ADMINISTRATIVA E O CONTROLE JUDICIA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39280" y="2204640"/>
            <a:ext cx="770436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s conseqüências deste tipo de controle podem se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) suspensão de efeitos de atos ou contrato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b) anulação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) imposição de obrigação de fazer ou de não fazer; e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d) imposição de obrigação de pagar, indenizar ou ressarci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CONSEQUÊNCIAS DO CONTROLE JUDICIÁRI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23920"/>
            <a:ext cx="82296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FISCALIZAÇÃO PELO TRIBUNAL DE CONTAS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CONTROLE DOS ATOS ADMINISTRATIVO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23640" y="2276640"/>
            <a:ext cx="85690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Os Tribunais de Contas surgiram no Brasil com esta denominação ao acender das luzes da República e permanecem até os dias atuais, desafiando estudiosos de Direito Constitucional e Administrativo.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Porém, a história de controle no Brasil remonta o período colonial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HISTÓRIA DO TRIBUNAL DE CONTA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23640" y="2276640"/>
            <a:ext cx="85690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Tribunal administrativo, e não jurisdicional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Julga as contas de administradores públicos e demais responsáveis por dinheiros, bens e valores públicos federais, bem como as contas de qualquer pessoa que der causa a perda, extravio ou outra irregularidade de que resulte prejuízo ao erário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rt. 71 da CF/88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FUNCIONAMENTO E COMPOSIÇÃO DO TRIBUNAL DE CONTA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21840" y="2276640"/>
            <a:ext cx="86425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Tribunal de Contas é órgão colegiado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omposição: 9 ministros (6 - indicados pelo Congresso Nacional; 1 - pelo presidente da República; e, 2 - escolhidos entre auditores e membros do Ministério Público que funcionem junto ao Tribunal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Tribunal de Contas dos Estados: 7 conselheiro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Deliberações são tomadas, em regra, pelo Plenário – instância máxima – ou, nas hipóteses cabíveis, por uma das duas Câmara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FUNCIONAMENTO E COMPOSIÇÃO DO TRIBUNAL DE CONTAS - Continuaçã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519120" y="1988640"/>
            <a:ext cx="8229600" cy="35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s funções básicas do Tribunal de Contas da União podem ser agrupadas da seguinte forma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) fiscalizadora; b) consultiva; c) informativa; d) judicante; e) sancionadora; f) corretiva; g) normativa; e h) de ouvidoria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lgumas de suas atuações assumem ainda o caráter educativo – ciclo de debates, encontros, palestras, diálogo público. Eis aí a função pedagógica do TC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FUNCIONAMENTO E COMPOSIÇÃO DO TRIBUNAL DE CONTAS - Continuaçã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5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rt. 70 da CF/88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 Constituição Federal de 1988 conferiu ao TCU o papel de auxiliar o Congresso Nacional no exercício do controle externo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ompetências constitucionais privativas do Tribunal – arts. 71 a 74 e 161, da CF/88.</a:t>
            </a: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COMPETÊNCIA DO TRIBUNAL DE CONTA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pesar de auxiliar o Poder Legislativo, o Tribunal de Contas não está subordinado a este, não o integra, detém autonomi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Princípio da prestação de contas da administração pública direta e indireta (art. 34, VII, d, da CF/88) - só tem eficácia de princípio do Estado Democrático enquanto as demais instituições de apuração dessas contas gozarem de autonomia e prestígio para o cumprimento dessa elevada missão, pois do contrário tudo não passará de mero exercício de formalidades vazias de resultados prático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INDEPENDÊNCIA E AUTONOMIA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Objeto: Controle externo da administração pública e da gestão dos recursos públicos estaduais – uso legal e racional do dinheiro públic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Importância: contribuir para a conformidade legal e desempenho da gestão dos recursos públicos e efetivo resultado das ações governamentais, atendendo às expectativas da sociedad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OBJETO E IMPORTÂNCIA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220464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À exceção feita ao exame prévio dos editais de licitação, todas as demais tarefas exercidas pelos Tribunais de Contas, são praticadas depois de praticado o ato, realizada a despesa, ou seja, a </a:t>
            </a:r>
            <a:r>
              <a:rPr b="0" i="1" lang="pt-BR" sz="2400" spc="-1" strike="noStrike">
                <a:solidFill>
                  <a:srgbClr val="ffffff"/>
                </a:solidFill>
                <a:latin typeface="Tahoma"/>
              </a:rPr>
              <a:t>posteriori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MOMENTO DO CONTROLE PELO TRIBUNAL DE CONTA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 decisão do Tribunal da qual resulte imputação de débito ou cominação de multa torna a dívida líquida e certa e tem </a:t>
            </a:r>
            <a:r>
              <a:rPr b="0" lang="pt-BR" sz="2400" spc="-1" strike="noStrike" u="sng">
                <a:solidFill>
                  <a:srgbClr val="ffffff"/>
                </a:solidFill>
                <a:uFillTx/>
                <a:latin typeface="Tahoma"/>
              </a:rPr>
              <a:t>eficácia de título executivo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(art. 71, § 3º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O responsável é notificado para, no prazo de quinze dias, recolher o valor devido aos cofres públicos. Se não recolhe no prazo, é formalizado processo de cobrança executiva, o qual é encaminhado ao Ministério Público junto ao Tribunal para, por meio da Advocacia-Geral da União (AGU) ou das entidades jurisdicionadas ao TCU, promover a cobrança judicial da dívida ou o arresto de be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EXECUTORIEDADE DAS DECISÕES DO TRIBUNAL DE CONTAS QUE CONDENE EM PAGAMENTO D DÉBITO OU MULTA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2247480"/>
            <a:ext cx="822960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Todas as decisões do Tribunal de Contas podem ser revistas pelo Judiciári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 discussão reside em saber se mesmo depois de passados 05 anos. Ainda não há decisão do STF quanto a iss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REVISÃO PELO PODER JUDICIÁRIO DAS DECISÕES DO TRIBUNAL DE CONTA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2247480"/>
            <a:ext cx="8362800" cy="31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 atividade de controle é de vital importância para o funcionamento do aparato de uma empresa, de uma organização. Com o Estado não poderia ser diferente.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IMPORTÂNCIA DO CONTROL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er uma instituição de excelência no controle externo e contribuir para o aperfeiçoamento da administração pública e da efetividade das políticas governamentais e dos controles intern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MISSÃO DO TRIBUNAL DE CONTA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224748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 consciência do valor que tem a articulação e a parceria entre as instituições responsáveis pelo controle externo e controle interno dos programas, projetos, ações e gastos da administração pública é uma contribuição efetiva à governabilidade e à consolidação da sociedade democrática.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RELAÇÃO COM O CONTROLE INTERN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Fiscalização e cultura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Importância da fiscalização e principalmente do controle interno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ontrole e o Estado Democrático de Direi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DESMISTIFICANDO O MEDO DE SER AUDITAD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2247480"/>
            <a:ext cx="8362800" cy="31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s atividades do Estado pressupõem a existência de planejamento, organização, direção, coordenação e, sobretudo, CONTRO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O controle decorre da SUPREMACIA CONSTITUCIONAL e a da SEPARAÇÃO DE PODER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 efetividade do controle está no sistema </a:t>
            </a:r>
            <a:r>
              <a:rPr b="0" i="1" lang="pt-BR" sz="2400" spc="-1" strike="noStrike">
                <a:solidFill>
                  <a:srgbClr val="ffffff"/>
                </a:solidFill>
                <a:latin typeface="Tahoma"/>
              </a:rPr>
              <a:t>check and balances ou seja,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FREIOS E CONTRAPES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CONCEIT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2247480"/>
            <a:ext cx="8362800" cy="31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 existência do binômio controle/responsabilidade dita a face democrática do Estad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O controle é inerente ao Estado Democrático de Direi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CONTROLE E ESTADO DE DIREIT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49360"/>
            <a:ext cx="8229600" cy="28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É finalístico, posto que decorre de uma relação entre idéia e fim (o bem comum, a preservação do Erário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É uma conseqüência lógica do ESTADO DE DIREITO. Trata-se de elemento de CALIBRAÇÃO DO PODER interna e externament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OBS: A atividade de controle envolve trabalho de exegese, hermenêutica e aplicação das normas de maneira sistêmica e coordenada ao caso concre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CARACTERÍSTICA DO CONTROL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96020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orreção da ação política e administrativa, bem como destina-se à aplicação de sanções ao agente ou à autoridade praticante da conduta irregula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OBS: O CONTROLE DEVE SER EFICIENTE,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ou seja, o controle eficiente é o que produz a perfeita e imprescindível adequação interna do ordenamento jurídico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FINALIDADE DO CONTROL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960560"/>
            <a:ext cx="822960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1- de integração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2- de conformidade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3- de conhecimento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4- de eficácia; e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5- de eficiênci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CLASSIFICAÇÃO DA FUNÇÃO DE CONTROL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8T21:52:52Z</dcterms:created>
  <dc:creator>Moitinho Leal</dc:creator>
  <dc:description/>
  <dc:language>en-US</dc:language>
  <cp:lastModifiedBy>a</cp:lastModifiedBy>
  <dcterms:modified xsi:type="dcterms:W3CDTF">2005-08-25T02:26:06Z</dcterms:modified>
  <cp:revision>112</cp:revision>
  <dc:subject/>
  <dc:title>PLANO  DE AULA DOS PONTOS 05,07, 08 e 09 DIA 14/01/04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