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C95-56E7-4191-B855-D314E6A5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0616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003-8CCF-467B-9F59-6EB1EA20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22F-2FBC-4364-9E53-D6D6A5CE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24784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06160"/>
            <a:ext cx="264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1F2-F1CA-4DD3-969A-26ADEEEE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3EB-8A0B-4701-A7D7-A5738FF8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F2E-7C7C-4506-AEE3-78CEDB5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9B3-FAA0-4F20-BBF9-2B838E1C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BBE-65B4-40B2-B462-EED54926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1A5-EEC5-4BCA-B9B1-4D11F6B3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FA7-A595-4979-8FF1-1FBAF31B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0616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6C5-FA40-4AF6-9985-3627885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247840"/>
            <a:ext cx="40158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6160"/>
            <a:ext cx="8229600" cy="16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F68-EEB8-474D-934C-E2B5A30F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24784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69040" indent="-196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69040" indent="-196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188A-EEA1-471E-89DD-55F13EA9B390}" type="slidenum">
              <a:rPr b="0" lang="pt-B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33200" y="95400"/>
            <a:ext cx="1054080" cy="84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284640"/>
            <a:ext cx="763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www.absolucta.com.br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4724280"/>
            <a:ext cx="7848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ffff"/>
                </a:solidFill>
                <a:latin typeface="Tahoma"/>
              </a:rPr>
              <a:t>APRESENTA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43280" y="90972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egalidade, moralidade, eficiência, probidade, a razoabilidade (espelhos da opinião pública) e outros. Toda conduta ou ato administrativo capaz  de produzir efeitos jurídicos, que tenham sido emanados da Administração Pública nesta qualidade será objeto de contr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BJETO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95912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F/88 arts. 5º, incisos XXXV (princípio da ubigüidade ou da inafastabilidade do poder judiciário), II, XXXIII,XXXIV, XXXVI, LIV, LXVIII, LXIX, LXX, LXXI, LXXII, LXXII, LXXVII, 70/75, 97, 102, 103 e  EC nº 19 (introduziu o princípio da eficiência)  e 20; Leis nº 4.898/65, 8429/92 (Lei de Improbidade), 8.666/93, Lei Complementar 101/01 (Lei de Responsabilidade Fiscal), Código Penal, Leis Orgânicas municipais, Constituições Estaduais, entre o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GIME JURÍD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BS: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A CF/88 enfatiza a necessidade do controle principiológico: publicidade, eficiência, moralidade, probidade, economicidade (relação entre custo e benefíci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GIME JURÍDIC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2637000"/>
            <a:ext cx="84358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- Quanto à Localização  do Órgão que Realiz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a) Interno (realizado por órgãos da própria Administração - Súmula 473 do STF); e,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b) Externo (efetivado por órgãos alheios à Administração, por exemplo, Tribunal de Contas e Câmara de Vereador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1912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 - Quanto ao momento em que é exerc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a) prévio: antes do ato ser editad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b) concomitante: durante a vigência do ato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c) posterior: após o ato ser edi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 – Quanto ao obje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a) de legalidade: visa anular o ato ilegal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b) de mérito: diz respeito à conveniência e oportunidade do ato. O controle de mérito visa aferir se o administrador público alcançou o resultado pretendido da melhor forma e com menos custos para a Administr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 – Quanto à origem do órgão que realiz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a) ADMINISTRATIVO: interno/autocontrole (realizado por órgãos da própria Administração - Súmula 473 do STF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b) LEGISLATIVO: externo/político (realizado pelo Poder Legislativo – art. 49, X, da CF/88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c) JURISDICIONAL: externo/heterocontrole (realizado pelo Poder Judiciário), podendo ser preventivo ou corre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role administrativo ou executivo é exercido por órgãos sobre suas respectivas administraçõ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orre, em primeiro lugar, do princípio da autotutela, e, em segundo, da hierarquia administra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úmula 473 do STF: “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A Administração pode anular seus próprios atos quando eivados de vícios que os tornem ilegais, porque deles não se originam direitos; ou revogá-los, por motivo de conveniência ou oportunidade, respeitados os direitos adquiridos, e ressalvada, em todos os casos, a apreciação judicial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administrativo pode ser: de ofício ou por provocação da parte interess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- TIP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Tipos de controle de ofíci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fiscalização hierárquic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supervisão superior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controle financeir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pareceres vinculante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) ouvidoria; 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) recursos administrativos hierárquicos ou de ofício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DE OFÍC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5680" y="2349360"/>
            <a:ext cx="83739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CONTROLE DOS ATOS ADMINISTRA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FISCALIZAÇÃO PELO TRIBUNAL DE CO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TEMA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Tipos de controle por provocaçã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direito de peti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pedido de reconsider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reclamação administrativa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recurso administra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.1) não vedação à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reformatio in pejus –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de julgar o recurso para piorar a situação do recorr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POR PROVOC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Coisa julgada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– não existe na esfera administrativa. A decisão administrativa não faz coisa julgada material, porque não é definitiva como a judicial. Porém, há doutrinadores administrativistas que defendem a incidência da decadência administrativa, ou seja, o ato/decisão administrativa não pode ser revisto/a após 05 anos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ADMINISTRATIVO E COISA JULGAD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legislativo constitui uma das funções típicas do Poder Legislativo, ao lado da função de legis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F/88, no art. 49, X, dispõe que o Congresso Nacional tem a competência genérica para fiscalizar e controlar, diretamente, ou por qualquer de suas Casas, os atos do Poder Executivo, incluídos os da Administração indir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xpressão máxima desse tipo de controle no Brasil é a possibilidade de perda de mandato pelo Presidente da República, Vice, Ministros de Estado, Ministros do STF, Procurador-Geral da República, Advogado-Geral da União, por prática de crime de responsabilidade (arts. 51, I, 52, I, 85 e 86, da CF/8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 - COMPETÊNCIA GENÉRICA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3640" y="1990440"/>
            <a:ext cx="856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staurar CP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er a convocação de Ministro de Estado ou titular de órgão diretamente subordinado à Presidência da República, para prestarem pessoalmente informações sobre assuntos previamente determinad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ustar atos normativos do Poder Executivo que exorbitem o poder regulamentar ou extrapolem o âmbito da delegação legislativa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rcer a fiscalização financeira, contábil, operacional e orçamentária sobre os atos e contratos dos demais poderes, com apoio técnico consultivo do Tribunal de Contas (controle legislativo indiret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LEGISLATIVO - COMPETÊNCIAS ESPECÍFIC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2349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legislativo faz ainda o controle das leis, através do controle prévio de constitucionalidade das normas, realizado pelas Comissões de Constituição e Justiç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IMENSÃO POLÍTIC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rcido privativamente pelo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orre de ações constitucion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sa possibilidade de controle decorre de duas premissas do nosso ordenamento: a inafastabilidade da jurisdição e a legalidade - fundamentos d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exercido por meio de ações anulatórias, de repetição de indébito e de ações constitucionais (MS, MI, HC, HD, AP, ACP, ADIN, ADC, ADPF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JUDICIÁR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dos atos discricionários pode ser feito pelo Judiciário? SIM. De acordo com o art. 5º, XXXV, CF/88 e a súmula 473 do STF em qualquer caso o ato poderá ser submetido à apreciação do Poder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ISCRICIONARIEDADE ADMINISTRATIVA E O CONTROLE JUDICI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2204640"/>
            <a:ext cx="77043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conseqüências deste tipo de controle podem s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suspensão de efeitos de atos ou contrat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) anulaçã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) imposição de obrigação de fazer ou de não fazer; 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) imposição de obrigação de pagar, indenizar ou ressarc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SEQUÊNCIAS DO CONTROLE JUDICIÁR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23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ISCALIZAÇÃO PELO TRIBUNAL DE CONT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DOS ATOS ADMINISTRATIVO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s Tribunais de Contas surgiram no Brasil com esta denominação ao acender das luzes da República e permanecem até os dias atuais, desafiando estudiosos de Direito Constitucional e Administrativo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rém, a história de controle no Brasil remonta o período colonial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HISTÓRIA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administrativo, e não jurisdic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Julga as contas de administradores públicos e demais responsáveis por dinheiros, bens e valores públicos federais, bem como as contas de qualquer pessoa que der causa a perda, extravio ou outra irregularidade de que resulte prejuízo ao erári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rt. 71 da CF/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1840" y="227664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de Contas é órgão colegiad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osição: 9 ministros (6 - indicados pelo Congresso Nacional; 1 - pelo presidente da República; e, 2 - escolhidos entre auditores e membros do Ministério Público que funcionem junto ao Tribun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ibunal de Contas dos Estados: 7 conselheir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liberações são tomadas, em regra, pelo Plenário – instância máxima – ou, nas hipóteses cabíveis, por uma das duas Câmar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912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funções básicas do Tribunal de Contas da União podem ser agrupadas da seguinte form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) fiscalizadora; b) consultiva; c) informativa; d) judicante; e) sancionadora; f) corretiva; g) normativa; e h) de ouvidor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lgumas de suas atuações assumem ainda o caráter educativo – ciclo de debates, encontros, palestras, diálogo público. Eis aí a função pedagógica do T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UNCIONAMENTO E COMPOSIÇÃO DO TRIBUNAL DE CONTAS - Continuaçã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rt. 70 da CF/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onstituição Federal de 1988 conferiu ao TCU o papel de auxiliar o Congresso Nacional no exercício do controle extern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mpetências constitucionais privativas do Tribunal – arts. 71 a 74 e 161, da CF/88.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MPETÊNCIA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pesar de auxiliar o Poder Legislativo, o Tribunal de Contas não está subordinado a este, não o integra, detém autono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incípio da prestação de contas da administração pública direta e indireta (art. 34, VII, d, da CF/88) - só tem eficácia de princípio do Estado Democrático enquanto as demais instituições de apuração dessas contas gozarem de autonomia e prestígio para o cumprimento dessa elevada missão, pois do contrário tudo não passará de mero exercício de formalidades vazias de resultados prátic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INDEPENDÊNCIA E AUTONOMI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: Controle externo da administração pública e da gestão dos recursos públicos estaduais – uso legal e racional do dinheiro públ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mportância: contribuir para a conformidade legal e desempenho da gestão dos recursos públicos e efetivo resultado das ações governamentais, atendendo às expectativas da socieda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OBJETO E IMPORTÂNCI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À exceção feita ao exame prévio dos editais de licitação, todas as demais tarefas exercidas pelos Tribunais de Contas, são praticadas depois de praticado o ato, realizada a despesa, ou seja, 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posteriori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MOMENTO DO CONTROLE PEL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ecisão do Tribunal da qual resulte imputação de débito ou cominação de multa torna a dívida líquida e certa e tem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ahoma"/>
              </a:rPr>
              <a:t>eficácia de título executiv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(art. 71, § 3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responsável é notificado para, no prazo de quinze dias, recolher o valor devido aos cofres públicos. Se não recolhe no prazo, é formalizado processo de cobrança executiva, o qual é encaminhado ao Ministério Público junto ao Tribunal para, por meio da Advocacia-Geral da União (AGU) ou das entidades jurisdicionadas ao TCU, promover a cobrança judicial da dívida ou o arresto de b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EXECUTORIEDADE DAS DECISÕES DO TRIBUNAL DE CONTAS QUE CONDENE EM PAGAMENTO D DÉBITO OU MULT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odas as decisões do Tribunal de Contas podem ser revistas pelo Judiciá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cussão reside em saber se mesmo depois de passados 05 anos. Ainda não há decisão do STF quanto a is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VISÃO PELO PODER JUDICIÁRIO DAS DECISÕES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atividade de controle é de vital importância para o funcionamento do aparato de uma empresa, de uma organização. Com o Estado não poderia ser diferente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IMPORTÂNCIA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r uma instituição de excelência no controle externo e contribuir para o aperfeiçoamento da administração pública e da efetividade das políticas governamentais e dos controles inter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MISSÃO DO TRIBUNAL DE CONTA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consciência do valor que tem a articulação e a parceria entre as instituições responsáveis pelo controle externo e controle interno dos programas, projetos, ações e gastos da administração pública é uma contribuição efetiva à governabilidade e à consolidação da sociedade democrática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RELAÇÃO COM O CONTROLE INTERN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iscalização e cultur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ortância da fiscalização e principalmente do controle intern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role e 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DESMISTIFICANDO O MEDO DE SER AUDITAD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atividades do Estado pressupõem a existência de planejamento, organização, direção, coordenação e, sobretudo, CONTR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decorre da SUPREMACIA CONSTITUCIONAL e a da SEPARAÇÃO DE PODE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fetividade do controle está no sistem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check and balances ou seja,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REIOS E CONTRAPE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CEIT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47480"/>
            <a:ext cx="8362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existência do binômio controle/responsabilidade dita a face democrática do Es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controle é inerente ao Estado Democrático de Dire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ONTROLE E ESTADO DE DIREIT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finalístico, posto que decorre de uma relação entre idéia e fim (o bem comum, a preservação do Erári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uma conseqüência lógica do ESTADO DE DIREITO. Trata-se de elemento de CALIBRAÇÃO DO PODER interna e externam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S: A atividade de controle envolve trabalho de exegese, hermenêutica e aplicação das normas de maneira sistêmica e coordenada ao caso concre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ARACTERÍSTICA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9602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rreção da ação política e administrativa, bem como destina-se à aplicação de sanções ao agente ou à autoridade praticante da conduta irregu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BS: O CONTROLE DEVE SER EFICIENTE,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u seja, o controle eficiente é o que produz a perfeita e imprescindível adequação interna do ordenamento jurídi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FINALIDADE DO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- de integraçã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- de conformidad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- de conhecimento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- de eficácia; 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5- de eficiê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CLASSIFICAÇÃO DA FUNÇÃO DE CONTRO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21:52:52Z</dcterms:created>
  <dc:creator>Moitinho Leal</dc:creator>
  <dc:description/>
  <dc:language>en-US</dc:language>
  <cp:lastModifiedBy>a</cp:lastModifiedBy>
  <dcterms:modified xsi:type="dcterms:W3CDTF">2005-08-25T02:26:06Z</dcterms:modified>
  <cp:revision>112</cp:revision>
  <dc:subject/>
  <dc:title>PLANO  DE AULA DOS PONTOS 05,07, 08 e 09 DIA 14/01/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