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4CD1-B124-4803-8D47-58B9B7691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36B8-75E6-4021-B6BE-A7C1E006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371D-2739-4CC1-9056-8B6D6B5D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A70A-6126-4BBE-A4CA-91D8AF3CE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B510-7B39-45C4-906D-6B2694B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986B-767D-48C9-834C-8CD72E38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3A25-5142-4A15-B792-1D3949F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442E-FDBB-4D42-9C50-9B070EEB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C1CE-BA1D-450D-9A77-25F5DD64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FA73-3036-4CC6-ADC5-50D88808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C648-1898-4555-877A-E8111EF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2119-6055-414F-A528-7849FD0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13D65-44E0-42EA-845F-10EDC2C2134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86040" y="2357280"/>
            <a:ext cx="5457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Bens Públic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06720" y="3529080"/>
            <a:ext cx="44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Formação do Patrimônio  Público e uso dos Bens Públicos pel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imitação e 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ruição de acordo com o princípio da Proporcio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ervar os padrões da adequação, necessida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eito aos valores fundamen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anormal ou extraordinári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Fruir do bem público de modo a excluir idêntico benefício a outrem, em situação de absoluta igual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Administração Pública deve ser previamente consultada quanto à pretenção de uso anormal (privativo), sob pena de ilici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imes Jurídicos para o uso anorm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utorização, Permissão e Conc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7280" y="1285920"/>
            <a:ext cx="63295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UTORIZAÇ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 o Poder Público consente que determinado indivíduo utilize bem público de modo privativo, atendendo primordialmente a seu próprio interesse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ERMI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ato administrativo pelo qual a  Administração consente que certa pessoa utilize privativamente bem público, atendendo ao mesmo tempo aos interesses público e privado. É unilateral, discricionário e prec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NCESSÃO DE USO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é o contrato administrativo pelo qual o Poder Público confere a pessoa determinada o uso privativo de bem público, independentemente do maior ou menor interesse público da pessoa concedente. Pode ser remunerada ou gratuita. É bilateral e vinculado aos termos contratu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ferenç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cessão: É Contrato Administrativo. É Bilat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rmissão e Autorização: São atos administrativos. São Unilat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DIFERENÇAS ENTRE OS INSTITUT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2880" y="981000"/>
            <a:ext cx="7575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riz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pensa Lei e Licit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so Faculta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mi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to Unilateral, Discricionário e Precári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Sem prazo de duração (regr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cessã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ontrato Administrativ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icitação Prév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tilização Obrigatór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Não há Precariedad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Rescis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8815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35400" y="2060640"/>
            <a:ext cx="38102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484280"/>
            <a:ext cx="367164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feira de artesan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73240" y="2133720"/>
            <a:ext cx="38304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1484280"/>
            <a:ext cx="374508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manifestação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ERMI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Barracas de Feira L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62280" y="2143080"/>
            <a:ext cx="602460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7280" y="1285920"/>
            <a:ext cx="63295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CESSÃO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xploração de Jazida 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7280" y="157176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Contratua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ecorrentes de negócio jurídico. Regulado pelo Direit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Naturais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Decorrentes de fenômenos da natur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usas Jurídicas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: Aquelas que a lei concede efeito especial translat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UTORIZAÇÃO DE US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*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cerbado ou Extraordinário -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2880" y="1052640"/>
            <a:ext cx="3809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rejudica Terceiros e o B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cc99"/>
                </a:solidFill>
                <a:uFillTx/>
                <a:latin typeface="Arial"/>
              </a:rPr>
              <a:t>*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rânsito em rodovia com veículo excepcionalmente longo ou de peso excessivo (fot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echamento de ruas por um final de seman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.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stalação de Cir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38720" y="1844640"/>
            <a:ext cx="379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UTORIZAÇ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utorização de uso de imóvel municipal por particular é ato unilateral da Administração Pública, de natureza discricionária, precária, através do qual esta consente na prática de determinada atividade individual incidente sobre um bem público. Trata-se, portanto, de ato revogável, sumariamente, a qualquer tempo, e sem ônus para o Poder Público” (RMS 16.280, 1ª T., rel. Min. José Delgado, j. em 19-02-2004, DJ de 19-04-2004, p. 15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35400" y="1916280"/>
            <a:ext cx="3810240" cy="43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889440" cy="4321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barracas de feiras 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8360" y="1197000"/>
            <a:ext cx="3744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bancas de jornal e re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PERMISSÃO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Modo Privativo ou Exacerbado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967280" cy="43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2000" y="5950080"/>
            <a:ext cx="748800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s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eríodo maior que o previsto para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toriz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981000"/>
            <a:ext cx="5688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locação de mesas e cadeiras em calçadas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PERMISSÃO DE USO -</a:t>
            </a:r>
            <a:br>
              <a:rPr sz="24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Jurisprudên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ssão é ato administrativo discricionário e precário pelo qual a Administração consente que o particular execute serviço de utilidade pública ou utilize bem público de forma exclusiva” (RMS 22.677, 2ª T., rel. Min. Humberto Martins, j. em 06-03-2007, DJ de 20-03-2007, p. 257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ermissão de uso é instituto de caráter precário que pode ser revogado a qualquer tempo pela Administração Pública, desde que não se demonstre conveniente e oportuna. Aplicação da Súmula 473 do STF” (RMS 17.644, 1ª T., rel. Min. Teori Albino Zavaski, j. em 20-03-2007, DJ de 12-04-2007, p. 21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= CONCESSÃO COMUM DE USO =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ntrato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5290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1197000"/>
            <a:ext cx="3816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área para parque de diver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197000"/>
            <a:ext cx="39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exploração de jazida miner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940200" cy="432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6308640"/>
            <a:ext cx="8388360" cy="549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.: por ser direito pessoal, não pode ser  transferi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 vivos” ou causa mortis”, para terc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48360" y="1981080"/>
            <a:ext cx="3744720" cy="42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de Concess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U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de Direito Real de Uso - CDRU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regularização fundiária de interesse social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eservação de comunidades tradicionai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ssão Especial para fins de moradia – C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ve para uso de imóvel urba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regulamentado pela Medida Provisória 2.220/200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óvel de no máximo 250 metros quadrado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fins de moradia própria ou da famíl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lo prazo de cinco a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dro Sinótico das diferenç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73240" y="981000"/>
          <a:ext cx="7772400" cy="554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S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o Administr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lici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itação prév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facultativo do bem pel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permit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ção obrigatória do bem pelo particular, conforme a finalidade concedi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redominante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nderância entre o interesse público e o do particul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e público e do particular podem ser equivalentes, ou haver predomínio de um ou de out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 prec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precaried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prazo (reg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zo determin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da ou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gação a qualquer tempo sem indenização, salvo se outorgada com prazo ou condicion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isão nas hipóteses previstas em lei. Cabe indenização, se a causa não for imputável ao concessioná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LHO, Marçal Justen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4.ed. São Paulo: Saraiva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RVALHO FILHO, José dos Santos. </a:t>
            </a: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Curso de Direito Administrativo.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20.ed. Lumen Juris,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quisi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riginári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Não há transmissão de propriedade. É direta. Ex: Acessão por aluvi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rivada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Há uma cadeia de transmissibilidade do b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1600200"/>
            <a:ext cx="6329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Calibri"/>
              </a:rPr>
              <a:t>Formas de aquisição de imó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ontratos: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Estado pode celebrar contratos visando adquirir b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sucapi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lei civil não descartou o Estado como possível titular do direito de usucapir.(art. 123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Desapropri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erda da propriedade pelo proprietário privado gera a aquisição pelo expropriente que, em regra, são as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cess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r formação de ilhas, etc. (art. 1248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7280" y="252360"/>
            <a:ext cx="632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Formação do Patrimôni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 algn="just">
              <a:spcBef>
                <a:spcPts val="799"/>
              </a:spcBef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Formas de aquisição de imóvei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Causa Mortis: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Direito subjetivo à herança. Possibilidade de receber bens por via de testamento. Herança j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rremat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m leilão não há impedimento quanto à participação de pessoas de direi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333080"/>
                <a:tab algn="l" pos="1078236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djudicação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Possível, desde que ocorridos os pressuposts da lei processual ( art. 685 – A,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Usados pela Pessoa Jurídica de direito público a que pertecem, independentemente de serem de uso comum, especial ou dominicai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ormas de u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Comum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Generalidade da utilizaçã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discriminação do administrador no que toca ao uso d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compatibilização do uso com os fins normais a que se des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qualquer gravame para permitir a uti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Uso de Bens Pú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7280" y="1600200"/>
            <a:ext cx="632952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Especial –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exclusividade do uso aos que pagam a remuneração ou aos que recebem consentimento estatal para o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onerosidade, nos casos de uso especial remune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privatividade, nos casos de uso especial priv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A inexistência de compatibilidade estrita, em certos casos, entre o uso e o fim a que se destina o b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5728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o dos Bens Públicos por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7280" y="1600200"/>
            <a:ext cx="63295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gra Geral: 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 regime de uso do bem público pelo particular varia em vista da espécie de bem que se 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comum: Utilizado por todos do po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e uso especial: Utilizado exclusivamente pela Administração Pública e por aqueles que preci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292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m dominical: Pode ser utilizado pela Administração Pública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8Z</dcterms:created>
  <dc:creator>Jonathan Niger</dc:creator>
  <dc:description/>
  <dc:language>en-US</dc:language>
  <cp:lastModifiedBy>Morgana</cp:lastModifiedBy>
  <dcterms:modified xsi:type="dcterms:W3CDTF">2010-04-20T09:56:58Z</dcterms:modified>
  <cp:revision>15</cp:revision>
  <dc:subject/>
  <dc:title>Bens Públicos</dc:title>
</cp:coreProperties>
</file>