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0003D-5E35-4FB1-B66B-4B6899E9C3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D374D-5B39-4797-BE16-9ACCBFEF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424A7-7ADD-4DF1-B3B5-86B0190D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1A143-3E25-4049-A0F3-1670A1F284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0CB04-059C-4DCE-BACF-D91F6B0C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93B73-79C3-4DAD-BE1B-82461FBE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B5ACC-2BDF-4A2F-8389-0277A3E8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1DA6B-D9AF-48DD-912C-D49F8CF2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8C36F-94E7-44B8-97C6-96CB7B49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76139-7083-424F-8BCE-C457A74F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54897-4F10-4161-9849-EAF51608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1D6B1-DF66-4418-BC22-2D57BBCE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24A111-AD7D-45B4-B711-771DC141887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86040" y="2357280"/>
            <a:ext cx="545796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Calibri"/>
              </a:rPr>
              <a:t>Bens Públic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06720" y="3529080"/>
            <a:ext cx="4494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Calibri"/>
              </a:rPr>
              <a:t>Formação do Patrimônio  Público e uso dos Bens Públicos pelo part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imitação e Requisi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ruição de acordo com o princípio da Proporciona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bservar os padrões da adequação, necessidad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espeito aos valores fundament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anormal ou extraordinári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Fruir do bem público de modo a excluir idêntico benefício a outrem, em situação de absoluta igual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ra Ger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Administração Pública deve ser previamente consultada quanto à pretenção de uso anormal (privativo), sob pena de ilicit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imes Jurídicos para o uso anorm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utorização, Permissão e Conces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57280" y="1285920"/>
            <a:ext cx="63295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UTORIZAÇÃO DE USO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o ato administrativo pelo qual o Poder Público consente que determinado indivíduo utilize bem público de modo privativo, atendendo primordialmente a seu próprio interesse. É unilateral, discricionário e prec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ERMISSÃO DE USO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o ato administrativo pelo qual a  Administração consente que certa pessoa utilize privativamente bem público, atendendo ao mesmo tempo aos interesses público e privado. É unilateral, discricionário e prec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NCESSÃO DE USO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o contrato administrativo pelo qual o Poder Público confere a pessoa determinada o uso privativo de bem público, independentemente do maior ou menor interesse público da pessoa concedente. Pode ser remunerada ou gratuita. É bilateral e vinculado aos termos contratu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iferenç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cessão: É Contrato Administrativo. É Bilate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ermissão e Autorização: São atos administrativos. São Unilater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32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AS DIFERENÇAS ENTRE OS INSTITUTO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2880" y="981000"/>
            <a:ext cx="7575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utorizaçã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to Unilateral, Discricionário e Precári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Dispensa Lei e Licitação (regr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Sem prazo de duração (regr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Uso Facultativ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ermissã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to Unilateral, Discricionário e Precári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Licitação Prév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Sem prazo de duração (regr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Utilização Obrigató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ncessã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Contrato Administrativ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Licitação Prév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Utilização Obrigatór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Não há Precariedad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Rescisã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388152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UTORIZAÇÃO DE U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35290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135400" y="2060640"/>
            <a:ext cx="3810240" cy="4176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148360" y="1484280"/>
            <a:ext cx="367164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feira de artesan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173240" y="2133720"/>
            <a:ext cx="3830400" cy="4103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87280" y="1484280"/>
            <a:ext cx="374508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manifestação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ERMISSÃO DE U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Barracas de Feira Li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62280" y="2143080"/>
            <a:ext cx="6024600" cy="45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NCESSÃO DE U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Exploração de Jazida Mi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714760" y="214308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57280" y="252360"/>
            <a:ext cx="6329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57280" y="157176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usas Contratuais: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 Decorrentes de negócio jurídico. Regulado pelo Direito Pri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usas Naturais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Decorrentes de fenômenos da natur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usas Jurídicas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: Aquelas que a lei concede efeito especial translativ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UTORIZAÇÃO DE USO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t-BR" sz="2400" spc="-1" strike="noStrike">
                <a:solidFill>
                  <a:srgbClr val="00cc99"/>
                </a:solidFill>
                <a:latin typeface="Arial"/>
              </a:rPr>
              <a:t>*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acerbado ou Extraordinário 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2880" y="1052640"/>
            <a:ext cx="38098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 u="sng">
                <a:solidFill>
                  <a:srgbClr val="00cc99"/>
                </a:solidFill>
                <a:uFillTx/>
                <a:latin typeface="Arial"/>
              </a:rPr>
              <a:t>*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normalidad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Prejudica Terceiros e o B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 u="sng">
                <a:solidFill>
                  <a:srgbClr val="00cc99"/>
                </a:solidFill>
                <a:uFillTx/>
                <a:latin typeface="Arial"/>
              </a:rPr>
              <a:t>*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x.1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trânsito em rodovia com veículo excepcionalmente longo ou de peso excessivo (foto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x.2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fechamento de ruas por um final de seman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x.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Instalação de Circ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35290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238720" y="1844640"/>
            <a:ext cx="37972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AUTORIZAÇÃO DE USO -</a:t>
            </a:r>
            <a:br>
              <a:rPr sz="24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Jurisprudê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824400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utorização de uso de imóvel municipal por particular é ato unilateral da Administração Pública, de natureza discricionária, precária, através do qual esta consente na prática de determinada atividade individual incidente sobre um bem público. Trata-se, portanto, de ato revogável, sumariamente, a qualquer tempo, e sem ônus para o Poder Público” (RMS 16.280, 1ª T., rel. Min. José Delgado, j. em 19-02-2004, DJ de 19-04-2004, p. 154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= PERMISSÃO DE USO =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Modo Privativo ou exacerbado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5290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135400" y="1916280"/>
            <a:ext cx="3810240" cy="432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3889440" cy="4321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16000" y="1197000"/>
            <a:ext cx="3816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barracas de feiras li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48360" y="1197000"/>
            <a:ext cx="374472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bancas de jornal e rev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= PERMISSÃO DE USO =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Modo Privativo ou Exacerbado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35290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4967280" cy="4392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332000" y="5950080"/>
            <a:ext cx="748800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s.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: período maior que o previsto para a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autorizaçã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40000" y="981000"/>
            <a:ext cx="568800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colocação de mesas e cadeiras em calçadas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PERMISSÃO DE USO -</a:t>
            </a:r>
            <a:br>
              <a:rPr sz="24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Jurisprudênc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ssão é ato administrativo discricionário e precário pelo qual a Administração consente que o particular execute serviço de utilidade pública ou utilize bem público de forma exclusiva” (RMS 22.677, 2ª T., rel. Min. Humberto Martins, j. em 06-03-2007, DJ de 20-03-2007, p. 257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ermissão de uso é instituto de caráter precário que pode ser revogado a qualquer tempo pela Administração Pública, desde que não se demonstre conveniente e oportuna. Aplicação da Súmula 473 do STF” (RMS 17.644, 1ª T., rel. Min. Teori Albino Zavaski, j. em 20-03-2007, DJ de 12-04-2007, p. 210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= CONCESSÃO COMUM DE USO =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Contrato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5290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1197000"/>
            <a:ext cx="3816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área para parque de diver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1197000"/>
            <a:ext cx="39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exploração de jazida mineral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3940200" cy="4321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5640" y="6308640"/>
            <a:ext cx="8388360" cy="549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s.: por ser direito pessoal, não pode ser  transferid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er vivos” ou causa mortis”, para tercei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48360" y="1981080"/>
            <a:ext cx="3744720" cy="42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pos de Concessõ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227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cessão de Us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cessão de Direito Real de Uso - CDRU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ve para regularização fundiária de interesse social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preservação de comunidades tradicionais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cessão Especial para fins de moradia – CE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ve para uso de imóvel urban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á regulamentado pela Medida Provisória 2.220/200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óvel de no máximo 250 metros quadrados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o para fins de moradia própria ou da famíli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lo prazo de cinco an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adro Sinótico das diferenç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73240" y="981000"/>
          <a:ext cx="7772400" cy="554688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IZAÇÃ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SSÃ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 Administr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 Administr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o Administr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há licitaç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itação prév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itação prév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 facultativo do bem pelo particula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ção obrigatória do bem pelo particular, conforme a finalidade permit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ção obrigatória do bem pelo particular, conforme a finalidade concedi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se predominante do particula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onderância entre o interesse público e o do particula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se público e do particular podem ser equivalentes, ou haver predomínio de um ou de outr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 precári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 precári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há precariedad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 prazo (regr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 prazo (regr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zo determin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da ou n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da ou n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da ou n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ogação a qualquer tempo sem indenização, salvo se outorgada com prazo ou condiciona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ogação a qualquer tempo sem indenização, salvo se outorgada com prazo ou condiciona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cisão nas hipóteses previstas em lei. Cabe indenização, se a causa não for imputável ao concessionári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LHO, Marçal Justen.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Curso de Direito Administrativo.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4.ed. São Paulo: Saraiva, 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RVALHO FILHO, José dos Santos.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Curso de Direito Administrativo.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20.ed. Lumen Juris, 20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57280" y="252360"/>
            <a:ext cx="6329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Aquisiçã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riginária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Não há transmissão de propriedade. É direta. Ex: Acessão por aluvi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Derivada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Há uma cadeia de transmissibilidade do b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57280" y="252360"/>
            <a:ext cx="6329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57280" y="1600200"/>
            <a:ext cx="63295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Formas de aquisição de imóve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ontratos: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O Estado pode celebrar contratos visando adquirir b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Usucapi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lei civil não descartou o Estado como possível titular do direito de usucapir.(art. 1238 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Desapropriaç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perda da propriedade pelo proprietário privado gera a aquisição pelo expropriente que, em regra, são as pessoas de direi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cess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por formação de ilhas, etc. (art. 1248 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57280" y="252360"/>
            <a:ext cx="6329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9880" indent="-569880" algn="just">
              <a:spcBef>
                <a:spcPts val="799"/>
              </a:spcBef>
              <a:tabLst>
                <a:tab algn="l" pos="0"/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333080"/>
                <a:tab algn="l" pos="1078236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Formas de aquisição de imóvei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ausa Mortis: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 Direito subjetivo à herança. Possibilidade de receber bens por via de testamento. Herança jac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rremataç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Em leilão não há impedimento quanto à participação de pessoas de direi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djudicaç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Possível, desde que ocorridos os pressuposts da lei processual ( art. 685 – A, 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Uso de Bens Púb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ra Ger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Usados pela Pessoa Jurídica de direito público a que pertecem, independentemente de serem de uso comum, especial ou dominicais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ormas de u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Co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Uso de Bens Púb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Comum – Caracterís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Generalidade da utilização do b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indiscriminação do administrador no que toca ao uso do b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compatibilização do uso com os fins normais a que se des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inexistência de qualquer gravame para permitir a utiliz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Uso de Bens Púb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57280" y="1600200"/>
            <a:ext cx="632952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Especial – Caracterís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exclusividade do uso aos que pagam a remuneração ou aos que recebem consentimento estatal para o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onerosidade, nos casos de uso especial remuner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privatividade, nos casos de uso especial priv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inexistência de compatibilidade estrita, em certos casos, entre o uso e o fim a que se destina o b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57280" y="1600200"/>
            <a:ext cx="632952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ra Ger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O regime de uso do bem público pelo particular varia em vista da espécie de bem que se 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m de uso comum: Utilizado por todos do po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m de uso especial: Utilizado exclusivamente pela Administração Pública e por aqueles que preci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m dominical: Pode ser utilizado pela Administração Pública ou n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4:16:28Z</dcterms:created>
  <dc:creator>Jonathan Niger</dc:creator>
  <dc:description/>
  <dc:language>en-US</dc:language>
  <cp:lastModifiedBy>Morgana</cp:lastModifiedBy>
  <dcterms:modified xsi:type="dcterms:W3CDTF">2010-04-20T09:56:58Z</dcterms:modified>
  <cp:revision>15</cp:revision>
  <dc:subject/>
  <dc:title>Bens Públicos</dc:title>
</cp:coreProperties>
</file>