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675-B3D8-4A0C-9601-67F1595A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A74-9EE2-4CE6-9BB9-345AF734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4A0-F156-47E9-8EC6-A56B4DF1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944-B20F-41BA-A16C-C2273A12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371-6E86-474B-958E-9FEC3401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671-1473-42DE-B01A-64CF39B6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BF4-112D-4E93-8338-89FFD550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039-3DCE-436C-8DB7-3D7FEEDD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353-5C18-46CC-9D8F-8996B7DD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0D77-E4D8-4E55-8AEA-7FD8F54B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90C-4392-4E5F-A828-C21EB530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812-07B9-4B0F-AA0B-D2FD41FE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7919-A451-4C94-9C2C-5A5D257B1D4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3" descr="alienação fiduciária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Calibri"/>
              </a:rPr>
              <a:t>Alienação Fiduciár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58644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Direitos do Fiduci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raticar atos conservatórios sobre o be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ceber o saldo do leilã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urgar a mora em caso de atraso no cumprimento das obrigações, desde que decorrido o prazo de carência. O prazo será definido no contra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Obrigações do Fiduci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agar a divida e acessóri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agar o IPTU, contribuições de condomínio e demais encargos sobre o imóve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sponder civilmente perante tercei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Classific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Bilateral ou Sinalagmátic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Forma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Oneros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Típic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cessóri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Comut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Legisl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Bem Mó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i nº. 4.728/65 (art. 66-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ec.-Lei nº. 911/6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Código Civil de 2002, arts. 1.361 a 1.3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Bem Imó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i nº. 9.514/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Penalidades pelo descumpri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Busca e Apreensão do bem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ção de Depósit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Falência do alienante, postular restituição do bem para venda e solução do seu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Obs.: a busca e apreensão pode ser convertida em ação de depósi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Obs.: se deixar de pagar uma prestação todo o débito vence antecipadamente (art. 2º, § 3º Dec. 9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Extin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dimplemento da obrigaçã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O perecimento da coisa alienada fiduciariam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 renúncia do credor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 adjudicação judicial, remição, arrematação ou venda extrajudicial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 confusã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 desapropriação da coisa alienada fiduciariam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O implemento de condição resolutiva a que estava subordinado o domínio do aliena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t0.gstatic.com/images?q=tbn:ANd9GcR5apJ4iPSTc6ARqciow6-LWDw99P26LJ4KSSEHeXeodzteO3zk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oncei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lienação fiduciária é o contrato pelo qual uma das partes aliena um bem para a outra sob a condição de ele ser restituído à sua propriedade quando verificado determinado fato”. (Fábio Ulho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t0.gstatic.com/images?q=tbn:ANd9GcQqljnz7dT9GiPwYBv4VtIUOKB9iE4qbQqc9aoVyj2gi68osVUcuA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"/>
          <p:cNvSpPr/>
          <p:nvPr/>
        </p:nvSpPr>
        <p:spPr>
          <a:xfrm>
            <a:off x="2411280" y="549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once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ângulo 2"/>
          <p:cNvSpPr/>
          <p:nvPr/>
        </p:nvSpPr>
        <p:spPr>
          <a:xfrm>
            <a:off x="1042920" y="2136600"/>
            <a:ext cx="7274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A alienação fiduciária em garantia consiste na transferência feita pelo devedor ao credor da propriedade resolúvel e da posse indireta de um bem infungível  (CC, art. 1.361) ou de um bem imóvel (Lei n. 9.514/97, arts. 22 a 33), como garantia de seu débito, resolvendo-se o direito do adquirente com o adimplemento da obrigação, ou melhor, com o pagamento da dívida garantida” (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http://www.viajus.com.br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0.gstatic.com/images?q=tbn:ANd9GcQqljnz7dT9GiPwYBv4VtIUOKB9iE4qbQqc9aoVyj2gi68osVUcuA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Sujeitos</a:t>
            </a: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Calibri"/>
              </a:rPr>
              <a:t>Fiduciár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Calibri"/>
              </a:rPr>
              <a:t>Fiducian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Direitos do Fiduci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ireitos do Fiduciá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ceber seu crédit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Exercer os direitos da propriedade resolúvel, bem como a posse indireta do be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propriar-se do produto da venda do imóvel para pagar-se, em caso de inadimplemento do fiduciante, entregando o saldo, se houver, ao fiduci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Direitos do Fiduci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Obter a consolidação da propriedade em seu nom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Intentar ação de reivindicação e ações possessória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Obter a reintegração de posse do imóvel (liminar), após a consolidaçã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Promover a cessão de credito transferindo ao cessionário todos os direitos e obrigações inerentes à propriedade fiduciária em garantia. (art. 28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Obrigações do Fiduci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Utilizar a posse direta do fiducia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Proporcionar ao alienante o empréstimo a que se obrigou e que está sendo garantido pela propriedade fiduciári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Respeitar a posse e o uso da coisa pelo devedor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Fornecer o termo de quitação, apos o pagamento da divida e de seus encargos pelo devedor, para possibilitar o cancelamento da propriedade fiduciária. Aqui se faz direto no registro de imóveis, tratando-se de uma averbação conforme Lei dos Registros Públi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Obrigações do Fiduci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Liberar a garantia fiduciária até 30 dias após receber seu crédito, sob pena de mult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Se inadimplente o fiduciante, promover sua notificação e demais atos de cobrança e leilão de acordo com a lei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Colocar o imóvel à venda, depois da consolidação, por meio de dois leilões públicos. (art. 27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Devolver ao fiduciante o saldo apurado na venda do imóvel. (art. 37, § 4º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Direitos do Fiduci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Ficar com a posse direta do bem alienado fiduciariament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Obter a propriedade plena após a implementação da sua obrigação contratual, sob pena de multa para o fiduciári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Exercer o livre uso e fruição do imóve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Intentar ações possessór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6:19:08Z</dcterms:created>
  <dc:creator>Fábio Mansur</dc:creator>
  <dc:description/>
  <dc:language>en-US</dc:language>
  <cp:lastModifiedBy>Fábio Mansur</cp:lastModifiedBy>
  <dcterms:modified xsi:type="dcterms:W3CDTF">2011-04-26T20:49:34Z</dcterms:modified>
  <cp:revision>14</cp:revision>
  <dc:subject/>
  <dc:title>Alienação Fiduciária</dc:title>
</cp:coreProperties>
</file>