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2B8B-612A-4475-B566-48BCBAC19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29B6-EC52-4F82-9B08-5B43EF778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B6E5-B509-4E87-9962-0B91F3AEB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9122-937F-4D7F-9EDC-623BF96EA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82B9-EC46-426C-8693-AB2FF2BDE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0733-1AD0-4C9C-A5BB-E8BE81E9F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E450-A599-41E0-9C00-6C865BF27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D039-F407-45C1-B5C0-5A1ACBDA5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1C52-D116-4677-9676-94D6CDCA8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0D15-958D-41D2-A88E-A0B9712D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4CAA-58B4-4276-A3EA-B78CF16D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4EF9-E37D-431F-B112-B63C1864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F326B-39E8-405E-BD89-FD77D3D37030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m 3" descr="alienação fiduciária.jpg"/>
          <p:cNvPicPr/>
          <p:nvPr/>
        </p:nvPicPr>
        <p:blipFill>
          <a:blip r:embed="rId1"/>
          <a:stretch/>
        </p:blipFill>
        <p:spPr>
          <a:xfrm>
            <a:off x="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000000"/>
                </a:solidFill>
                <a:latin typeface="Calibri"/>
              </a:rPr>
              <a:t>Alienação Fiduciária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4221000"/>
            <a:ext cx="5864400" cy="14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alibri"/>
              </a:rPr>
              <a:t>Direitos do Fiducian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Praticar atos conservatórios sobre o bem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Receber o saldo do leilão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Purgar a mora em caso de atraso no cumprimento das obrigações, desde que decorrido o prazo de carência. O prazo será definido no contrat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alibri"/>
              </a:rPr>
              <a:t>Obrigações do Fiducian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Pagar a divida e acessórios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Pagar o IPTU, contribuições de condomínio e demais encargos sobre o imóvel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Responder civilmente perante terceir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alibri"/>
              </a:rPr>
              <a:t>Classificaçã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Bilateral ou Sinalagmático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Formal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Oneroso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Típico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Acessório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Comutativ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alibri"/>
              </a:rPr>
              <a:t>Legislaçã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Bem Mó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Lei nº. 4.728/65 (art. 66-B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Dec.-Lei nº. 911/6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Código Civil de 2002, arts. 1.361 a 1.36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Bem Imó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Lei nº. 9.514/9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alibri"/>
              </a:rPr>
              <a:t>Penalidades pelo descumprimen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Busca e Apreensão do bem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Ação de Depósito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Falência do alienante, postular restituição do bem para venda e solução do seu crédi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Obs.: a busca e apreensão pode ser convertida em ação de depósit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Obs.: se deixar de pagar uma prestação todo o débito vence antecipadamente (art. 2º, § 3º Dec. 91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alibri"/>
              </a:rPr>
              <a:t>Extinçã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alibri"/>
              </a:rPr>
              <a:t>Adimplemento da obrigação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alibri"/>
              </a:rPr>
              <a:t>O perecimento da coisa alienada fiduciariamente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alibri"/>
              </a:rPr>
              <a:t>A renúncia do credor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alibri"/>
              </a:rPr>
              <a:t>A adjudicação judicial, remição, arrematação ou venda extrajudicial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alibri"/>
              </a:rPr>
              <a:t>A confusão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alibri"/>
              </a:rPr>
              <a:t>A desapropriação da coisa alienada fiduciariamente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alibri"/>
              </a:rPr>
              <a:t>O implemento de condição resolutiva a que estava subordinado o domínio do alienant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5" descr="http://t0.gstatic.com/images?q=tbn:ANd9GcR5apJ4iPSTc6ARqciow6-LWDw99P26LJ4KSSEHeXeodzteO3zk"/>
          <p:cNvPicPr/>
          <p:nvPr/>
        </p:nvPicPr>
        <p:blipFill>
          <a:blip r:embed="rId1"/>
          <a:stretch/>
        </p:blipFill>
        <p:spPr>
          <a:xfrm>
            <a:off x="7000920" y="0"/>
            <a:ext cx="214308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Calibri"/>
              </a:rPr>
              <a:t>Concei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Alienação fiduciária é o contrato pelo qual uma das partes aliena um bem para a outra sob a condição de ele ser restituído à sua propriedade quando verificado determinado fato”. (Fábio Ulho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http://t0.gstatic.com/images?q=tbn:ANd9GcQqljnz7dT9GiPwYBv4VtIUOKB9iE4qbQqc9aoVyj2gi68osVUcuA"/>
          <p:cNvPicPr/>
          <p:nvPr/>
        </p:nvPicPr>
        <p:blipFill>
          <a:blip r:embed="rId1"/>
          <a:stretch/>
        </p:blipFill>
        <p:spPr>
          <a:xfrm>
            <a:off x="7164360" y="0"/>
            <a:ext cx="197964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tângulo 1"/>
          <p:cNvSpPr/>
          <p:nvPr/>
        </p:nvSpPr>
        <p:spPr>
          <a:xfrm>
            <a:off x="2411280" y="549360"/>
            <a:ext cx="35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Calibri"/>
              </a:rPr>
              <a:t>Concei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tângulo 2"/>
          <p:cNvSpPr/>
          <p:nvPr/>
        </p:nvSpPr>
        <p:spPr>
          <a:xfrm>
            <a:off x="1042920" y="2136600"/>
            <a:ext cx="72741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A alienação fiduciária em garantia consiste na transferência feita pelo devedor ao credor da propriedade resolúvel e da posse indireta de um bem infungível  (CC, art. 1.361) ou de um bem imóvel (Lei n. 9.514/97, arts. 22 a 33), como garantia de seu débito, resolvendo-se o direito do adquirente com o adimplemento da obrigação, ou melhor, com o pagamento da dívida garantida” (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http://www.viajus.com.br</a:t>
            </a: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://t0.gstatic.com/images?q=tbn:ANd9GcQqljnz7dT9GiPwYBv4VtIUOKB9iE4qbQqc9aoVyj2gi68osVUcuA"/>
          <p:cNvPicPr/>
          <p:nvPr/>
        </p:nvPicPr>
        <p:blipFill>
          <a:blip r:embed="rId1"/>
          <a:stretch/>
        </p:blipFill>
        <p:spPr>
          <a:xfrm>
            <a:off x="7164360" y="0"/>
            <a:ext cx="197964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alibri"/>
              </a:rPr>
              <a:t>Sujeitos</a:t>
            </a:r>
            <a:r>
              <a:rPr b="0" lang="pt-BR" sz="4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ff"/>
                </a:solidFill>
                <a:latin typeface="Calibri"/>
              </a:rPr>
              <a:t>Fiduciári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ff"/>
                </a:solidFill>
                <a:latin typeface="Calibri"/>
              </a:rPr>
              <a:t>Fiduciant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alibri"/>
              </a:rPr>
              <a:t>Direitos do Fiduciár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Direitos do Fiduciár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Receber seu crédito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Exercer os direitos da propriedade resolúvel, bem como a posse indireta do bem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Apropriar-se do produto da venda do imóvel para pagar-se, em caso de inadimplemento do fiduciante, entregando o saldo, se houver, ao fiducia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alibri"/>
              </a:rPr>
              <a:t>Direitos do Fiduciár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alibri"/>
              </a:rPr>
              <a:t>Obter a consolidação da propriedade em seu nome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alibri"/>
              </a:rPr>
              <a:t>Intentar ação de reivindicação e ações possessórias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alibri"/>
              </a:rPr>
              <a:t>Obter a reintegração de posse do imóvel (liminar), após a consolidação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alibri"/>
              </a:rPr>
              <a:t>Promover a cessão de credito transferindo ao cessionário todos os direitos e obrigações inerentes à propriedade fiduciária em garantia. (art. 28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alibri"/>
              </a:rPr>
              <a:t>Obrigações do Fiduciár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alibri"/>
              </a:rPr>
              <a:t>Utilizar a posse direta do fiduciante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alibri"/>
              </a:rPr>
              <a:t>Proporcionar ao alienante o empréstimo a que se obrigou e que está sendo garantido pela propriedade fiduciária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alibri"/>
              </a:rPr>
              <a:t>Respeitar a posse e o uso da coisa pelo devedor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alibri"/>
              </a:rPr>
              <a:t>Fornecer o termo de quitação, apos o pagamento da divida e de seus encargos pelo devedor, para possibilitar o cancelamento da propriedade fiduciária. Aqui se faz direto no registro de imóveis, tratando-se de uma averbação conforme Lei dos Registros Públic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alibri"/>
              </a:rPr>
              <a:t>Obrigações do Fiduciár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alibri"/>
              </a:rPr>
              <a:t>Liberar a garantia fiduciária até 30 dias após receber seu crédito, sob pena de multa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alibri"/>
              </a:rPr>
              <a:t>Se inadimplente o fiduciante, promover sua notificação e demais atos de cobrança e leilão de acordo com a lei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alibri"/>
              </a:rPr>
              <a:t>Colocar o imóvel à venda, depois da consolidação, por meio de dois leilões públicos. (art. 27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alibri"/>
              </a:rPr>
              <a:t>Devolver ao fiduciante o saldo apurado na venda do imóvel. (art. 37, § 4º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alibri"/>
              </a:rPr>
              <a:t>Direitos do Fiducian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Ficar com a posse direta do bem alienado fiduciariament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Obter a propriedade plena após a implementação da sua obrigação contratual, sob pena de multa para o fiduciário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Exercer o livre uso e fruição do imóvel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Intentar ações possessóri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6T16:19:08Z</dcterms:created>
  <dc:creator>Fábio Mansur</dc:creator>
  <dc:description/>
  <dc:language>en-US</dc:language>
  <cp:lastModifiedBy>Fábio Mansur</cp:lastModifiedBy>
  <dcterms:modified xsi:type="dcterms:W3CDTF">2011-04-26T20:49:34Z</dcterms:modified>
  <cp:revision>14</cp:revision>
  <dc:subject/>
  <dc:title>Alienação Fiduciária</dc:title>
</cp:coreProperties>
</file>