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9C11-CC0E-4C46-8A9E-0085F57A3D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4B3-1C88-4EC3-9E98-7A261F6237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B03-4DF3-42FC-A7F4-040A9AF6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740-27E5-4077-97D0-F73817F4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903-A162-486D-B08F-A597D238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219-162B-4FC3-B73D-74522BB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AF1-4BDA-40D6-A1C1-E0AA94B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FE1-69FC-4060-A950-C496D04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295-473C-439C-BA39-2ECC46C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70D-B310-4571-9FD3-B7C1D097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CB9-CE6C-45BB-939C-6BE881C9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6CA-36A0-466D-9C1D-DAB8353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48C-09B9-4D01-ADC3-C4BB616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D5F-3A03-4ABB-B2BE-8579898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A358-DBF2-4451-B1DC-DC42B6325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ROWANIE ZESPOŁEM ZADANIOW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42760"/>
            <a:ext cx="64008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14760" y="2809800"/>
            <a:ext cx="3786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e kierow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chy kierowania w zespołach projektowych (zadaniowych) wskazują na szczególnie silną pozycję kierownika zespo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ierownik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zasadniczym czynnikiem powodzenia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asyczne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ole kierowni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menedżera) w zesp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le interpersonal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z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usza być odgrywane z dużym stopniem intensywnoś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walifikacje kierownika zespołu zadanioweg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miejętności branżowe (specjalistyczne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miejętności interpersonal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miejętność podejmowania decyz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5080" y="785880"/>
            <a:ext cx="8559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ces kierowania zespoł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 kierowania zespołem obejmu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nowan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tywowani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rolowa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az przenikającą funkcję koordynowan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tapy procesu kier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jęcie decyzji o działani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lecenie zadań członkom zespoł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enie warunków do dział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tywowanie pracowników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rolowa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jęcie decyz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jęcie decyzj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świadomym, nielosowym wyborem celu bądź sposobu działan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 postanowienie  o działaniu winno obejmować trzy główne faz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alizę sytuacji i zdefiniowanie problemu do rozwiąz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generowanie wariantów dojścia do stanu pożądan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ór stosownego (wg określonego kryterium) warian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lecenie zada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kazanie członkom zespołu wybranego wariantu do wykonani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drugą fazą procesu, która obejmu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ał zadań, a także, z regu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je na temat czasu i sposobu wykonania zad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kazanie zlecenia może przybrać posta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kaz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ece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lece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worzenie warun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worzenie warunk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obejmu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bezpieczenie działania w niezbędne zaso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zki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zeczow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nansow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awnienia do dysponowania n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worzenie warunków do dział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stępne ukierunkowanie zadań (określanie celów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definiowanie zadań i ich podzia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pewnianie środków niezbędnych do pracy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udzielanie niezbędnych informacji o działaniach grupy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bdarzenie członków grupy zaufaniem i wzbudzanie w nich zaufania do siebi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zwalanie energii i zaangażowania członków grupy w rozwiązywaniu problemów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zejmowanie odpowiedzialności i dowodzenie tylko tam, gdzie to konieczn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zmacnianie wśród członków grupy umiejętności podejmowania decyzji, kreatywnego rozwiązywania problemów i współpracy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dwracanie uwagi członków grupy od małostkowych nieporozumie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worzenie i podtrzymywanie klimatu współprac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tywowanie pracowni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tywowanie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ływaniem stanu gotowości do dział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uchamianiem  motywów ludzkiej aktyw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ni się to za pomocą różnych bodźców w nawiązaniu do rodzaju potrzeb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gzystencjal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łecz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ojow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orealizacji pracow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Czynniki wpływające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a skuteczność zespoł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rojektowanie prac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Skład zespołu dobiera się analizując czynniki takie jak: kwalifikacje, osobowość, role zespołowe, wielkość zespołów, zastępowalność członków, skłonność do pracy w zespo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Kontekst pracy, to dysponowanie dostatecznymi zasobami, skuteczne przywództwo, oraz system oceny i efektywności nagradzan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Proces pracy, zaangażowanie członków poprzez wspólne dążenia, konkretne cele, sukcesy, konflikty i próżniactwo społecz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ntrolowan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ntrol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jes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ównaniem wykonanych zadań ze stanem pożądanym (celem, planem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ciągnięciem wniosk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starczeniem informacji zwrotnej wykonawc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ejście sytuacyj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mienione fazy, funkcje kierowania mogą być realizowane z różnym stopniem uwzględnienia cech i partycypacji członków zespołu, tj. w zależności od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ylu kierowania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ór tego stylu,  jego wykorzystanie i efektywność są determinowane wieloma czynnikami. Najogólniej zależą one 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ierown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ległego zespoł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ostałych warunków działan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lnie zalecane tu jest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ejście sytuacyj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Tak więc np. presja czasu, zagrożenie życia itp. będą przemawiać za autokratycznym stylem kierow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rowan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sadnicza charakterystyka usług i kierowania zespołem zadaniowym wskazują na złożoność tych zagadnie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óżnicują się one w zależności 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u zad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ali dział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as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kości zespołu, i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23800" y="785880"/>
            <a:ext cx="8205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e i kwalifikacje kierow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Ludzie, którzy mają cel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osiągają sukces, bo wiedz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dokąd zmierzają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Earl Nightinga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włas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Dążenie do samorealizacji jest najwyższą w hierarchii potrzebą człowieka, a jej zaspokojenie jest jednocześnie niezbędne do posiadania poczucia sensu, koherencji i spełni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. Wie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04880" y="1571760"/>
            <a:ext cx="7653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2. Umiejęt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286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alanie cel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143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Nie obawiaj się kroczenia naprzód powol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Obawiaj się stania w miejscu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Japońskie przysłow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UTECZNOŚĆ ZESP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4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ażda zmiana może przynieść korzyść jeś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5366880"/>
            <a:ext cx="742932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iężar zainteresowania skupia się  na potrzebach , pragnieni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zachowaniu człowieka w organizacji, a najwyższą wartością pozostaje w organizacji praca dobrze przygotowanych kad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A8A-B23D-4C83-8A5D-F795BCC775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obiektywni.pl/upload/real/44/216588_956023.jpg"/>
          <p:cNvPicPr/>
          <p:nvPr/>
        </p:nvPicPr>
        <p:blipFill>
          <a:blip r:embed="rId1"/>
          <a:srcRect l="0" t="11352" r="0" b="11352"/>
          <a:stretch/>
        </p:blipFill>
        <p:spPr>
          <a:xfrm>
            <a:off x="214200" y="214200"/>
            <a:ext cx="87156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07880" y="571680"/>
            <a:ext cx="84344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CES KIEROWANIA ZESPOŁ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Możesz motywować strache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Możesz tez motywować nagrod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Ale obie te metody są tylko tymczasow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Jedyna rzeczą trwałą jest automotywacja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898989"/>
                </a:solidFill>
                <a:latin typeface="Calibri"/>
              </a:rPr>
              <a:t>Homer Ri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4214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98989"/>
                </a:solidFill>
                <a:latin typeface="Calibri"/>
              </a:rPr>
              <a:t>Kierowanie zespołem </a:t>
            </a: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– to takie oddziaływanie na jego członków, aby spowodować właściwe ich postawy i zachowania a w finalnie – pożądane parametry proje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Sprawne kierowanie zespołem jest istotnym warunkiem osiągnięcia cel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zy kier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za preparacji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ejmując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icjację projektu (cel, zakres, hierarchia zadań, ocena ryzyka, ograniczenia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worzenie zespołu zadaniow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planowanie działań, czasu realizacji, kosz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za realizacj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tj. wykonania projektu – zgodnie z plan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za kontroli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tzn. porównanie wykonania projektu z planem i rozliczenie (zamknięcie) projektu. Warto podkreślić szczególną rol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eparacj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rojektu w uzyskaniu powodzenia, w praktyce często niedocenian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pecyfikę kierowania zespołem zadaniowym wyznacz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ony czas (presja czasu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ienność zadań (ról) uczestnik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trzeba zdecydowanej zespołowośc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tensywna komunik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oorganizacja i samokontrol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oka dyscyplin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ększa emocjonalność i napięcia w działania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trzeba szczególnej motywacji członków zespo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90010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2:31:12Z</dcterms:created>
  <dc:creator>Gosia</dc:creator>
  <dc:description/>
  <dc:language>en-US</dc:language>
  <cp:lastModifiedBy>Basia</cp:lastModifiedBy>
  <dcterms:modified xsi:type="dcterms:W3CDTF">2010-12-17T08:49:22Z</dcterms:modified>
  <cp:revision>98</cp:revision>
  <dc:subject/>
  <dc:title>KIEROWANIE ZESPOŁEM ZADANIOWYM</dc:title>
</cp:coreProperties>
</file>