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567-280D-4F25-8CD6-60C4DC33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08E-B807-4AA7-875A-0FFDB49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F30-AC23-48C3-BF2C-7129079B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E33-9FA6-467D-BEFB-4570DFE2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4A45-C6CC-4834-ADE9-748FE82F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9B77-B59D-4324-A665-F69AA4E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BD12-D06A-4CB5-BBE2-A4CF4BC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6D1C-F0A1-45CE-83DA-DC3D6B5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865-38E6-4862-AA68-D8CCACE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D475-BAD8-4EE1-9341-3522FB7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AAB-6B06-48B1-833B-DE796A6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369-3072-4B5E-B692-A2A4DDE8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5129-EABD-4180-934A-94F6102F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21B-B42B-4989-A851-B7AB449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1D58-0E10-4EC7-87A2-65C8D9A2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724-D980-46F9-8F6A-C08B422B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CE4-2822-40F5-B8EE-9DF8C6A6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13FB-780F-4877-9540-AD3BC06C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7AB7-4BEC-4916-A2A7-874FCD1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A045-BE86-4F84-B977-5F3C430A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B1FC-71E9-4252-B376-BCC3AE1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4D84-5FAE-44DA-BCAF-D4C0DD5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D67-105A-4BA3-B35A-BAA659A8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FD91-1C5D-41B9-AC27-80D82EC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7D43-8C62-4DE9-848B-19CF65F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D50F-4BF8-492C-8686-90D800F4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60F8-A1A6-422E-9B75-93D5B8A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1E63-0569-4D4A-A9D5-F9198D0A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AB51-2768-44B5-A069-10164E8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B29C-236D-41E0-A09B-FEB870AD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4514-B8CD-4CDC-B5A8-6476B334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BBDC-2DD1-406D-991F-3BDF38A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EA1E-F329-472D-ACAB-D09427A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F94-30F7-4E8D-A59A-A6AA83D9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7EE1-9956-4751-B9C7-3C4114A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9A4A-6F40-4C86-9B14-EA5BA81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D14F4-0037-40E5-8CA2-9C71BCA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926F-132E-4B92-AA03-3D6F84B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85B5-5EAB-45CF-BE1C-93298CA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754F-67FE-4860-857F-7DFAE0A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7043-6DD2-4884-8C4A-3105860A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C129-05DF-4372-AD6D-EE023871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AE2D-C83B-4527-8273-BA9C2459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B3B-A66B-4C0C-BF52-63C33D40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4C1-4632-49BB-9ACE-FDEA176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ECF-1196-422B-A0AE-F2299981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30E-A00E-42C0-9003-00A85D7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20E-9756-4CDF-BCC6-59807E5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FD0-2D9E-4CCC-91F4-0CC946BB215E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6394-978D-4311-B635-DE94CDC0C72F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14E-6FCF-4D2F-971D-527E788CBC13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2BF-56BA-46A0-AEF9-59CACBEB74BC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Podstawowe normy i wzorce postępowa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mienne w czasie i przestrzen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Informacje z poszczególnych okresów muszą być porównywalne, stąd konieczność stosowania tych samych zasad wyceny, rozwiązań ustalania wyniku finansowego, przedstawiania informacji w sprawozdaniu finansowym w ten sam sposób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835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Pozycje istotne pozycje istotne dla oceny sytuacji podmiotu podawane są oddzielnie, w ewidencji można przyjmować uproszcze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swej istocie niezmienne w czasi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najważniejsze metod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- podmiotow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- bilansow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-  momentów i okresów sprawozdawczy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- grupowani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- wycen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darzenia są grupowane, interpretowane i rejestrowane z punktu widzenia podmiotu, którego dotyczą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Polega na podwójnej obserwacji majątku podmiotu i zdarzeń, które ten majątek zmieniają oraz ustaleniu równowagi między nim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(z metody tej wynika reguła podwójnego zapis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ytuł 1" descr=""/>
          <p:cNvPicPr/>
          <p:nvPr/>
        </p:nvPicPr>
        <p:blipFill>
          <a:blip r:embed="rId1"/>
          <a:stretch/>
        </p:blipFill>
        <p:spPr>
          <a:xfrm>
            <a:off x="304920" y="1365120"/>
            <a:ext cx="8089920" cy="682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Umożliwia ustalenie w dowolnie wybranym momencie, w sposób ścisły (liczbowo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artości majątku i źródeł jego pochodzenia na dany mo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Rozmiarów procesów gospodarczych, które miały miejsce między następującymi po sobie momentam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c00000"/>
                </a:solidFill>
                <a:latin typeface="Constantia"/>
              </a:rPr>
              <a:t>Przyjmuje się abstrakcyjne założenie, że na moment sprawozdawczy ciąg zdarzeń zostaje przerwany (fotografia)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elekcjonując i klasyfikując tworzy się zbiory, które mają wspólne cech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Przedmioty i zjawiska są grupowane zgodnie z kryterium wartości i wyceniane w mierniku pieniężnym (w Polsce – polski złoty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Jednostki naturalne są jednostkami pomocniczym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Momenty wyceny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istnienie zdarzenia (w ciągu roku)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moment sprawozdawczy (koniec ro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ytuł 1" descr=""/>
          <p:cNvPicPr/>
          <p:nvPr/>
        </p:nvPicPr>
        <p:blipFill>
          <a:blip r:embed="rId1"/>
          <a:stretch/>
        </p:blipFill>
        <p:spPr>
          <a:xfrm>
            <a:off x="304920" y="1127160"/>
            <a:ext cx="8089920" cy="914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pl-PL" sz="26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0" i="1" lang="pl-PL" sz="2600" spc="-1" strike="noStrike">
                <a:solidFill>
                  <a:srgbClr val="ffffff"/>
                </a:solidFill>
                <a:latin typeface="Constantia"/>
              </a:rPr>
              <a:t>zbiór specyficznych zasad, prawideł, konwencji, reguł i praktyk przyjętych przez jednostkę przy sporządzaniu i prezentacji sprawozdań finansowych”. Jednym z istotnych elementów polityki rachunkowości jest przyjęcie określonych zasad i metod wyceny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ffffff"/>
                </a:solidFill>
                <a:latin typeface="Constantia"/>
              </a:rPr>
              <a:t>Wg MSS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ytuł 1" descr=""/>
          <p:cNvPicPr/>
          <p:nvPr/>
        </p:nvPicPr>
        <p:blipFill>
          <a:blip r:embed="rId1"/>
          <a:stretch/>
        </p:blipFill>
        <p:spPr>
          <a:xfrm>
            <a:off x="304920" y="1127160"/>
            <a:ext cx="808992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rządzający mają prawo wyboru zasad oraz obowiązek stosowania ich w sposób ciągły i informowania o wprowadzanych zmian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sady są determinantą pozwalającą na ocenę rzetelności i wiarygodności informacji sprawozdawczej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pisane są „biblią” każdego podmiotu gospodarcze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160" y="2356920"/>
            <a:ext cx="785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sada nadrzędna: </a:t>
            </a:r>
            <a:r>
              <a:rPr b="0" lang="pl-PL" sz="2600" spc="-1" strike="noStrike">
                <a:solidFill>
                  <a:srgbClr val="c00000"/>
                </a:solidFill>
                <a:latin typeface="Constantia"/>
              </a:rPr>
              <a:t>wiernego i rzetelnego obrazu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(„true and fair view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Ma zapewnić rzetelne i jasne przedstawienie sytuacji majątkowej i finansowej podmiotu oraz jego wyniku finansowe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ytuł 1" descr=""/>
          <p:cNvPicPr/>
          <p:nvPr/>
        </p:nvPicPr>
        <p:blipFill>
          <a:blip r:embed="rId1"/>
          <a:stretch/>
        </p:blipFill>
        <p:spPr>
          <a:xfrm>
            <a:off x="304920" y="1127160"/>
            <a:ext cx="8089920" cy="9144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okumentacja dotycząca wybranych i stosowanych zakładowych zasad rachunkowości powinna określać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rok obrotowy wraz z okresami sprawozdawczymi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ybrane metody wyceny aktywów i pasywów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metodę ustalania wyniku finansowego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posób prowadzenia ksiąg rachunkowych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ystem ochrony danych i ich zbioró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ytuł 1" descr=""/>
          <p:cNvPicPr/>
          <p:nvPr/>
        </p:nvPicPr>
        <p:blipFill>
          <a:blip r:embed="rId1"/>
          <a:stretch/>
        </p:blipFill>
        <p:spPr>
          <a:xfrm>
            <a:off x="304920" y="1127160"/>
            <a:ext cx="808992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okumentacja zakładowych zasad rachunkowości musi obligatoryjnie obejmować co najmniej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kładowy plan kont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ykaz ksiąg rachunkowych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okumentację systemu przetwarzania dany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uzupełnieniem dokumentacji jest również statut lub umowa, na podstawie której powstał dany podmio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689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160" y="2499840"/>
            <a:ext cx="7854840" cy="3357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memoriał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współmiernoś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ostrożnoś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kontynuacji działa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periodyzacj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zakazu kompens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ciągłości (porównywalności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asada istotnoś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księgach należy ująć wszystkie zdarzenia gospodarcze, które miały miejsce w danym okresi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otyczy kosztów i przychodów – muszą zostać ujęte wszystkie, które zaistniały w danym okresie, tak aby można było ustalić wynik za dany ok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sięgowy zgodnie z nią to zawodowy pesymista, nie wolno zawyżać wartości majątku i przychodów, nie wolno zaniżać kosztów i zobowiązań (przychody pewne, koszty nawet prawdopodobn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Zakłada się, że nie ma konieczności ani zamiaru likwidacji działalności w dającej się przewidzieć przyszłości (ocena zarząd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Ewidencja jest prowadzona w podziale na okresy sprawozdawcz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ytuł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120160" cy="18907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Inaczej zasad jasności, kategorie ważne pokazuje się w sprawozdaniu oddzielnie, bez przeciwstawia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ategorie nieistotne są łącz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8:14:55Z</dcterms:created>
  <dc:creator>HOME</dc:creator>
  <dc:description/>
  <dc:language>en-US</dc:language>
  <cp:lastModifiedBy>HOME</cp:lastModifiedBy>
  <dcterms:modified xsi:type="dcterms:W3CDTF">2009-10-02T06:23:07Z</dcterms:modified>
  <cp:revision>32</cp:revision>
  <dc:subject/>
  <dc:title>Slajd 1</dc:title>
</cp:coreProperties>
</file>