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B300-1D4C-43D3-A19B-795733AF4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E72F-57A1-49FB-935A-750BF1BF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F6DF0-A4AD-4309-AB69-B3CCAF797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D4A54-7E83-463C-B85F-33A5F00E7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329F2-755C-439C-B6F6-39F66F436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1E769-D9E8-435C-9C9E-4E4AC0BF9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8F603-2E74-4B4F-9D5F-788E1659B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5DEE9-D261-4B90-9288-E37AAA136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1E09B-355C-4F37-9F41-A16FE93F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71CCE-3214-4461-BA2A-15244E154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0643C-7C15-4746-84A2-58396AA89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460A8-6575-42EB-A40A-6B1A1C95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46CD1-F2EF-4A57-BED4-8150B548E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6B969-A3A9-48FB-B610-A4C997D6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7D75D-DE01-4F43-867A-7B562EAE5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11374-976C-4F02-831E-3C865E5D7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CED95-6952-4F20-916E-41CA20FB8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2D3A4-AA79-4DDC-BA04-B86EEAF9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908C-1885-4C7C-8987-CC7148FA6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D432C-0D2D-4701-B12D-5B8E9900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1C02D-2BA7-494A-93C6-F04FC8B3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0BA14-A875-4B41-B8CE-1DC61A42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6DB3-D441-4EF5-99C8-A4430E636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552E-3BAC-49C8-9967-AADF1020A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47D8-4833-47FD-A601-0D20B77E67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A9AF-B69B-42E9-9DD8-C884809A41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919080"/>
            <a:ext cx="7632720" cy="210528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eec94"/>
                </a:solidFill>
                <a:latin typeface="Times New Roman"/>
              </a:rPr>
              <a:t>Rachunkowość finansowa</a:t>
            </a:r>
            <a:endParaRPr b="1" lang="en-US" sz="6600" spc="-1" strike="noStrike">
              <a:solidFill>
                <a:srgbClr val="feec94"/>
              </a:solidFill>
              <a:latin typeface="Times New Roman"/>
            </a:endParaRPr>
          </a:p>
        </p:txBody>
      </p:sp>
      <p:sp>
        <p:nvSpPr>
          <p:cNvPr id="121" name="PlaceHolder 2"/>
          <p:cNvSpPr>
            <a:spLocks noGrp="1"/>
          </p:cNvSpPr>
          <p:nvPr>
            <p:ph type="subTitle"/>
          </p:nvPr>
        </p:nvSpPr>
        <p:spPr>
          <a:xfrm>
            <a:off x="631800" y="5949720"/>
            <a:ext cx="7880400" cy="430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mestr zimowy 2009/2010                                                    </a:t>
            </a:r>
            <a:endParaRPr b="0" lang="en-US" sz="2400" spc="-1" strike="noStrike">
              <a:solidFill>
                <a:srgbClr val="ffffff"/>
              </a:solidFill>
              <a:latin typeface="Times New Roman"/>
            </a:endParaRPr>
          </a:p>
        </p:txBody>
      </p:sp>
      <p:sp>
        <p:nvSpPr>
          <p:cNvPr id="122" name=""/>
          <p:cNvSpPr/>
          <p:nvPr/>
        </p:nvSpPr>
        <p:spPr>
          <a:xfrm>
            <a:off x="539640" y="4005360"/>
            <a:ext cx="7766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Edward Pielichaty</a:t>
            </a:r>
            <a:endParaRPr b="0" lang="en-US" sz="3200" spc="-1" strike="noStrike">
              <a:solidFill>
                <a:srgbClr val="ffffff"/>
              </a:solidFill>
              <a:latin typeface="Arial"/>
            </a:endParaRPr>
          </a:p>
        </p:txBody>
      </p:sp>
      <p:sp>
        <p:nvSpPr>
          <p:cNvPr id="123" name=""/>
          <p:cNvSpPr/>
          <p:nvPr/>
        </p:nvSpPr>
        <p:spPr>
          <a:xfrm>
            <a:off x="539640" y="4724280"/>
            <a:ext cx="777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wersytet Ekonomiczny we Wrocławiu</a:t>
            </a:r>
            <a:endParaRPr b="0" lang="en-US" sz="2800" spc="-1" strike="noStrike">
              <a:solidFill>
                <a:srgbClr val="ffffff"/>
              </a:solidFill>
              <a:latin typeface="Arial"/>
            </a:endParaRPr>
          </a:p>
        </p:txBody>
      </p:sp>
      <p:sp>
        <p:nvSpPr>
          <p:cNvPr id="124"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39640" y="3860640"/>
            <a:ext cx="777744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27" name=""/>
          <p:cNvSpPr/>
          <p:nvPr/>
        </p:nvSpPr>
        <p:spPr>
          <a:xfrm>
            <a:off x="539640" y="551664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18" name=""/>
          <p:cNvSpPr/>
          <p:nvPr/>
        </p:nvSpPr>
        <p:spPr>
          <a:xfrm>
            <a:off x="324000" y="1471680"/>
            <a:ext cx="864072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em rachunkowości finansowej jest przedstawienie w sposób jasny i rzetelny obrazu sytuacji majątkowej i finansowej oraz wyniku finansowego jednostki.</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26" name=""/>
          <p:cNvSpPr/>
          <p:nvPr/>
        </p:nvSpPr>
        <p:spPr>
          <a:xfrm>
            <a:off x="324000" y="1471680"/>
            <a:ext cx="8640720" cy="5512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 aspekcie normatywno – praktycznym rachunkowość finansowa obejmuje następujące działania i czynności:</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is przyjętych zasad,</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wadzenie ksiąg rachunkowych</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kresowe ustalanie lub sprawdzanie drogą inwentaryzacji rzeczywistego stanu aktywów i pasywów</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ycena aktywów i pasywów oraz ustalanie wyniku finansowego</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orządzanie sprawozdań finansowych</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omadzenie i przechowywanie dokumentacji finansowo – księgowej</a:t>
            </a:r>
            <a:endParaRPr b="0" lang="en-US" sz="2200" spc="-1" strike="noStrike">
              <a:solidFill>
                <a:srgbClr val="ffffff"/>
              </a:solidFill>
              <a:latin typeface="Arial"/>
            </a:endParaRPr>
          </a:p>
          <a:p>
            <a:pPr>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dawanie badaniu i ogłaszanie sprawozdań finansowych</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34" name=""/>
          <p:cNvSpPr/>
          <p:nvPr/>
        </p:nvSpPr>
        <p:spPr>
          <a:xfrm>
            <a:off x="324000" y="1471680"/>
            <a:ext cx="864072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cnie podstawy prawne rachunkowości finansowej stanowią w Polsce:</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awa o rachunkowości</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SR</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R / MSSF</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rektywy U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42" name=""/>
          <p:cNvSpPr/>
          <p:nvPr/>
        </p:nvSpPr>
        <p:spPr>
          <a:xfrm>
            <a:off x="324000" y="1471680"/>
            <a:ext cx="8640720" cy="626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rzędne zasady prawidłowej rachunkowości finansowej:</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asada kontynuacji,</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asada ciągłości</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asada memoriału i współmierności</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asada ostrożności</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asada istotności</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	</a:t>
            </a:r>
            <a:r>
              <a:rPr b="0" lang="pl-PL" sz="3600" spc="-1" strike="noStrike">
                <a:solidFill>
                  <a:srgbClr val="ffffff"/>
                </a:solidFill>
                <a:latin typeface="Times New Roman"/>
              </a:rPr>
              <a:t>Zgodnie z UoR przez środki trwałe rozumie się rzeczowe aktywa trwałe i zrównane z nimi, o przewidywanym okresie ekonomicznej użyteczności dłuższym niż rok, kompletne, zdatne do użytku i przeznaczone na własne potrzeby jednostki</a:t>
            </a:r>
            <a:r>
              <a:rPr b="0" lang="pl-PL"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pojęcie</a:t>
            </a:r>
            <a:endParaRPr b="1" lang="en-US" sz="3600" spc="-1" strike="noStrike">
              <a:solidFill>
                <a:srgbClr val="feec94"/>
              </a:solidFill>
              <a:latin typeface="Times New Roman"/>
            </a:endParaRPr>
          </a:p>
        </p:txBody>
      </p:sp>
      <p:sp>
        <p:nvSpPr>
          <p:cNvPr id="250"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1"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3200" spc="-1" strike="noStrike">
                <a:solidFill>
                  <a:srgbClr val="ffffff"/>
                </a:solidFill>
                <a:latin typeface="Times New Roman"/>
              </a:rPr>
              <a:t>MSR 16 wskazuje, że rzeczowy majątek trwały obejmuje środki trwłe, które są utrzymywane przez jednostkę gospodarczą w celu wykorzystania ich w procesie produkcyjnym lub w dostawach towarów i świadczenia usług, w celu oddania do używania innym podmiotom lub w celach administracyjnych oraz wobec których oczekuje się, że będą wykorzystywane dłużej niż jeden okres obrachunkowy.</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6"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pojęcie</a:t>
            </a:r>
            <a:endParaRPr b="1" lang="en-US" sz="3600" spc="-1" strike="noStrike">
              <a:solidFill>
                <a:srgbClr val="feec94"/>
              </a:solidFill>
              <a:latin typeface="Times New Roman"/>
            </a:endParaRPr>
          </a:p>
        </p:txBody>
      </p:sp>
      <p:sp>
        <p:nvSpPr>
          <p:cNvPr id="25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 środków trwałych zalicza się w szczególności:</a:t>
            </a:r>
            <a:endParaRPr b="0" lang="en-US" sz="3600" spc="-1" strike="noStrike">
              <a:solidFill>
                <a:srgbClr val="ffffff"/>
              </a:solidFill>
              <a:latin typeface="Times New Roman"/>
            </a:endParaRPr>
          </a:p>
          <a:p>
            <a:pPr marL="609480" indent="-609480">
              <a:spcBef>
                <a:spcPts val="901"/>
              </a:spcBef>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ieruchomości,</a:t>
            </a:r>
            <a:endParaRPr b="0" lang="en-US" sz="3600" spc="-1" strike="noStrike">
              <a:solidFill>
                <a:srgbClr val="ffffff"/>
              </a:solidFill>
              <a:latin typeface="Times New Roman"/>
            </a:endParaRPr>
          </a:p>
          <a:p>
            <a:pPr marL="609480" indent="-609480">
              <a:spcBef>
                <a:spcPts val="901"/>
              </a:spcBef>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szyny, urządzenia, środki transportu,</a:t>
            </a:r>
            <a:endParaRPr b="0" lang="en-US" sz="3600" spc="-1" strike="noStrike">
              <a:solidFill>
                <a:srgbClr val="ffffff"/>
              </a:solidFill>
              <a:latin typeface="Times New Roman"/>
            </a:endParaRPr>
          </a:p>
          <a:p>
            <a:pPr marL="609480" indent="-609480">
              <a:spcBef>
                <a:spcPts val="901"/>
              </a:spcBef>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lepszenia w obcych środkach trwałych,</a:t>
            </a:r>
            <a:endParaRPr b="0" lang="en-US" sz="3600" spc="-1" strike="noStrike">
              <a:solidFill>
                <a:srgbClr val="ffffff"/>
              </a:solidFill>
              <a:latin typeface="Times New Roman"/>
            </a:endParaRPr>
          </a:p>
          <a:p>
            <a:pPr marL="609480" indent="-609480">
              <a:spcBef>
                <a:spcPts val="901"/>
              </a:spcBef>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wentarz żywy.</a:t>
            </a:r>
            <a:endParaRPr b="0" lang="en-US" sz="36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klasyfikacja</a:t>
            </a:r>
            <a:endParaRPr b="1" lang="en-US" sz="3600" spc="-1" strike="noStrike">
              <a:solidFill>
                <a:srgbClr val="feec94"/>
              </a:solidFill>
              <a:latin typeface="Times New Roman"/>
            </a:endParaRPr>
          </a:p>
        </p:txBody>
      </p:sp>
      <p:sp>
        <p:nvSpPr>
          <p:cNvPr id="264"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wycena początkowa</a:t>
            </a:r>
            <a:endParaRPr b="1" lang="en-US" sz="3600" spc="-1" strike="noStrike">
              <a:solidFill>
                <a:srgbClr val="feec94"/>
              </a:solidFill>
              <a:latin typeface="Times New Roman"/>
            </a:endParaRPr>
          </a:p>
        </p:txBody>
      </p:sp>
      <p:sp>
        <p:nvSpPr>
          <p:cNvPr id="270"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68360" y="1484280"/>
            <a:ext cx="83516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a wartość początkową środków trwałych uznaje się:</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przypadku nabycia w drodze kupna – cenę nabyci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przypadku wytworzenia we własnym zakresie – koszt wytworzeni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przypadku nabycia w nieodpłatny sposób – wartość godziwą</a:t>
            </a:r>
            <a:endParaRPr b="0" lang="en-US" sz="3200" spc="-1" strike="noStrike">
              <a:solidFill>
                <a:srgbClr val="ffffff"/>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RACHUNKOWOŚĆ ŚRODKÓW TRWAŁYCH – amortyzacja</a:t>
            </a:r>
            <a:endParaRPr b="1" lang="en-US" sz="3200" spc="-1" strike="noStrike">
              <a:solidFill>
                <a:srgbClr val="feec94"/>
              </a:solidFill>
              <a:latin typeface="Times New Roman"/>
            </a:endParaRPr>
          </a:p>
        </p:txBody>
      </p:sp>
      <p:sp>
        <p:nvSpPr>
          <p:cNvPr id="27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95280" y="1268280"/>
            <a:ext cx="8352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najszerszym ujęciu amortyzacja oznacza zmniejszanie wartości aktywów (czynnych) bilansu. Amortyzację należy odnieść do majątku inwestycyjnego ograniczonego czasem użytkowania, czyli rzeczowego majątku trwałego oraz wartości niematerialnych i prawnych podlegających zużyciu. Zawężoną definicję zawiera MSR 16, według którego amortyzacja to systematyczne rozłożenie wartości składników majątkowych (podlegających umorzeniu) w okresie ich użytkowania.</a:t>
            </a:r>
            <a:endParaRPr b="0" lang="en-US" sz="3200" spc="-1" strike="noStrike">
              <a:solidFill>
                <a:srgbClr val="ffffff"/>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amortyzacja</a:t>
            </a:r>
            <a:endParaRPr b="1" lang="en-US" sz="3600" spc="-1" strike="noStrike">
              <a:solidFill>
                <a:srgbClr val="feec94"/>
              </a:solidFill>
              <a:latin typeface="Times New Roman"/>
            </a:endParaRPr>
          </a:p>
        </p:txBody>
      </p:sp>
      <p:sp>
        <p:nvSpPr>
          <p:cNvPr id="284"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5280" y="1341360"/>
            <a:ext cx="835200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Przyczyną amortyzacji może być zużycie fizyczne, ekonomiczne lub prawne. Spełnia ona trzy zasadnicze funkcje:</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Umorzeniową,</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Kosztową,</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Odtworzeniową (finansową).</a:t>
            </a:r>
            <a:endParaRPr b="0" lang="en-US" sz="32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600"/>
            <a:ext cx="7632720" cy="143460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JĘCIE I ISTOTA RACHUNKOWOŚCI</a:t>
            </a:r>
            <a:endParaRPr b="1" lang="en-US" sz="4400" spc="-1" strike="noStrike">
              <a:solidFill>
                <a:srgbClr val="feec94"/>
              </a:solidFill>
              <a:latin typeface="Times New Roman"/>
            </a:endParaRPr>
          </a:p>
        </p:txBody>
      </p:sp>
      <p:sp>
        <p:nvSpPr>
          <p:cNvPr id="129"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39640" y="148428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85800" y="2514600"/>
            <a:ext cx="7162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62120" y="2971800"/>
            <a:ext cx="7619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62120" y="2590920"/>
            <a:ext cx="7619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611280" y="2133720"/>
            <a:ext cx="79246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t to pojęcie wieloznaczne, które kojarzone jest ze szczególnym systemem informacyjnym, międzynarodowym językiem biznesu lub systemem pomiaru działalności gospodarczej</a:t>
            </a:r>
            <a:endParaRPr b="0" lang="en-US" sz="3200" spc="-1" strike="noStrike">
              <a:solidFill>
                <a:srgbClr val="ffffff"/>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metody amortyzacji</a:t>
            </a:r>
            <a:endParaRPr b="1" lang="en-US" sz="3600" spc="-1" strike="noStrike">
              <a:solidFill>
                <a:srgbClr val="feec94"/>
              </a:solidFill>
              <a:latin typeface="Times New Roman"/>
            </a:endParaRPr>
          </a:p>
        </p:txBody>
      </p:sp>
      <p:sp>
        <p:nvSpPr>
          <p:cNvPr id="29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
          <p:cNvSpPr/>
          <p:nvPr/>
        </p:nvSpPr>
        <p:spPr>
          <a:xfrm>
            <a:off x="468360" y="1989000"/>
            <a:ext cx="828036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praktyce mogą być stosowane następujące metody amortyzacji:</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iow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gresywne (sumy cyfr, malejącego sald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uraln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metody amortyzacji</a:t>
            </a:r>
            <a:endParaRPr b="1" lang="en-US" sz="3600" spc="-1" strike="noStrike">
              <a:solidFill>
                <a:srgbClr val="feec94"/>
              </a:solidFill>
              <a:latin typeface="Times New Roman"/>
            </a:endParaRPr>
          </a:p>
        </p:txBody>
      </p:sp>
      <p:sp>
        <p:nvSpPr>
          <p:cNvPr id="29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
          <p:cNvSpPr/>
          <p:nvPr/>
        </p:nvSpPr>
        <p:spPr>
          <a:xfrm>
            <a:off x="468360" y="1989000"/>
            <a:ext cx="828036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roszczenie odpisów amortyzacyjnych może polegać n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dnorazowym odpisie środka trwałego w momencie przyjęcia do użytkowani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biorczych odpisach amortyzacyjnych dla grup środków trwałych zbliżonych rodzajem i przeznaczeniem.</a:t>
            </a:r>
            <a:endParaRPr b="0" lang="en-US" sz="3200" spc="-1" strike="noStrike">
              <a:solidFill>
                <a:srgbClr val="ffffff"/>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95280" y="112536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metody amortyzacji</a:t>
            </a:r>
            <a:endParaRPr b="1" lang="en-US" sz="3600" spc="-1" strike="noStrike">
              <a:solidFill>
                <a:srgbClr val="feec94"/>
              </a:solidFill>
              <a:latin typeface="Times New Roman"/>
            </a:endParaRPr>
          </a:p>
        </p:txBody>
      </p:sp>
      <p:sp>
        <p:nvSpPr>
          <p:cNvPr id="30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
          <p:cNvSpPr/>
          <p:nvPr/>
        </p:nvSpPr>
        <p:spPr>
          <a:xfrm>
            <a:off x="395280" y="1197000"/>
            <a:ext cx="8280360" cy="569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Zgodnie z art.. 32 UoR podstawę odpisów amortyzacyjnych stanowi wartość początkowa środków trwałych oraz okres ich ekonomicznej użyteczności. Należy przy ich ustalaniu w szczególności uwzględnić:</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Liczbę zmian, na których pracuje środek trwały,</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Tempo postępu techniczno-ekonomicznego,</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ydajność środka trwałego,</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rawne lub inne ograniczenia czasu użytkowania</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rzewidywaną przy likwidacji wartość godziwą.</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aktualizacja wyceny</a:t>
            </a:r>
            <a:endParaRPr b="1" lang="en-US" sz="3600" spc="-1" strike="noStrike">
              <a:solidFill>
                <a:srgbClr val="feec94"/>
              </a:solidFill>
              <a:latin typeface="Times New Roman"/>
            </a:endParaRPr>
          </a:p>
        </p:txBody>
      </p:sp>
      <p:sp>
        <p:nvSpPr>
          <p:cNvPr id="31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
          <p:cNvSpPr/>
          <p:nvPr/>
        </p:nvSpPr>
        <p:spPr>
          <a:xfrm>
            <a:off x="395280" y="1700280"/>
            <a:ext cx="828036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godnie z polskim prawem bilansowym środki trwałe mogą być objęte aktualizacją wyceny na podstawie odrębnych przepisów (aktualizacja urzędowa). Natomiast MSR 16 zaleca, aby przeszacowania przeprowadzać w sposób regularny, tak aby wartość bilansowa nie różniła się w sposób istotny od wartości, która zostałaby ustalona przy zastosowaniu wartości godziwej na dzień bilansowy.</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ulepszenie</a:t>
            </a:r>
            <a:endParaRPr b="1" lang="en-US" sz="3600" spc="-1" strike="noStrike">
              <a:solidFill>
                <a:srgbClr val="feec94"/>
              </a:solidFill>
              <a:latin typeface="Times New Roman"/>
            </a:endParaRPr>
          </a:p>
        </p:txBody>
      </p:sp>
      <p:sp>
        <p:nvSpPr>
          <p:cNvPr id="32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
          <p:cNvSpPr/>
          <p:nvPr/>
        </p:nvSpPr>
        <p:spPr>
          <a:xfrm>
            <a:off x="395280" y="2205000"/>
            <a:ext cx="8280360" cy="32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Zwiększenie wartości początkowej środków trwałych może nastąpić w wyniku tzw. ulepszenia. Zgodnie z obowiązującym prawem bilansowym, jak i podatkowym, koszty ulepszenia zwiększają dotychczasową wartość początkową środków trwałych.</a:t>
            </a:r>
            <a:endParaRPr b="0" lang="en-US" sz="3400" spc="-1" strike="noStrike">
              <a:solidFill>
                <a:srgbClr val="ffffff"/>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ulepszenie</a:t>
            </a:r>
            <a:endParaRPr b="1" lang="en-US" sz="3600" spc="-1" strike="noStrike">
              <a:solidFill>
                <a:srgbClr val="feec94"/>
              </a:solidFill>
              <a:latin typeface="Times New Roman"/>
            </a:endParaRPr>
          </a:p>
        </p:txBody>
      </p:sp>
      <p:sp>
        <p:nvSpPr>
          <p:cNvPr id="33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
          <p:cNvSpPr/>
          <p:nvPr/>
        </p:nvSpPr>
        <p:spPr>
          <a:xfrm>
            <a:off x="395280" y="2205000"/>
            <a:ext cx="8280360" cy="32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Środki trwałe uznaje się za ulepszone, jeżeli wydatki poniesione na ich przebudowę, rozbudowę, rekonstrukcję czy adaptację powodują wzrost ich wartości użytkowej w stosunku do tej wartości z dnia przyjęcia środków trwałych do używania.</a:t>
            </a:r>
            <a:endParaRPr b="0" lang="en-US" sz="34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trwała utrata wartości</a:t>
            </a:r>
            <a:endParaRPr b="1" lang="en-US" sz="3600" spc="-1" strike="noStrike">
              <a:solidFill>
                <a:srgbClr val="feec94"/>
              </a:solidFill>
              <a:latin typeface="Times New Roman"/>
            </a:endParaRPr>
          </a:p>
        </p:txBody>
      </p:sp>
      <p:sp>
        <p:nvSpPr>
          <p:cNvPr id="33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
          <p:cNvSpPr/>
          <p:nvPr/>
        </p:nvSpPr>
        <p:spPr>
          <a:xfrm>
            <a:off x="395280" y="2205000"/>
            <a:ext cx="828036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400" spc="-1" strike="noStrike">
                <a:solidFill>
                  <a:srgbClr val="ffffff"/>
                </a:solidFill>
                <a:latin typeface="Times New Roman"/>
              </a:rPr>
              <a:t>UoR wskazuje, że w przypadku wycofania z użytkowania, zmiany technologii, przeznaczenia do likwidacji lub innych przyczyn powodujących trwałą utratę wartości środka trwałego jednostka winna dokonać odpowiedniego odpisu aktualizującego w ciężar kosztów.</a:t>
            </a:r>
            <a:endParaRPr b="0" lang="en-US" sz="3400" spc="-1" strike="noStrike">
              <a:solidFill>
                <a:srgbClr val="ffffff"/>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68360" y="1484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trwała utrata wartości</a:t>
            </a:r>
            <a:endParaRPr b="1" lang="en-US" sz="3600" spc="-1" strike="noStrike">
              <a:solidFill>
                <a:srgbClr val="feec94"/>
              </a:solidFill>
              <a:latin typeface="Times New Roman"/>
            </a:endParaRPr>
          </a:p>
        </p:txBody>
      </p:sp>
      <p:sp>
        <p:nvSpPr>
          <p:cNvPr id="34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
          <p:cNvSpPr/>
          <p:nvPr/>
        </p:nvSpPr>
        <p:spPr>
          <a:xfrm>
            <a:off x="395280" y="2205000"/>
            <a:ext cx="828036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Przypomnijmy, że trwała utrata wartości składnika aktywów zachodzi wówczas, gdy istnieje duże prawdopodobieństwo, że kontrolowany przez jednostkę składnik nie przyniesie w przyszłości znaczącej części lub w całości przewidywanych korzyści ekonomicznych</a:t>
            </a:r>
            <a:endParaRPr b="0" lang="en-US" sz="3400" spc="-1" strike="noStrike">
              <a:solidFill>
                <a:srgbClr val="ffffff"/>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95280" y="1197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trwała utrata wartości</a:t>
            </a:r>
            <a:endParaRPr b="1" lang="en-US" sz="3600" spc="-1" strike="noStrike">
              <a:solidFill>
                <a:srgbClr val="feec94"/>
              </a:solidFill>
              <a:latin typeface="Times New Roman"/>
            </a:endParaRPr>
          </a:p>
        </p:txBody>
      </p:sp>
      <p:sp>
        <p:nvSpPr>
          <p:cNvPr id="35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
          <p:cNvSpPr/>
          <p:nvPr/>
        </p:nvSpPr>
        <p:spPr>
          <a:xfrm>
            <a:off x="324000" y="1125360"/>
            <a:ext cx="8280360" cy="55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Szczegółowe procedury regulujące stwierdzenie trwałej utraty wartości składnika aktywów zawarte są w MSR 36.</a:t>
            </a:r>
            <a:endParaRPr b="0" lang="en-US" sz="3400" spc="-1" strike="noStrike">
              <a:solidFill>
                <a:srgbClr val="ffffff"/>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Na dzień bilansowy jednostka gospodarcza może ocenić, czy istnieją przesłanki wskazujące na utratę wartości któregoś ze składników. Jeżeli zachodzą, to jednostka powinna oszacować wartość ekonomiczną tego składnika w celu rzetelnego ustalenia odpisu aktualizującego.</a:t>
            </a:r>
            <a:endParaRPr b="0" lang="en-US" sz="3400" spc="-1" strike="noStrike">
              <a:solidFill>
                <a:srgbClr val="ffffff"/>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95280" y="1197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ŚRODKÓW TRWAŁYCH – trwała utrata wartości</a:t>
            </a:r>
            <a:endParaRPr b="1" lang="en-US" sz="3600" spc="-1" strike="noStrike">
              <a:solidFill>
                <a:srgbClr val="feec94"/>
              </a:solidFill>
              <a:latin typeface="Times New Roman"/>
            </a:endParaRPr>
          </a:p>
        </p:txBody>
      </p:sp>
      <p:sp>
        <p:nvSpPr>
          <p:cNvPr id="36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
          <p:cNvSpPr/>
          <p:nvPr/>
        </p:nvSpPr>
        <p:spPr>
          <a:xfrm>
            <a:off x="324000" y="1916280"/>
            <a:ext cx="8280360" cy="374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400" spc="-1" strike="noStrike">
                <a:solidFill>
                  <a:srgbClr val="ffffff"/>
                </a:solidFill>
                <a:latin typeface="Times New Roman"/>
              </a:rPr>
              <a:t>Przesłanki wskazujące na trwałą utratę wartości mogą być:</a:t>
            </a:r>
            <a:endParaRPr b="0" lang="en-US" sz="3400" spc="-1" strike="noStrike">
              <a:solidFill>
                <a:srgbClr val="ffffff"/>
              </a:solidFill>
              <a:latin typeface="Arial"/>
            </a:endParaRPr>
          </a:p>
          <a:p>
            <a:pPr>
              <a:lnSpc>
                <a:spcPct val="10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400" spc="-1" strike="noStrike">
                <a:solidFill>
                  <a:srgbClr val="ffffff"/>
                </a:solidFill>
                <a:latin typeface="Times New Roman"/>
              </a:rPr>
              <a:t>Zewnętrzne (np. zmiany wartości rynkowej, zmiany o charakterze technologicznym;</a:t>
            </a:r>
            <a:endParaRPr b="0" lang="en-US" sz="3400" spc="-1" strike="noStrike">
              <a:solidFill>
                <a:srgbClr val="ffffff"/>
              </a:solidFill>
              <a:latin typeface="Arial"/>
            </a:endParaRPr>
          </a:p>
          <a:p>
            <a:pPr>
              <a:lnSpc>
                <a:spcPct val="10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400" spc="-1" strike="noStrike">
                <a:solidFill>
                  <a:srgbClr val="ffffff"/>
                </a:solidFill>
                <a:latin typeface="Times New Roman"/>
              </a:rPr>
              <a:t>Wewnętrzne (np. gorsze przepływy pieniężne w przyszłości z tytułu eksploatacji składnika).</a:t>
            </a:r>
            <a:endParaRPr b="0" lang="en-US" sz="3400" spc="-1" strike="noStrike">
              <a:solidFill>
                <a:srgbClr val="ffffff"/>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600"/>
            <a:ext cx="7632720" cy="143460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JĘCIE I ISTOTA RACHUNKOWOŚCI</a:t>
            </a:r>
            <a:endParaRPr b="1" lang="en-US" sz="4400" spc="-1" strike="noStrike">
              <a:solidFill>
                <a:srgbClr val="feec94"/>
              </a:solidFill>
              <a:latin typeface="Times New Roman"/>
            </a:endParaRPr>
          </a:p>
        </p:txBody>
      </p:sp>
      <p:sp>
        <p:nvSpPr>
          <p:cNvPr id="137"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39640" y="148428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2514600"/>
            <a:ext cx="7162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762120" y="2971800"/>
            <a:ext cx="7619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2120" y="2590920"/>
            <a:ext cx="7619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684360" y="1628640"/>
            <a:ext cx="79246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 ujęciu tradycyjnym jest to szczególny rodzaj ewidencji gospodarczej, która stanowi system ciągłego w czasie ujmowania, grupowania, prezentowania i interpretowania wyrażanych w pieniądzu i bilansujących się ogólnych i szczegółowych danych liczbowych o działalności gospodarczej i sytuacji majątkowej jednostki gospodarującej</a:t>
            </a:r>
            <a:endParaRPr b="0" lang="en-US" sz="3200" spc="-1" strike="noStrike">
              <a:solidFill>
                <a:srgbClr val="ffffff"/>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ŚRODKÓW TRWAŁYCH – środki trwałe w budowie</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sp>
        <p:nvSpPr>
          <p:cNvPr id="37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
          <p:cNvSpPr/>
          <p:nvPr/>
        </p:nvSpPr>
        <p:spPr>
          <a:xfrm>
            <a:off x="324000" y="191628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ozumie się przez to zaliczane do aktywów środki trwałe w okresie ich budowy, montażu czy ulepszenia już istniejącego środka trwałego</a:t>
            </a:r>
            <a:endParaRPr b="0" lang="en-US" sz="3600" spc="-1" strike="noStrike">
              <a:solidFill>
                <a:srgbClr val="ffffff"/>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ŚRODKÓW TRWAŁYCH – środki trwałe w budowie</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sp>
        <p:nvSpPr>
          <p:cNvPr id="37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
          <p:cNvSpPr/>
          <p:nvPr/>
        </p:nvSpPr>
        <p:spPr>
          <a:xfrm>
            <a:off x="324000" y="191628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Środki trwałe w budowie wycenia się w wysokości ogółu kosztów pozostających w bezpośrednim związku z ich nabyciem lub wytworzeniem, pomniejszonych o odpisy z tytułu trwałej utraty wartości.</a:t>
            </a:r>
            <a:endParaRPr b="0" lang="en-US" sz="3600" spc="-1" strike="noStrike">
              <a:solidFill>
                <a:srgbClr val="ffffff"/>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ŚRODKÓW TRWAŁYCH – środki trwałe w budowie</a:t>
            </a:r>
            <a:r>
              <a:rPr b="1" lang="en-US" sz="3600" spc="-1" strike="noStrike">
                <a:solidFill>
                  <a:srgbClr val="feec94"/>
                </a:solidFill>
                <a:latin typeface="Times New Roman"/>
              </a:rPr>
              <a:t> </a:t>
            </a:r>
            <a:endParaRPr b="1" lang="en-US" sz="3600" spc="-1" strike="noStrike">
              <a:solidFill>
                <a:srgbClr val="feec94"/>
              </a:solidFill>
              <a:latin typeface="Times New Roman"/>
            </a:endParaRPr>
          </a:p>
        </p:txBody>
      </p:sp>
      <p:sp>
        <p:nvSpPr>
          <p:cNvPr id="38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
          <p:cNvSpPr/>
          <p:nvPr/>
        </p:nvSpPr>
        <p:spPr>
          <a:xfrm>
            <a:off x="324000" y="1916280"/>
            <a:ext cx="82803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a nabycia i koszt wytworzenia środków trwałych w budowie obejmuje ogół ich  kosztów poniesionych przez jednostkę za okres budowy, montażu przystosowania i ulepszenia, do dnia bilansowego lub przyjęcia do używania, w tym również:</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e podlegający odliczeniu podatek VAT i akcyzowy,</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szt obsługi zobowiązań zaciągniętych w celu ich sfinansowania i związane z nimi różnice kursowe, pomniejszony o przychody z tego tytułu.</a:t>
            </a:r>
            <a:endParaRPr b="0" lang="en-US" sz="2800" spc="-1" strike="noStrike">
              <a:solidFill>
                <a:srgbClr val="ffffff"/>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UMÓW LEASINGU</a:t>
            </a:r>
            <a:r>
              <a:rPr b="1" lang="en-US" sz="3600" spc="-1" strike="noStrike">
                <a:solidFill>
                  <a:srgbClr val="feec94"/>
                </a:solidFill>
                <a:latin typeface="Times New Roman"/>
              </a:rPr>
              <a:t> - według MSR</a:t>
            </a:r>
            <a:endParaRPr b="1" lang="en-US" sz="3600" spc="-1" strike="noStrike">
              <a:solidFill>
                <a:srgbClr val="feec94"/>
              </a:solidFill>
              <a:latin typeface="Times New Roman"/>
            </a:endParaRPr>
          </a:p>
        </p:txBody>
      </p:sp>
      <p:sp>
        <p:nvSpPr>
          <p:cNvPr id="39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
          <p:cNvSpPr/>
          <p:nvPr/>
        </p:nvSpPr>
        <p:spPr>
          <a:xfrm>
            <a:off x="324000" y="191628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Transakcje leasingowe zostały uregulowane w MSR 17. Zgodnie z nim leasing stanowi umowę, na podstawie której leasingodawca oddaje leasingobiorcy aktywa do odpłatnego korzystania w określonym przedziale czasu.</a:t>
            </a:r>
            <a:endParaRPr b="0" lang="en-US" sz="3600" spc="-1" strike="noStrike">
              <a:solidFill>
                <a:srgbClr val="ffffff"/>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9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UMÓW LEASINGU</a:t>
            </a:r>
            <a:r>
              <a:rPr b="1" lang="en-US" sz="3600" spc="-1" strike="noStrike">
                <a:solidFill>
                  <a:srgbClr val="feec94"/>
                </a:solidFill>
                <a:latin typeface="Times New Roman"/>
              </a:rPr>
              <a:t> - według MSR</a:t>
            </a:r>
            <a:endParaRPr b="1" lang="en-US" sz="3600" spc="-1" strike="noStrike">
              <a:solidFill>
                <a:srgbClr val="feec94"/>
              </a:solidFill>
              <a:latin typeface="Times New Roman"/>
            </a:endParaRPr>
          </a:p>
        </p:txBody>
      </p:sp>
      <p:sp>
        <p:nvSpPr>
          <p:cNvPr id="40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
          <p:cNvSpPr/>
          <p:nvPr/>
        </p:nvSpPr>
        <p:spPr>
          <a:xfrm>
            <a:off x="324000" y="1916280"/>
            <a:ext cx="828036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W MSR 17 wyodrębnione są dwa podstawowe rodzaje leasingu:</a:t>
            </a:r>
            <a:endParaRPr b="0" lang="en-US" sz="3600" spc="-1" strike="noStrike">
              <a:solidFill>
                <a:srgbClr val="ffffff"/>
              </a:solidFill>
              <a:latin typeface="Arial"/>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Operacyjny - inny niż finansowy,</a:t>
            </a:r>
            <a:endParaRPr b="0" lang="en-US" sz="3600" spc="-1" strike="noStrike">
              <a:solidFill>
                <a:srgbClr val="ffffff"/>
              </a:solidFill>
              <a:latin typeface="Arial"/>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Finansowy - przenosi z leasingodawcy na leasingobiorcę całe ryzyko i wszystkie korzyści związane z własnością.</a:t>
            </a:r>
            <a:endParaRPr b="0" lang="en-US" sz="3600" spc="-1" strike="noStrike">
              <a:solidFill>
                <a:srgbClr val="ffffff"/>
              </a:solidFill>
              <a:latin typeface="Arial"/>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UMÓW LEASINGU</a:t>
            </a:r>
            <a:r>
              <a:rPr b="1" lang="en-US" sz="3600" spc="-1" strike="noStrike">
                <a:solidFill>
                  <a:srgbClr val="feec94"/>
                </a:solidFill>
                <a:latin typeface="Times New Roman"/>
              </a:rPr>
              <a:t> - według MSR</a:t>
            </a:r>
            <a:endParaRPr b="1" lang="en-US" sz="3600" spc="-1" strike="noStrike">
              <a:solidFill>
                <a:srgbClr val="feec94"/>
              </a:solidFill>
              <a:latin typeface="Times New Roman"/>
            </a:endParaRPr>
          </a:p>
        </p:txBody>
      </p:sp>
      <p:sp>
        <p:nvSpPr>
          <p:cNvPr id="41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
          <p:cNvSpPr/>
          <p:nvPr/>
        </p:nvSpPr>
        <p:spPr>
          <a:xfrm>
            <a:off x="324000" y="1916280"/>
            <a:ext cx="8280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Aktywa będące przedmiotem leasingu finansowego należy wykazywać w bilansie jako należności w kwocie równej lokacie leasingowej netto. Otrzymywane przez leasingodawcę płatności traktowane są jako spłata kapitału i przychód z tytułu poczynionych lokat.</a:t>
            </a:r>
            <a:endParaRPr b="0" lang="en-US" sz="3600" spc="-1" strike="noStrike">
              <a:solidFill>
                <a:srgbClr val="ffffff"/>
              </a:solidFill>
              <a:latin typeface="Arial"/>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UMÓW LEASINGU</a:t>
            </a:r>
            <a:r>
              <a:rPr b="1" lang="en-US" sz="3600" spc="-1" strike="noStrike">
                <a:solidFill>
                  <a:srgbClr val="feec94"/>
                </a:solidFill>
                <a:latin typeface="Times New Roman"/>
              </a:rPr>
              <a:t> - według MSR</a:t>
            </a:r>
            <a:endParaRPr b="1" lang="en-US" sz="3600" spc="-1" strike="noStrike">
              <a:solidFill>
                <a:srgbClr val="feec94"/>
              </a:solidFill>
              <a:latin typeface="Times New Roman"/>
            </a:endParaRPr>
          </a:p>
        </p:txBody>
      </p:sp>
      <p:sp>
        <p:nvSpPr>
          <p:cNvPr id="41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
          <p:cNvSpPr/>
          <p:nvPr/>
        </p:nvSpPr>
        <p:spPr>
          <a:xfrm>
            <a:off x="324000" y="191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Przychody finansowe w okresie trwania leasingu powinny być rozłożone w sposób systematyczny i racjonalnie uzasadniony. Alokacja przychodów powinna odbywać się w sposób odzwierciedlający stały, okresowy zwrot lokat kapitałowych netto poczynionych przez leasingodawcę i nie spłaconych przez leasingobiorcę.</a:t>
            </a:r>
            <a:endParaRPr b="0" lang="en-US" sz="3600" spc="-1" strike="noStrike">
              <a:solidFill>
                <a:srgbClr val="ffffff"/>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UMÓW LEASINGU</a:t>
            </a:r>
            <a:r>
              <a:rPr b="1" lang="en-US" sz="3600" spc="-1" strike="noStrike">
                <a:solidFill>
                  <a:srgbClr val="feec94"/>
                </a:solidFill>
                <a:latin typeface="Times New Roman"/>
              </a:rPr>
              <a:t> - według MSR</a:t>
            </a:r>
            <a:endParaRPr b="1" lang="en-US" sz="3600" spc="-1" strike="noStrike">
              <a:solidFill>
                <a:srgbClr val="feec94"/>
              </a:solidFill>
              <a:latin typeface="Times New Roman"/>
            </a:endParaRPr>
          </a:p>
        </p:txBody>
      </p:sp>
      <p:sp>
        <p:nvSpPr>
          <p:cNvPr id="42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
          <p:cNvSpPr/>
          <p:nvPr/>
        </p:nvSpPr>
        <p:spPr>
          <a:xfrm>
            <a:off x="324000" y="191628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łatności leasingowe z tytułu leasingu operacyjnego powinny być systematycznie uznawane w okresie trwania leasingu, chyba że inny sposób lepiej odzwierciedla rozkład korzyści użytkownika w czasie.</a:t>
            </a:r>
            <a:endParaRPr b="0" lang="en-US" sz="3600" spc="-1" strike="noStrike">
              <a:solidFill>
                <a:srgbClr val="ffffff"/>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95280" y="141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UMÓW LEASINGU</a:t>
            </a:r>
            <a:r>
              <a:rPr b="1" lang="pl-PL" sz="3600" spc="-1" strike="noStrike">
                <a:solidFill>
                  <a:srgbClr val="feec94"/>
                </a:solidFill>
                <a:latin typeface="Times New Roman"/>
              </a:rPr>
              <a:t> - według UoR</a:t>
            </a:r>
            <a:endParaRPr b="1" lang="en-US" sz="3600" spc="-1" strike="noStrike">
              <a:solidFill>
                <a:srgbClr val="feec94"/>
              </a:solidFill>
              <a:latin typeface="Times New Roman"/>
            </a:endParaRPr>
          </a:p>
        </p:txBody>
      </p:sp>
      <p:sp>
        <p:nvSpPr>
          <p:cNvPr id="43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
          <p:cNvSpPr/>
          <p:nvPr/>
        </p:nvSpPr>
        <p:spPr>
          <a:xfrm>
            <a:off x="324000" y="1916280"/>
            <a:ext cx="8280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Transakcje leasingowe klasyfikowane są zgodnie z zasadą wyższości treści nad formą prawną. Ustawodawca wskazał, że zasada ta będzie zachowana jeżeli umowa spełniająca przynajmniej jeden z siedmiu warunków w art.. 3, ust. 4 UoR będzie sklasyfikowana jako leasing finansowy.</a:t>
            </a:r>
            <a:endParaRPr b="0" lang="en-US" sz="3600" spc="-1" strike="noStrike">
              <a:solidFill>
                <a:srgbClr val="ffffff"/>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32400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UMÓW LEASINGU</a:t>
            </a:r>
            <a:r>
              <a:rPr b="1" lang="pl-PL" sz="3600" spc="-1" strike="noStrike">
                <a:solidFill>
                  <a:srgbClr val="feec94"/>
                </a:solidFill>
                <a:latin typeface="Times New Roman"/>
              </a:rPr>
              <a:t> - według UoR</a:t>
            </a:r>
            <a:endParaRPr b="1" lang="en-US" sz="3600" spc="-1" strike="noStrike">
              <a:solidFill>
                <a:srgbClr val="feec94"/>
              </a:solidFill>
              <a:latin typeface="Times New Roman"/>
            </a:endParaRPr>
          </a:p>
        </p:txBody>
      </p:sp>
      <p:sp>
        <p:nvSpPr>
          <p:cNvPr id="44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
          <p:cNvSpPr/>
          <p:nvPr/>
        </p:nvSpPr>
        <p:spPr>
          <a:xfrm>
            <a:off x="468360" y="1268280"/>
            <a:ext cx="828036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 nowelizacji prawa bilansowego w polityce rachunkowości powinny być uwzględnione następujące elementy rachunkowości leasingu:</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zeprowadzenie przekształcenia umowy leasingu operacyjnego,</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konanie wyboru kryteriów klasyfikacji umów leasingu między zasadami określonymi w prawie podatkowym i bilansowym,</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kreślenie obranych metod podziału kosztów finansowych na poszczególne okresy sprawozdawcze, wchodzące w okres trwania umowy leasingowej.</a:t>
            </a:r>
            <a:endParaRPr b="0" lang="en-US" sz="2800" spc="-1" strike="noStrike">
              <a:solidFill>
                <a:srgbClr val="ffffff"/>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240"/>
            <a:ext cx="7632720" cy="155628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POJĘCIE I ISTOTA RACHUNKOWOŚCI</a:t>
            </a:r>
            <a:endParaRPr b="1" lang="en-US" sz="4800" spc="-1" strike="noStrike">
              <a:solidFill>
                <a:srgbClr val="feec94"/>
              </a:solidFill>
              <a:latin typeface="Times New Roman"/>
            </a:endParaRPr>
          </a:p>
        </p:txBody>
      </p:sp>
      <p:sp>
        <p:nvSpPr>
          <p:cNvPr id="145"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9640" y="148428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85800" y="2514600"/>
            <a:ext cx="7162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62120" y="2971800"/>
            <a:ext cx="7619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62120" y="2590920"/>
            <a:ext cx="7619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2843280" y="1700280"/>
            <a:ext cx="2808360" cy="64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2843280" y="2637000"/>
            <a:ext cx="2808360" cy="64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4000" y="3500280"/>
            <a:ext cx="2663640" cy="649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580000" y="3500280"/>
            <a:ext cx="3384720" cy="649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CHUNEK KOSZTÓW</a:t>
            </a:r>
            <a:endParaRPr b="0" lang="en-US" sz="2400" spc="-1" strike="noStrike">
              <a:solidFill>
                <a:srgbClr val="ffffff"/>
              </a:solidFill>
              <a:latin typeface="Arial"/>
            </a:endParaRPr>
          </a:p>
        </p:txBody>
      </p:sp>
      <p:sp>
        <p:nvSpPr>
          <p:cNvPr id="155" name=""/>
          <p:cNvSpPr/>
          <p:nvPr/>
        </p:nvSpPr>
        <p:spPr>
          <a:xfrm>
            <a:off x="2916360" y="5084640"/>
            <a:ext cx="280800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RAWOZDA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INANSOWYCH</a:t>
            </a:r>
            <a:endParaRPr b="0" lang="en-US" sz="2000" spc="-1" strike="noStrike">
              <a:solidFill>
                <a:srgbClr val="ffffff"/>
              </a:solidFill>
              <a:latin typeface="Arial"/>
            </a:endParaRPr>
          </a:p>
        </p:txBody>
      </p:sp>
      <p:sp>
        <p:nvSpPr>
          <p:cNvPr id="156" name=""/>
          <p:cNvSpPr/>
          <p:nvPr/>
        </p:nvSpPr>
        <p:spPr>
          <a:xfrm>
            <a:off x="2843280" y="1844640"/>
            <a:ext cx="28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CHUNKOWOŚĆ</a:t>
            </a:r>
            <a:endParaRPr b="0" lang="en-US" sz="2400" spc="-1" strike="noStrike">
              <a:solidFill>
                <a:srgbClr val="ffffff"/>
              </a:solidFill>
              <a:latin typeface="Arial"/>
            </a:endParaRPr>
          </a:p>
        </p:txBody>
      </p:sp>
      <p:sp>
        <p:nvSpPr>
          <p:cNvPr id="157" name=""/>
          <p:cNvSpPr/>
          <p:nvPr/>
        </p:nvSpPr>
        <p:spPr>
          <a:xfrm>
            <a:off x="2771640" y="278136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RAWOZDAWCZOŚĆ</a:t>
            </a:r>
            <a:endParaRPr b="0" lang="en-US" sz="2000" spc="-1" strike="noStrike">
              <a:solidFill>
                <a:srgbClr val="ffffff"/>
              </a:solidFill>
              <a:latin typeface="Arial"/>
            </a:endParaRPr>
          </a:p>
        </p:txBody>
      </p:sp>
      <p:sp>
        <p:nvSpPr>
          <p:cNvPr id="158" name=""/>
          <p:cNvSpPr/>
          <p:nvPr/>
        </p:nvSpPr>
        <p:spPr>
          <a:xfrm>
            <a:off x="395280" y="3645000"/>
            <a:ext cx="237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SIĘGOWOŚĆ</a:t>
            </a:r>
            <a:endParaRPr b="0" lang="en-US" sz="2400" spc="-1" strike="noStrike">
              <a:solidFill>
                <a:srgbClr val="ffffff"/>
              </a:solidFill>
              <a:latin typeface="Arial"/>
            </a:endParaRPr>
          </a:p>
        </p:txBody>
      </p:sp>
      <p:sp>
        <p:nvSpPr>
          <p:cNvPr id="159" name=""/>
          <p:cNvSpPr/>
          <p:nvPr/>
        </p:nvSpPr>
        <p:spPr>
          <a:xfrm>
            <a:off x="4140360" y="2349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140360" y="328464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1692000" y="2924280"/>
            <a:ext cx="115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5651280" y="2924280"/>
            <a:ext cx="115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1692360" y="292428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804000" y="292428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692360" y="4149720"/>
            <a:ext cx="0" cy="1366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804000" y="4149720"/>
            <a:ext cx="0" cy="1366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692360" y="551664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5724000" y="5516640"/>
            <a:ext cx="10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2400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WNiP</a:t>
            </a:r>
            <a:endParaRPr b="1" lang="en-US" sz="3400" spc="-1" strike="noStrike">
              <a:solidFill>
                <a:srgbClr val="feec94"/>
              </a:solidFill>
              <a:latin typeface="Times New Roman"/>
            </a:endParaRPr>
          </a:p>
        </p:txBody>
      </p:sp>
      <p:sp>
        <p:nvSpPr>
          <p:cNvPr id="45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
          <p:cNvSpPr/>
          <p:nvPr/>
        </p:nvSpPr>
        <p:spPr>
          <a:xfrm>
            <a:off x="468360" y="1484280"/>
            <a:ext cx="8280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godnie z UoR wartości niematerialne i prawne to nabyte przez jednostkę prawa majątkowe nadające się do gospodarczego wykorzystania, o przewidywanym okresie ekonomicznej użyteczności dłuższym niż 1 rok, przeznaczone na własne potrzeby jednostki, a w szczególności autorskie prawa majątkowe, prawa pokrewne, licencje, koncesje, prawa do wynalazków, patentów, znaków towarowych, wzorów użytkowych oraz zdobniczych, know-how.</a:t>
            </a:r>
            <a:endParaRPr b="0" lang="en-US" sz="3200" spc="-1" strike="noStrike">
              <a:solidFill>
                <a:srgbClr val="ffffff"/>
              </a:solidFill>
              <a:latin typeface="Arial"/>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2400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WNiP</a:t>
            </a:r>
            <a:endParaRPr b="1" lang="en-US" sz="3400" spc="-1" strike="noStrike">
              <a:solidFill>
                <a:srgbClr val="feec94"/>
              </a:solidFill>
              <a:latin typeface="Times New Roman"/>
            </a:endParaRPr>
          </a:p>
        </p:txBody>
      </p:sp>
      <p:sp>
        <p:nvSpPr>
          <p:cNvPr id="45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
          <p:cNvSpPr/>
          <p:nvPr/>
        </p:nvSpPr>
        <p:spPr>
          <a:xfrm>
            <a:off x="468360" y="1700280"/>
            <a:ext cx="8280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wartości niematerialnych i prawnych zalicza się również wartość firmy oraz koszty zakończonych prac rozwojowych, przez które rozumie się badania lub w inny sposób uzyskiwaną wiedzę, których wynik może być wykorzystany do produkcji nowych lub ulepszonych, określonych produktów lub technologii.</a:t>
            </a:r>
            <a:endParaRPr b="0" lang="en-US" sz="3200" spc="-1" strike="noStrike">
              <a:solidFill>
                <a:srgbClr val="ffffff"/>
              </a:solidFill>
              <a:latin typeface="Arial"/>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32400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WNiP</a:t>
            </a:r>
            <a:endParaRPr b="1" lang="en-US" sz="3400" spc="-1" strike="noStrike">
              <a:solidFill>
                <a:srgbClr val="feec94"/>
              </a:solidFill>
              <a:latin typeface="Times New Roman"/>
            </a:endParaRPr>
          </a:p>
        </p:txBody>
      </p:sp>
      <p:sp>
        <p:nvSpPr>
          <p:cNvPr id="46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
          <p:cNvSpPr/>
          <p:nvPr/>
        </p:nvSpPr>
        <p:spPr>
          <a:xfrm>
            <a:off x="539640" y="1268280"/>
            <a:ext cx="8280360" cy="534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szty zakończonych prac rozwojowych zalicza się do wartości niematerialnych i prawnych jeżeli:</a:t>
            </a:r>
            <a:endParaRPr b="0" lang="en-US" sz="3200" spc="-1" strike="noStrike">
              <a:solidFill>
                <a:srgbClr val="ffffff"/>
              </a:solidFill>
              <a:latin typeface="Arial"/>
            </a:endParaRPr>
          </a:p>
          <a:p>
            <a:pPr>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dukt lub technologia są ściśle ustalone, a dotyczące ich koszty prac rozwojowych wiarygodnie określone,</a:t>
            </a:r>
            <a:endParaRPr b="0" lang="en-US" sz="2600" spc="-1" strike="noStrike">
              <a:solidFill>
                <a:srgbClr val="ffffff"/>
              </a:solidFill>
              <a:latin typeface="Arial"/>
            </a:endParaRPr>
          </a:p>
          <a:p>
            <a:pPr>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chniczna przydatność produktu lub technologii została stwierdzona i odpowiednio udokumentowana i na tej podstawie jednostka podjęła decyzję o wytwarzaniu tych produktów lub stosowaniu technologii,</a:t>
            </a:r>
            <a:endParaRPr b="0" lang="en-US" sz="2600" spc="-1" strike="noStrike">
              <a:solidFill>
                <a:srgbClr val="ffffff"/>
              </a:solidFill>
              <a:latin typeface="Arial"/>
            </a:endParaRPr>
          </a:p>
          <a:p>
            <a:pPr>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Zostaną pokryte przychodami ze sprzedaży tych produktów lub zastosowania technologii.</a:t>
            </a:r>
            <a:endParaRPr b="0" lang="en-US" sz="2600" spc="-1" strike="noStrike">
              <a:solidFill>
                <a:srgbClr val="ffffff"/>
              </a:solidFill>
              <a:latin typeface="Arial"/>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0920" y="98100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WNiP</a:t>
            </a:r>
            <a:endParaRPr b="1" lang="en-US" sz="3400" spc="-1" strike="noStrike">
              <a:solidFill>
                <a:srgbClr val="feec94"/>
              </a:solidFill>
              <a:latin typeface="Times New Roman"/>
            </a:endParaRPr>
          </a:p>
        </p:txBody>
      </p:sp>
      <p:sp>
        <p:nvSpPr>
          <p:cNvPr id="47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
          <p:cNvSpPr/>
          <p:nvPr/>
        </p:nvSpPr>
        <p:spPr>
          <a:xfrm>
            <a:off x="395280" y="1125360"/>
            <a:ext cx="8280360" cy="550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artość początkową wartości niematerialnych i prawnych stanowi cena nabycia lub koszt wytworzenia w przypadku zakończonych prac rozwojowych. Do WNiP nie odnosi się pojęcie „ulepszenie”, w wyniku którego uzyskuje się odrębny składnik WNiP. W celu oceny, czy dany składnik WNiP wytworzony przez jednostkę spełnia kryteria dotyczące ujmowania pozycji w sprawozdaniu należy proces powstawania aktywów podzielić na:</a:t>
            </a:r>
            <a:endParaRPr b="0" lang="en-US" sz="28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Etap prac badawczych, które nie aktywujemy,</a:t>
            </a:r>
            <a:endParaRPr b="0" lang="en-US" sz="24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Etap prac rozwojowych, które podlegają aktywowaniu po spełnieniu warunków</a:t>
            </a:r>
            <a:r>
              <a:rPr b="0" lang="pl-PL" sz="2800" spc="-1" strike="noStrike">
                <a:solidFill>
                  <a:srgbClr val="ffffff"/>
                </a:solidFill>
                <a:latin typeface="Times New Roman"/>
              </a:rPr>
              <a:t>. </a:t>
            </a:r>
            <a:endParaRPr b="0" lang="en-US" sz="2800" spc="-1" strike="noStrike">
              <a:solidFill>
                <a:srgbClr val="ffffff"/>
              </a:solidFill>
              <a:latin typeface="Arial"/>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7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250920" y="98100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WNiP</a:t>
            </a:r>
            <a:endParaRPr b="1" lang="en-US" sz="3400" spc="-1" strike="noStrike">
              <a:solidFill>
                <a:srgbClr val="feec94"/>
              </a:solidFill>
              <a:latin typeface="Times New Roman"/>
            </a:endParaRPr>
          </a:p>
        </p:txBody>
      </p:sp>
      <p:sp>
        <p:nvSpPr>
          <p:cNvPr id="48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
          <p:cNvSpPr/>
          <p:nvPr/>
        </p:nvSpPr>
        <p:spPr>
          <a:xfrm>
            <a:off x="395280" y="1125360"/>
            <a:ext cx="828036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iarygodne określenie przyszłej, końcowej wartości WNiP powinno odbywać się w oparciu o istniejący obecnie i w przyszłości aktywny rynek dla tego składnika aktywów.</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edług MSR 38 aktywny rynek musi spełniać następujące warunki:</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ozycje obrotu na rynku są jednorodne,</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 dowolnym momencie można znaleźć zainteresowanych nabywców i sprzedawców,</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eny są podawane do publicznej wiadomości. </a:t>
            </a:r>
            <a:endParaRPr b="0" lang="en-US" sz="2800" spc="-1" strike="noStrike">
              <a:solidFill>
                <a:srgbClr val="ffffff"/>
              </a:solidFill>
              <a:latin typeface="Arial"/>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a:t>
            </a:r>
            <a:endParaRPr b="1" lang="en-US" sz="3400" spc="-1" strike="noStrike">
              <a:solidFill>
                <a:srgbClr val="feec94"/>
              </a:solidFill>
              <a:latin typeface="Times New Roman"/>
            </a:endParaRPr>
          </a:p>
        </p:txBody>
      </p:sp>
      <p:sp>
        <p:nvSpPr>
          <p:cNvPr id="49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
          <p:cNvSpPr/>
          <p:nvPr/>
        </p:nvSpPr>
        <p:spPr>
          <a:xfrm>
            <a:off x="395280" y="1197000"/>
            <a:ext cx="82803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ług MSR 2 zapasami są aktywa:</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zeznaczone do sprzedaży w toku normalnej działalności gospodarczej,</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ędące w trakcie produkcji przeznaczonej na sprzedaż</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ące postać materiałów i surowców zużywanych w procesie produkcji oraz w trakcie świadczenia usług.</a:t>
            </a:r>
            <a:endParaRPr b="0" lang="en-US" sz="3200" spc="-1" strike="noStrike">
              <a:solidFill>
                <a:srgbClr val="ffffff"/>
              </a:solidFill>
              <a:latin typeface="Arial"/>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a:t>
            </a:r>
            <a:endParaRPr b="1" lang="en-US" sz="3400" spc="-1" strike="noStrike">
              <a:solidFill>
                <a:srgbClr val="feec94"/>
              </a:solidFill>
              <a:latin typeface="Times New Roman"/>
            </a:endParaRPr>
          </a:p>
        </p:txBody>
      </p:sp>
      <p:sp>
        <p:nvSpPr>
          <p:cNvPr id="49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
          <p:cNvSpPr/>
          <p:nvPr/>
        </p:nvSpPr>
        <p:spPr>
          <a:xfrm>
            <a:off x="468360" y="2060640"/>
            <a:ext cx="82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Według UoR zapasami są rzeczowe aktywa obrotowe, które są przeznaczone do zbycia lub zużycia w ciągu 12 miesięcy od dnia bilansowego lub w ciągu normalnego cyklu operacyjnego właściwego dla danej jednostki, jeżeli trwa on dłużej niż 12 miesięcy.</a:t>
            </a:r>
            <a:endParaRPr b="0" lang="en-US" sz="3200" spc="-1" strike="noStrike">
              <a:solidFill>
                <a:srgbClr val="ffffff"/>
              </a:solidFill>
              <a:latin typeface="Arial"/>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a:t>
            </a:r>
            <a:endParaRPr b="1" lang="en-US" sz="3400" spc="-1" strike="noStrike">
              <a:solidFill>
                <a:srgbClr val="feec94"/>
              </a:solidFill>
              <a:latin typeface="Times New Roman"/>
            </a:endParaRPr>
          </a:p>
        </p:txBody>
      </p:sp>
      <p:sp>
        <p:nvSpPr>
          <p:cNvPr id="50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
          <p:cNvSpPr/>
          <p:nvPr/>
        </p:nvSpPr>
        <p:spPr>
          <a:xfrm>
            <a:off x="395280" y="1341360"/>
            <a:ext cx="8280360" cy="491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imes New Roman"/>
              </a:rPr>
              <a:t>W szczególności według UoR do zapasów zalicza się:</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imes New Roman"/>
              </a:rPr>
              <a:t>Zakupione lub wytworzone we własnym zakresie materiały na potrzeby własne,</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imes New Roman"/>
              </a:rPr>
              <a:t>Dobra zakupione i przeznaczone do odsprzedaży w stanie nie przerobionym,</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imes New Roman"/>
              </a:rPr>
              <a:t>Wytworzone lub przetworzone przez jednostkę produkty gotowe zdatne do sprzedaży lub znajdujące się w toku produkcji bądź półprodukty.</a:t>
            </a:r>
            <a:endParaRPr b="0" lang="en-US" sz="3000" spc="-1" strike="noStrike">
              <a:solidFill>
                <a:srgbClr val="ffffff"/>
              </a:solidFill>
              <a:latin typeface="Arial"/>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a:t>
            </a:r>
            <a:endParaRPr b="1" lang="en-US" sz="3400" spc="-1" strike="noStrike">
              <a:solidFill>
                <a:srgbClr val="feec94"/>
              </a:solidFill>
              <a:latin typeface="Times New Roman"/>
            </a:endParaRPr>
          </a:p>
        </p:txBody>
      </p:sp>
      <p:sp>
        <p:nvSpPr>
          <p:cNvPr id="51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
          <p:cNvSpPr/>
          <p:nvPr/>
        </p:nvSpPr>
        <p:spPr>
          <a:xfrm>
            <a:off x="395280" y="1341360"/>
            <a:ext cx="828036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ilansowa klasyfikacja obejmuje następujące pozycje zapasów:</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teriały,</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ółprodukty i produkty w toku,</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dukty gotowe,</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wary,</a:t>
            </a:r>
            <a:endParaRPr b="0" lang="en-US" sz="3000" spc="-1" strike="noStrike">
              <a:solidFill>
                <a:srgbClr val="ffffff"/>
              </a:solidFill>
              <a:latin typeface="Arial"/>
            </a:endParaRPr>
          </a:p>
          <a:p>
            <a:pPr>
              <a:lnSpc>
                <a:spcPct val="100000"/>
              </a:lnSpc>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Zaliczki na dostawy.</a:t>
            </a:r>
            <a:endParaRPr b="0" lang="en-US" sz="3000" spc="-1" strike="noStrike">
              <a:solidFill>
                <a:srgbClr val="ffffff"/>
              </a:solidFill>
              <a:latin typeface="Arial"/>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a:t>
            </a:r>
            <a:endParaRPr b="1" lang="en-US" sz="3400" spc="-1" strike="noStrike">
              <a:solidFill>
                <a:srgbClr val="feec94"/>
              </a:solidFill>
              <a:latin typeface="Times New Roman"/>
            </a:endParaRPr>
          </a:p>
        </p:txBody>
      </p:sp>
      <p:sp>
        <p:nvSpPr>
          <p:cNvPr id="52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
          <p:cNvSpPr/>
          <p:nvPr/>
        </p:nvSpPr>
        <p:spPr>
          <a:xfrm>
            <a:off x="395280" y="1341360"/>
            <a:ext cx="82803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godnie z UoR zapasy wycenia się według ceny nabycia lub kosztu wytworzen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 dzień bilansowy nie powinny być one wyższe od cen sprzedaży określonych zapasów.</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 dzień bilansowy jednostki mogą jednak wyceniać:</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ateriały i towary – w cenach zakupu,</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rodukty w toku produkcji – w wysokości bezpośrednich kosztów wytworzenia lub tylko materiałów bezpośrednich bądź nie wyceniać ich w ogóle, jeżeli nie zniekształca to wyniku finansowego i stanu aktywów, a przewidywany okres produkcji jest nie dłuższy niż 3 miesiące.</a:t>
            </a:r>
            <a:endParaRPr b="0" lang="en-US" sz="24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600"/>
            <a:ext cx="7632720" cy="143460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JĘCIE I ISTOTA RACHUNKOWOŚCI</a:t>
            </a:r>
            <a:endParaRPr b="1" lang="en-US" sz="4400" spc="-1" strike="noStrike">
              <a:solidFill>
                <a:srgbClr val="feec94"/>
              </a:solidFill>
              <a:latin typeface="Times New Roman"/>
            </a:endParaRPr>
          </a:p>
        </p:txBody>
      </p:sp>
      <p:sp>
        <p:nvSpPr>
          <p:cNvPr id="170"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9640" y="148428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85800" y="2514600"/>
            <a:ext cx="7162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762120" y="2971800"/>
            <a:ext cx="7619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762120" y="2590920"/>
            <a:ext cx="7619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84360" y="1628640"/>
            <a:ext cx="79246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spółcześnie rachunkowość definiuje się jako szczególny system informacyjny organizacji gospodarczych o charakterze retrospektywnym i prospektywnym, który posiada własny algorytm ustalania, planowania i analizy wyniku finansowego w rozpatrywanym okresie oraz określenia kondycji finansowej w ściśle wyznaczonym momencie.</a:t>
            </a:r>
            <a:endParaRPr b="0" lang="en-US" sz="3200" spc="-1" strike="noStrike">
              <a:solidFill>
                <a:srgbClr val="ffffff"/>
              </a:solidFill>
              <a:latin typeface="Arial"/>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2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 </a:t>
            </a:r>
            <a:endParaRPr b="1" lang="en-US" sz="3400" spc="-1" strike="noStrike">
              <a:solidFill>
                <a:srgbClr val="feec94"/>
              </a:solidFill>
              <a:latin typeface="Times New Roman"/>
            </a:endParaRPr>
          </a:p>
        </p:txBody>
      </p:sp>
      <p:sp>
        <p:nvSpPr>
          <p:cNvPr id="53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
          <p:cNvSpPr/>
          <p:nvPr/>
        </p:nvSpPr>
        <p:spPr>
          <a:xfrm>
            <a:off x="395280" y="1844640"/>
            <a:ext cx="8280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godnie z art.. 34 ust. 2 UoR istnieje możliwość ujmowania składników rzeczowych aktywów obrotowych na dzień nabycia lub wytworzenia w cenach przyjętych do ewidencji, pod warunkiem uwzględnienia różnic między tymi cenami a rzeczywistymi cenami ich nabycia albo kosztami wytworzenia</a:t>
            </a:r>
            <a:r>
              <a:rPr b="0" lang="pl-PL" sz="2400" spc="-1" strike="noStrike">
                <a:solidFill>
                  <a:srgbClr val="ffffff"/>
                </a:solidFill>
                <a:latin typeface="Times New Roman"/>
              </a:rPr>
              <a:t>.</a:t>
            </a:r>
            <a:endParaRPr b="0" lang="en-US" sz="2400" spc="-1" strike="noStrike">
              <a:solidFill>
                <a:srgbClr val="ffffff"/>
              </a:solidFill>
              <a:latin typeface="Arial"/>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 </a:t>
            </a:r>
            <a:endParaRPr b="1" lang="en-US" sz="3400" spc="-1" strike="noStrike">
              <a:solidFill>
                <a:srgbClr val="feec94"/>
              </a:solidFill>
              <a:latin typeface="Times New Roman"/>
            </a:endParaRPr>
          </a:p>
        </p:txBody>
      </p:sp>
      <p:sp>
        <p:nvSpPr>
          <p:cNvPr id="53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
          <p:cNvSpPr/>
          <p:nvPr/>
        </p:nvSpPr>
        <p:spPr>
          <a:xfrm>
            <a:off x="468360" y="1197000"/>
            <a:ext cx="8280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 przypadkach uzasadnionych niezbędnym, długotrwałym przygotowaniem towaru lub produktu do sprzedaży bądź długim okresem wytwarzania produktu, cenę nabycia lub koszt wytworzenia można zwiększyć o koszty obsługi zobowiązań zaciągniętych w celu sfinansowania zapasu towarów lub produktów w okresie ich przygotowania do sprzedaż bądź wytworzenia i związanych z nimi różnic kursowych, pomniejszone o przychody z tego tytułu (art.. 28 ust. 4)</a:t>
            </a:r>
            <a:endParaRPr b="0" lang="en-US" sz="3200" spc="-1" strike="noStrike">
              <a:solidFill>
                <a:srgbClr val="ffffff"/>
              </a:solidFill>
              <a:latin typeface="Arial"/>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4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 </a:t>
            </a:r>
            <a:endParaRPr b="1" lang="en-US" sz="3400" spc="-1" strike="noStrike">
              <a:solidFill>
                <a:srgbClr val="feec94"/>
              </a:solidFill>
              <a:latin typeface="Times New Roman"/>
            </a:endParaRPr>
          </a:p>
        </p:txBody>
      </p:sp>
      <p:sp>
        <p:nvSpPr>
          <p:cNvPr id="54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
          <p:cNvSpPr/>
          <p:nvPr/>
        </p:nvSpPr>
        <p:spPr>
          <a:xfrm>
            <a:off x="468360" y="1341360"/>
            <a:ext cx="8280360" cy="459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miana wartości wstępnej zapasów może nastąpić w następujących przypadkach:</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ycena na dzień bilansowy doprowadzająca ceny ewidencyjne do rzeczywistych,</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rekta ceny nabycia lub kosztu wytworzenia do niższej ceny sprzedaży netto na dzień bilansowy zgodnie zasadą ostrożnej wyceny,</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ktualizacja wyceny zapasów najpóźniej na dzień bilansowy z tytułu trwałej utraty wartości.</a:t>
            </a:r>
            <a:endParaRPr b="0" lang="en-US" sz="2800" spc="-1" strike="noStrike">
              <a:solidFill>
                <a:srgbClr val="ffffff"/>
              </a:solidFill>
              <a:latin typeface="Arial"/>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 </a:t>
            </a:r>
            <a:endParaRPr b="1" lang="en-US" sz="3400" spc="-1" strike="noStrike">
              <a:solidFill>
                <a:srgbClr val="feec94"/>
              </a:solidFill>
              <a:latin typeface="Times New Roman"/>
            </a:endParaRPr>
          </a:p>
        </p:txBody>
      </p:sp>
      <p:sp>
        <p:nvSpPr>
          <p:cNvPr id="55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
          <p:cNvSpPr/>
          <p:nvPr/>
        </p:nvSpPr>
        <p:spPr>
          <a:xfrm>
            <a:off x="468360" y="1341360"/>
            <a:ext cx="8280360" cy="48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Zastosowanie do wyceny zapasów ceny sprzedaży netto może być w szczególności uzasadnione tym, że:</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Składniki zapasów utraciły wartość użytkową lub handlową,</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Jednostka posiada zapasy nieprawidłowe, np.. Zbędne,</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Na rynku występują zmiany cen na skutek np.. Konkurencji,</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Zapasy zalegają w magazynach, są niechodliwe.</a:t>
            </a:r>
            <a:endParaRPr b="0" lang="en-US" sz="2800" spc="-1" strike="noStrike">
              <a:solidFill>
                <a:srgbClr val="ffffff"/>
              </a:solidFill>
              <a:latin typeface="Arial"/>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5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Zapasy </a:t>
            </a:r>
            <a:endParaRPr b="1" lang="en-US" sz="3400" spc="-1" strike="noStrike">
              <a:solidFill>
                <a:srgbClr val="feec94"/>
              </a:solidFill>
              <a:latin typeface="Times New Roman"/>
            </a:endParaRPr>
          </a:p>
        </p:txBody>
      </p:sp>
      <p:sp>
        <p:nvSpPr>
          <p:cNvPr id="56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
          <p:cNvSpPr/>
          <p:nvPr/>
        </p:nvSpPr>
        <p:spPr>
          <a:xfrm>
            <a:off x="468360" y="1341360"/>
            <a:ext cx="8280360" cy="419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Rozpatrując ewidencję skutków obniżenia wartości zapasów należy uwzględniać postanowienia:</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rt.. 7, ust. 1, pkt 1 UoR,</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rt.. 28, ust. 1, pkt 6 UoR,</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rt.. 34, ust. 5 UoR,</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rt.. 35 c UoR,</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rt. 3, ust. 1, pkt 33 UoR.</a:t>
            </a:r>
            <a:endParaRPr b="0" lang="en-US" sz="2800" spc="-1" strike="noStrike">
              <a:solidFill>
                <a:srgbClr val="ffffff"/>
              </a:solidFill>
              <a:latin typeface="Arial"/>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Inwentaryzacja</a:t>
            </a:r>
            <a:endParaRPr b="1" lang="en-US" sz="3400" spc="-1" strike="noStrike">
              <a:solidFill>
                <a:srgbClr val="feec94"/>
              </a:solidFill>
              <a:latin typeface="Times New Roman"/>
            </a:endParaRPr>
          </a:p>
        </p:txBody>
      </p:sp>
      <p:sp>
        <p:nvSpPr>
          <p:cNvPr id="57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95280" y="1916280"/>
            <a:ext cx="83520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em inwentaryzacji jest ustalenie i sprawdzenie rzeczywistego stanu poszczególnych składników majątkowych i porównanie go ze stanem wynikającym z ksiąg rachunkowych, w celu potwierdzenia zasady prawdziwości bilansu.</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73"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Inwentaryzacja</a:t>
            </a:r>
            <a:endParaRPr b="1" lang="en-US" sz="3400" spc="-1" strike="noStrike">
              <a:solidFill>
                <a:srgbClr val="feec94"/>
              </a:solidFill>
              <a:latin typeface="Times New Roman"/>
            </a:endParaRPr>
          </a:p>
        </p:txBody>
      </p:sp>
      <p:sp>
        <p:nvSpPr>
          <p:cNvPr id="578"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95280" y="1916280"/>
            <a:ext cx="83520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godnie z UoR inwentaryzację przeprowadza się na ostatni dzień każdego roku obrotowego, przy czym uznaje się, że termin ten jest dotrzymany, jeżeli inwentaryzację rozpoczęto nie wcześniej niż na 3 miesiące przed końcem roku obrotowego a zakończono do 15 dnia następnego roku.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8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Inwentaryzacja</a:t>
            </a:r>
            <a:endParaRPr b="1" lang="en-US" sz="3400" spc="-1" strike="noStrike">
              <a:solidFill>
                <a:srgbClr val="feec94"/>
              </a:solidFill>
              <a:latin typeface="Times New Roman"/>
            </a:endParaRPr>
          </a:p>
        </p:txBody>
      </p:sp>
      <p:sp>
        <p:nvSpPr>
          <p:cNvPr id="58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95280" y="1916280"/>
            <a:ext cx="8352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wentaryzację przeprowadza się:</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a pomocą spisu z natury,</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zez wzajemne potwierdzenie sald,</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a pomocą weryfikacji lub szacunkowo, kiedy pomiar rzeczywisty jest niemożliwy.</a:t>
            </a:r>
            <a:endParaRPr b="0" lang="en-US" sz="3200" spc="-1" strike="noStrike">
              <a:solidFill>
                <a:srgbClr val="ffffff"/>
              </a:solidFill>
              <a:latin typeface="Arial"/>
            </a:endParaRPr>
          </a:p>
          <a:p>
            <a:pPr>
              <a:lnSpc>
                <a:spcPct val="100000"/>
              </a:lnSpc>
              <a:spcBef>
                <a:spcPts val="20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87"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Inwentaryzacja</a:t>
            </a:r>
            <a:endParaRPr b="1" lang="en-US" sz="3400" spc="-1" strike="noStrike">
              <a:solidFill>
                <a:srgbClr val="feec94"/>
              </a:solidFill>
              <a:latin typeface="Times New Roman"/>
            </a:endParaRPr>
          </a:p>
        </p:txBody>
      </p:sp>
      <p:sp>
        <p:nvSpPr>
          <p:cNvPr id="592"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395280" y="1916280"/>
            <a:ext cx="835200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Różnice inwentaryzacyjne mogą okazać się:</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Nadwyżkami (np. powstałe na skutek złego pomiaru zużycia) lub</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Niedoborami bądź szkodami (np. spowodowane zdarzeniami losowymi lub zawinione przez osoby materialnie odpowiedzialne).</a:t>
            </a:r>
            <a:endParaRPr b="0" lang="en-US" sz="3200" spc="-1" strike="noStrike">
              <a:solidFill>
                <a:srgbClr val="ffffff"/>
              </a:solidFill>
              <a:latin typeface="Arial"/>
            </a:endParaRPr>
          </a:p>
          <a:p>
            <a:pPr>
              <a:lnSpc>
                <a:spcPct val="100000"/>
              </a:lnSpc>
              <a:spcBef>
                <a:spcPts val="20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9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 Inwentaryzacja</a:t>
            </a:r>
            <a:endParaRPr b="1" lang="en-US" sz="3400" spc="-1" strike="noStrike">
              <a:solidFill>
                <a:srgbClr val="feec94"/>
              </a:solidFill>
              <a:latin typeface="Times New Roman"/>
            </a:endParaRPr>
          </a:p>
        </p:txBody>
      </p:sp>
      <p:sp>
        <p:nvSpPr>
          <p:cNvPr id="59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00" y="1484280"/>
            <a:ext cx="8351640" cy="57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zliczenie niedoborów może nastąpić przez:</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mpensatę nadwyżkami (po spełnieniu odpowiednich warunków),</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ciążenie kosztów działalności podstawowej lub pozostałej operacyjnej,</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ciążenie nadzwyczajnych strat,</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ciążenie osoby materialnie odpowiedzialnej w przypadku niedoborów zawinionych.</a:t>
            </a:r>
            <a:endParaRPr b="0" lang="en-US" sz="3200" spc="-1" strike="noStrike">
              <a:solidFill>
                <a:srgbClr val="ffffff"/>
              </a:solidFill>
              <a:latin typeface="Arial"/>
            </a:endParaRPr>
          </a:p>
          <a:p>
            <a:pPr>
              <a:lnSpc>
                <a:spcPct val="100000"/>
              </a:lnSpc>
              <a:spcBef>
                <a:spcPts val="200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600"/>
            <a:ext cx="7632720" cy="143460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JĘCIE I ISTOTA RACHUNKOWOŚCI</a:t>
            </a:r>
            <a:endParaRPr b="1" lang="en-US" sz="4400" spc="-1" strike="noStrike">
              <a:solidFill>
                <a:srgbClr val="feec94"/>
              </a:solidFill>
              <a:latin typeface="Times New Roman"/>
            </a:endParaRPr>
          </a:p>
        </p:txBody>
      </p:sp>
      <p:sp>
        <p:nvSpPr>
          <p:cNvPr id="178"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39640" y="1413000"/>
            <a:ext cx="77774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85800" y="2514600"/>
            <a:ext cx="7162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762120" y="2971800"/>
            <a:ext cx="7619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762120" y="2590920"/>
            <a:ext cx="7619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84360" y="1628640"/>
            <a:ext cx="79246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 ten system informacyjny składa się:</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wacja, identyfikacja i pomiar zdarzeń gospodarczych,</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lasyfikacja, ewidencja i agregacja zdarzeń gospodarczych,</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zentacja wyselekcjonowanych agregatów finansowych oraz ich analiza.</a:t>
            </a:r>
            <a:endParaRPr b="0" lang="en-US" sz="3200" spc="-1" strike="noStrike">
              <a:solidFill>
                <a:srgbClr val="ffffff"/>
              </a:solidFill>
              <a:latin typeface="Arial"/>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01"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533520" y="144792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6" name="PlaceHolder 2"/>
          <p:cNvSpPr>
            <a:spLocks noGrp="1"/>
          </p:cNvSpPr>
          <p:nvPr>
            <p:ph type="title"/>
          </p:nvPr>
        </p:nvSpPr>
        <p:spPr>
          <a:xfrm>
            <a:off x="685800" y="612360"/>
            <a:ext cx="7772400" cy="60948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INWESTYCJE W RACHUNKOWOŚCI</a:t>
            </a:r>
            <a:endParaRPr b="1" lang="en-US" sz="3600" spc="-1" strike="noStrike">
              <a:solidFill>
                <a:srgbClr val="feec94"/>
              </a:solidFill>
              <a:latin typeface="Times New Roman"/>
            </a:endParaRPr>
          </a:p>
        </p:txBody>
      </p:sp>
      <p:sp>
        <p:nvSpPr>
          <p:cNvPr id="607" name=""/>
          <p:cNvSpPr/>
          <p:nvPr/>
        </p:nvSpPr>
        <p:spPr>
          <a:xfrm>
            <a:off x="685800" y="1676520"/>
            <a:ext cx="7848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dług ustawy o rachunkowości za inwestycje uznaje się posiadane aktywa w celu uzyskania korzyści ekonomicznych pod postacią np.. dywidend, odsetek czy prowizji a także pod postacią przyrostu wartości kapitału lub jako rezultat transakcji handlowej. W szczególności przedmiotem inwestycji mogą być aktywa finansowe a także nieruchomości i wartości niematerialne i prawne, jeżeli nie są wykorzystywane w ramach działalności operacyjnej.</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bilansie jednostki inwestycje zaliczane są do aktywów trwałych lub obrotowych w zależności od okresu ich trwania.</a:t>
            </a:r>
            <a:endParaRPr b="0" lang="en-US" sz="2400" spc="-1" strike="noStrike">
              <a:solidFill>
                <a:srgbClr val="ffffff"/>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0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380880" y="106668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PlaceHolder 1"/>
          <p:cNvSpPr>
            <a:spLocks noGrp="1"/>
          </p:cNvSpPr>
          <p:nvPr>
            <p:ph/>
          </p:nvPr>
        </p:nvSpPr>
        <p:spPr>
          <a:xfrm>
            <a:off x="380880" y="1447920"/>
            <a:ext cx="8352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3" name="PlaceHolder 2"/>
          <p:cNvSpPr>
            <a:spLocks noGrp="1"/>
          </p:cNvSpPr>
          <p:nvPr>
            <p:ph type="title"/>
          </p:nvPr>
        </p:nvSpPr>
        <p:spPr>
          <a:xfrm>
            <a:off x="685800" y="307440"/>
            <a:ext cx="7772400" cy="68580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Bilansowa klasyfikacja inwestycji</a:t>
            </a:r>
            <a:endParaRPr b="1" lang="en-US" sz="3600" spc="-1" strike="noStrike">
              <a:solidFill>
                <a:srgbClr val="feec94"/>
              </a:solidFill>
              <a:latin typeface="Times New Roman"/>
            </a:endParaRPr>
          </a:p>
        </p:txBody>
      </p:sp>
      <p:sp>
        <p:nvSpPr>
          <p:cNvPr id="614" name=""/>
          <p:cNvSpPr/>
          <p:nvPr/>
        </p:nvSpPr>
        <p:spPr>
          <a:xfrm>
            <a:off x="3124080" y="1295280"/>
            <a:ext cx="2667240" cy="99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H="1">
            <a:off x="2743200" y="2286000"/>
            <a:ext cx="14479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0600" y="2286000"/>
            <a:ext cx="17524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676520" y="3200400"/>
            <a:ext cx="20574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5562720" y="3124080"/>
            <a:ext cx="213336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flipH="1">
            <a:off x="1371240" y="38098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H="1">
            <a:off x="5714640" y="38098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590920" y="388620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429000" y="38098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38880" y="38098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380880" y="4343400"/>
            <a:ext cx="15242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1905120" y="5410080"/>
            <a:ext cx="121896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048120" y="4343400"/>
            <a:ext cx="167616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4952880" y="4343400"/>
            <a:ext cx="15242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162920" y="4343400"/>
            <a:ext cx="11430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3733920" y="160020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westycje</a:t>
            </a:r>
            <a:endParaRPr b="0" lang="en-US" sz="2000" spc="-1" strike="noStrike">
              <a:solidFill>
                <a:srgbClr val="ffffff"/>
              </a:solidFill>
              <a:latin typeface="Arial"/>
            </a:endParaRPr>
          </a:p>
        </p:txBody>
      </p:sp>
      <p:sp>
        <p:nvSpPr>
          <p:cNvPr id="630" name=""/>
          <p:cNvSpPr/>
          <p:nvPr/>
        </p:nvSpPr>
        <p:spPr>
          <a:xfrm>
            <a:off x="1676520" y="335268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ługoterminowe</a:t>
            </a:r>
            <a:endParaRPr b="0" lang="en-US" sz="1800" spc="-1" strike="noStrike">
              <a:solidFill>
                <a:srgbClr val="ffffff"/>
              </a:solidFill>
              <a:latin typeface="Arial"/>
            </a:endParaRPr>
          </a:p>
        </p:txBody>
      </p:sp>
      <p:sp>
        <p:nvSpPr>
          <p:cNvPr id="631" name=""/>
          <p:cNvSpPr/>
          <p:nvPr/>
        </p:nvSpPr>
        <p:spPr>
          <a:xfrm>
            <a:off x="5486400" y="32767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rótkoterminowe</a:t>
            </a:r>
            <a:endParaRPr b="0" lang="en-US" sz="1800" spc="-1" strike="noStrike">
              <a:solidFill>
                <a:srgbClr val="ffffff"/>
              </a:solidFill>
              <a:latin typeface="Arial"/>
            </a:endParaRPr>
          </a:p>
        </p:txBody>
      </p:sp>
      <p:sp>
        <p:nvSpPr>
          <p:cNvPr id="632" name=""/>
          <p:cNvSpPr/>
          <p:nvPr/>
        </p:nvSpPr>
        <p:spPr>
          <a:xfrm>
            <a:off x="304920" y="44197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eruchomości</a:t>
            </a:r>
            <a:endParaRPr b="0" lang="en-US" sz="1600" spc="-1" strike="noStrike">
              <a:solidFill>
                <a:srgbClr val="ffffff"/>
              </a:solidFill>
              <a:latin typeface="Arial"/>
            </a:endParaRPr>
          </a:p>
        </p:txBody>
      </p:sp>
      <p:sp>
        <p:nvSpPr>
          <p:cNvPr id="633" name=""/>
          <p:cNvSpPr/>
          <p:nvPr/>
        </p:nvSpPr>
        <p:spPr>
          <a:xfrm>
            <a:off x="1600200" y="5334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rtości niematerialne i prawne</a:t>
            </a:r>
            <a:endParaRPr b="0" lang="en-US" sz="1400" spc="-1" strike="noStrike">
              <a:solidFill>
                <a:srgbClr val="ffffff"/>
              </a:solidFill>
              <a:latin typeface="Arial"/>
            </a:endParaRPr>
          </a:p>
        </p:txBody>
      </p:sp>
      <p:sp>
        <p:nvSpPr>
          <p:cNvPr id="634" name=""/>
          <p:cNvSpPr/>
          <p:nvPr/>
        </p:nvSpPr>
        <p:spPr>
          <a:xfrm>
            <a:off x="3048120" y="4343400"/>
            <a:ext cx="1676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Długotermi-nowe aktywa finansowe</a:t>
            </a:r>
            <a:endParaRPr b="0" lang="en-US" sz="1600" spc="-1" strike="noStrike">
              <a:solidFill>
                <a:srgbClr val="ffffff"/>
              </a:solidFill>
              <a:latin typeface="Arial"/>
            </a:endParaRPr>
          </a:p>
        </p:txBody>
      </p:sp>
      <p:sp>
        <p:nvSpPr>
          <p:cNvPr id="635" name=""/>
          <p:cNvSpPr/>
          <p:nvPr/>
        </p:nvSpPr>
        <p:spPr>
          <a:xfrm>
            <a:off x="4952880" y="4343400"/>
            <a:ext cx="15242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Krótkotermino- we aktywa finansowe</a:t>
            </a:r>
            <a:endParaRPr b="0" lang="en-US" sz="1600" spc="-1" strike="noStrike">
              <a:solidFill>
                <a:srgbClr val="ffffff"/>
              </a:solidFill>
              <a:latin typeface="Arial"/>
            </a:endParaRPr>
          </a:p>
        </p:txBody>
      </p:sp>
      <p:sp>
        <p:nvSpPr>
          <p:cNvPr id="636" name=""/>
          <p:cNvSpPr/>
          <p:nvPr/>
        </p:nvSpPr>
        <p:spPr>
          <a:xfrm>
            <a:off x="7162920" y="441972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ne</a:t>
            </a:r>
            <a:endParaRPr b="0" lang="en-US" sz="1600" spc="-1" strike="noStrike">
              <a:solidFill>
                <a:srgbClr val="ffffff"/>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37"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2"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Zasady wyceny inwestycji finansowych</a:t>
            </a:r>
            <a:endParaRPr b="1" lang="en-US" sz="3600" spc="-1" strike="noStrike">
              <a:solidFill>
                <a:srgbClr val="feec94"/>
              </a:solidFill>
              <a:latin typeface="Times New Roman"/>
            </a:endParaRPr>
          </a:p>
        </p:txBody>
      </p:sp>
      <p:sp>
        <p:nvSpPr>
          <p:cNvPr id="643" name=""/>
          <p:cNvSpPr/>
          <p:nvPr/>
        </p:nvSpPr>
        <p:spPr>
          <a:xfrm>
            <a:off x="685800" y="1471680"/>
            <a:ext cx="77724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cena początkowa inwestycji finansowych, niezależnie od okresu ich trwania, następuje w cenie nabyci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dzień bilansowy inwestycje finansowe zaliczane do aktywów trwałych należy wyceniać:</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cenie nabycia skorygowanej o trwałą utratę wartości, lub</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wartości godziwej.</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zliczanie skutków aktualizacji wyceny inwestycji finansowych na dzień bilansowy następuje według art. 35 ustawy o rachunkowości</a:t>
            </a:r>
            <a:endParaRPr b="0" lang="en-US" sz="2400" spc="-1" strike="noStrike">
              <a:solidFill>
                <a:srgbClr val="ffffff"/>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4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457200" y="129528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9" name="PlaceHolder 2"/>
          <p:cNvSpPr>
            <a:spLocks noGrp="1"/>
          </p:cNvSpPr>
          <p:nvPr>
            <p:ph type="title"/>
          </p:nvPr>
        </p:nvSpPr>
        <p:spPr>
          <a:xfrm>
            <a:off x="685800" y="307440"/>
            <a:ext cx="7772400" cy="68580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asady wyceny inwestycji finansowych</a:t>
            </a:r>
            <a:endParaRPr b="1" lang="en-US" sz="3200" spc="-1" strike="noStrike">
              <a:solidFill>
                <a:srgbClr val="feec94"/>
              </a:solidFill>
              <a:latin typeface="Times New Roman"/>
            </a:endParaRPr>
          </a:p>
        </p:txBody>
      </p:sp>
      <p:sp>
        <p:nvSpPr>
          <p:cNvPr id="650" name=""/>
          <p:cNvSpPr/>
          <p:nvPr/>
        </p:nvSpPr>
        <p:spPr>
          <a:xfrm>
            <a:off x="609480" y="1828800"/>
            <a:ext cx="7848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westycje krótkoterminowe należy wyceniać w bilansie według jednej z trzech metod:</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wartości rynkowej</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cenie nabycia lub w cenie rynkowej w zależności od tego, która jest niższ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wartości godziwej</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utki aktualizacji wyceny na dzień bilansowy należy rozliczać bezpośrednio z rachunkiem zysków i strat.</a:t>
            </a:r>
            <a:endParaRPr b="0" lang="en-US" sz="24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51"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468360" y="170028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6" name="PlaceHolder 2"/>
          <p:cNvSpPr>
            <a:spLocks noGrp="1"/>
          </p:cNvSpPr>
          <p:nvPr>
            <p:ph type="title"/>
          </p:nvPr>
        </p:nvSpPr>
        <p:spPr>
          <a:xfrm>
            <a:off x="685800" y="609120"/>
            <a:ext cx="7772400" cy="8384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zykład 1</a:t>
            </a:r>
            <a:endParaRPr b="1" lang="en-US" sz="4400" spc="-1" strike="noStrike">
              <a:solidFill>
                <a:srgbClr val="feec94"/>
              </a:solidFill>
              <a:latin typeface="Times New Roman"/>
            </a:endParaRPr>
          </a:p>
        </p:txBody>
      </p:sp>
      <p:sp>
        <p:nvSpPr>
          <p:cNvPr id="657" name=""/>
          <p:cNvSpPr/>
          <p:nvPr/>
        </p:nvSpPr>
        <p:spPr>
          <a:xfrm>
            <a:off x="762120" y="2209680"/>
            <a:ext cx="76197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dnostka nabyła na aktywnym rynku aktywa za 50.000 zł, które zakwalifikowała do inwestycji długoterminowych. W polityce rachunkowości jednostki przyjęto metodę wyceny takich inwestycji na dzień bilansowy według wartości godziwej. Wartość godziwa tych inwestycji kształtowała się na kolejne dni bilansowe następująco: 60.000 zł, 55.000 zł, 45.000 zł, 48.000 zł. Należy ująć w księgach rachunkowych skutki aktualizacji  wyceny inwestycji na poszczególne dni bilansowe.</a:t>
            </a:r>
            <a:endParaRPr b="0" lang="en-US" sz="2400" spc="-1" strike="noStrike">
              <a:solidFill>
                <a:srgbClr val="ffffff"/>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5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57200" y="129528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3" name="PlaceHolder 2"/>
          <p:cNvSpPr>
            <a:spLocks noGrp="1"/>
          </p:cNvSpPr>
          <p:nvPr>
            <p:ph type="title"/>
          </p:nvPr>
        </p:nvSpPr>
        <p:spPr>
          <a:xfrm>
            <a:off x="685800" y="307440"/>
            <a:ext cx="7772400" cy="68580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Przykład 2</a:t>
            </a:r>
            <a:endParaRPr b="1" lang="en-US" sz="3600" spc="-1" strike="noStrike">
              <a:solidFill>
                <a:srgbClr val="feec94"/>
              </a:solidFill>
              <a:latin typeface="Times New Roman"/>
            </a:endParaRPr>
          </a:p>
        </p:txBody>
      </p:sp>
      <p:sp>
        <p:nvSpPr>
          <p:cNvPr id="664" name=""/>
          <p:cNvSpPr/>
          <p:nvPr/>
        </p:nvSpPr>
        <p:spPr>
          <a:xfrm>
            <a:off x="762120" y="1828800"/>
            <a:ext cx="7772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838080" y="1981080"/>
            <a:ext cx="7772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dnostka nabyła na aktywnym rynku aktywa za 50.000 zł, które zakwalifikowała do inwestycji długoterminowych. W polityce rachunkowości jednostki przyjęto metodę wyceny takich inwestycji na dzień bilansowy według wartości godziwej. Wartość godziwa tych inwestycji kształtowała się na kolejne dni bilansowe następująco: 60.000 zł, 55.000 zł. Następnie jednostka sprzedała inwestycję za kwotę 56.000 zł. Należy ująć w księgach rachunkowych skutki aktualizacji  wyceny inwestycji na poszczególne dni bilansowe oraz skutki finansowe na dzień wyłączenia z ksiąg danej inwestycji.</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6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609480" y="114300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PlaceHolder 1"/>
          <p:cNvSpPr>
            <a:spLocks noGrp="1"/>
          </p:cNvSpPr>
          <p:nvPr>
            <p:ph/>
          </p:nvPr>
        </p:nvSpPr>
        <p:spPr>
          <a:xfrm>
            <a:off x="533160" y="1523880"/>
            <a:ext cx="8351640" cy="453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1" name="PlaceHolder 2"/>
          <p:cNvSpPr>
            <a:spLocks noGrp="1"/>
          </p:cNvSpPr>
          <p:nvPr>
            <p:ph type="title"/>
          </p:nvPr>
        </p:nvSpPr>
        <p:spPr>
          <a:xfrm>
            <a:off x="609480" y="307800"/>
            <a:ext cx="7772400" cy="53352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Przykład 3</a:t>
            </a:r>
            <a:endParaRPr b="1" lang="en-US" sz="3600" spc="-1" strike="noStrike">
              <a:solidFill>
                <a:srgbClr val="feec94"/>
              </a:solidFill>
              <a:latin typeface="Times New Roman"/>
            </a:endParaRPr>
          </a:p>
        </p:txBody>
      </p:sp>
      <p:sp>
        <p:nvSpPr>
          <p:cNvPr id="672" name=""/>
          <p:cNvSpPr/>
          <p:nvPr/>
        </p:nvSpPr>
        <p:spPr>
          <a:xfrm>
            <a:off x="685800" y="1752480"/>
            <a:ext cx="7696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a:off x="762120" y="1371600"/>
            <a:ext cx="76960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dnostka nabyła na aktywnym rynku aktywa za 50.000 zł, które zakwalifikowała do inwestycji długoterminowych. W polityce rachunkowości jednostki przyjęto metodę wyceny takich inwestycji na dzień bilansowy według wartości godziwej. Wartość godziwa tych inwestycji na dzień bilansowy wynosiła 60.000 zł. Następnie jednostka postanowiła sprzedać inwestycję przed upływem 12 miesięcy.Dokonała więc przekwalifikowania inwestycji do aktywów obrotowych.Należy ująć w księgach rachunkowych skutki przekwalifikowania inwestycji, w zależności od przyjętej w polityce rachunkowości metody wyceny inwestycji krótkoterminowych.</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7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Rozrachunki i rezerwy -należności</a:t>
            </a:r>
            <a:endParaRPr b="1" lang="en-US" sz="3400" spc="-1" strike="noStrike">
              <a:solidFill>
                <a:srgbClr val="feec94"/>
              </a:solidFill>
              <a:latin typeface="Times New Roman"/>
            </a:endParaRPr>
          </a:p>
        </p:txBody>
      </p:sp>
      <p:sp>
        <p:nvSpPr>
          <p:cNvPr id="67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
          <p:cNvSpPr/>
          <p:nvPr/>
        </p:nvSpPr>
        <p:spPr>
          <a:xfrm>
            <a:off x="468360" y="1341360"/>
            <a:ext cx="8280360" cy="498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UoR nie wprowadza definicji. Objęte są ogólną definicją aktywów zawartą w art. 3. Zgodnie ze strukturą aktywów bilansu wykazywane są z podziałem na:</a:t>
            </a:r>
            <a:endParaRPr b="0" lang="en-US" sz="3200" spc="-1" strike="noStrike">
              <a:solidFill>
                <a:srgbClr val="ffffff"/>
              </a:solidFill>
              <a:latin typeface="Arial"/>
            </a:endParaRPr>
          </a:p>
          <a:p>
            <a:pPr marL="343080" indent="-343080">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Długoterminowe – w aktywach trwałych,</a:t>
            </a:r>
            <a:endParaRPr b="0" lang="en-US" sz="3200" spc="-1" strike="noStrike">
              <a:solidFill>
                <a:srgbClr val="ffffff"/>
              </a:solidFill>
              <a:latin typeface="Arial"/>
            </a:endParaRPr>
          </a:p>
          <a:p>
            <a:pPr marL="343080" indent="-343080">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Krótkoterminowe – w aktywach obrotowych, z podziałem na: z tytułu dostaw i usług, z tytułu podatków, dotacji, ceł, ubezpieczeń, dochodzone na drodze sądowej i pozostałe.</a:t>
            </a:r>
            <a:endParaRPr b="0" lang="en-US" sz="3200" spc="-1" strike="noStrike">
              <a:solidFill>
                <a:srgbClr val="ffffff"/>
              </a:solidFill>
              <a:latin typeface="Arial"/>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8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Rozrachunki i rezerwy -należności</a:t>
            </a:r>
            <a:endParaRPr b="1" lang="en-US" sz="3400" spc="-1" strike="noStrike">
              <a:solidFill>
                <a:srgbClr val="feec94"/>
              </a:solidFill>
              <a:latin typeface="Times New Roman"/>
            </a:endParaRPr>
          </a:p>
        </p:txBody>
      </p:sp>
      <p:sp>
        <p:nvSpPr>
          <p:cNvPr id="68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
          <p:cNvSpPr/>
          <p:nvPr/>
        </p:nvSpPr>
        <p:spPr>
          <a:xfrm>
            <a:off x="468360" y="1341360"/>
            <a:ext cx="8280360" cy="52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Na dzień powstania należności należy wyceniać według wartości nominalnej, natomiast na dzień bilansowy w kwocie wymagającej zapłaty z zachowaniem ostrożności co oznacza, że:</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Jeżeli istnieją wątpliwości co do tego, czy nastąpi w pierwotnie przewidywanej wysokości dopływ korzyści ekonomicznych w wyniku uregulowania należności, to należy dokonać stosownego odpisu aktualizującego (art.. 35b UoR),</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Times New Roman"/>
              </a:rPr>
              <a:t>Do ksiąg rachunkowych można wprowadzić należności kreujące przychody (zyski) dopiero wtedy gdy ich zapłata jest pewna (art. 7 UoR).</a:t>
            </a:r>
            <a:endParaRPr b="0" lang="en-US" sz="2600" spc="-1" strike="noStrike">
              <a:solidFill>
                <a:srgbClr val="ffffff"/>
              </a:solidFill>
              <a:latin typeface="Arial"/>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9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Rozrachunki i rezerwy -należności</a:t>
            </a:r>
            <a:endParaRPr b="1" lang="en-US" sz="3400" spc="-1" strike="noStrike">
              <a:solidFill>
                <a:srgbClr val="feec94"/>
              </a:solidFill>
              <a:latin typeface="Times New Roman"/>
            </a:endParaRPr>
          </a:p>
        </p:txBody>
      </p:sp>
      <p:sp>
        <p:nvSpPr>
          <p:cNvPr id="69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
          <p:cNvSpPr/>
          <p:nvPr/>
        </p:nvSpPr>
        <p:spPr>
          <a:xfrm>
            <a:off x="468360" y="1341360"/>
            <a:ext cx="8280360" cy="467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konanie odpisu aktualizującego jest obowiązkowe w odniesieniu do należności:</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d dłużników postawionych w stan upadłości lub likwidacji,</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Kwestionowanych przez dłużników oraz z których zapłatą dłużnik zalega a według oceny jego sytuacji majątkowo-finansowej spłata należności nie jest prawdopodobna,</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anowiących równowartość kwot podwyższających należność, w stosunku do której dokonano uprzednio odpisu aktualizującego.</a:t>
            </a:r>
            <a:endParaRPr b="0" lang="en-US" sz="2600" spc="-1" strike="noStrike">
              <a:solidFill>
                <a:srgbClr val="ffffff"/>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258840"/>
            <a:ext cx="7632720" cy="1739880"/>
          </a:xfrm>
          <a:prstGeom prst="rect">
            <a:avLst/>
          </a:prstGeom>
          <a:solidFill>
            <a:srgbClr val="993300">
              <a:alpha val="4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ec94"/>
                </a:solidFill>
                <a:latin typeface="Times New Roman"/>
              </a:rPr>
              <a:t>Części składowe rachunkowości</a:t>
            </a:r>
            <a:endParaRPr b="1" lang="en-US" sz="5400" spc="-1" strike="noStrike">
              <a:solidFill>
                <a:srgbClr val="feec94"/>
              </a:solidFill>
              <a:latin typeface="Times New Roman"/>
            </a:endParaRPr>
          </a:p>
        </p:txBody>
      </p:sp>
      <p:sp>
        <p:nvSpPr>
          <p:cNvPr id="186" name=""/>
          <p:cNvSpPr/>
          <p:nvPr/>
        </p:nvSpPr>
        <p:spPr>
          <a:xfrm flipV="1">
            <a:off x="179280" y="189000"/>
            <a:ext cx="0" cy="640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55640" y="2060640"/>
            <a:ext cx="7777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95280" y="22050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826920" y="2708280"/>
            <a:ext cx="7490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843280" y="270828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achunkowość</a:t>
            </a:r>
            <a:endParaRPr b="0" lang="en-US" sz="4000" spc="-1" strike="noStrike">
              <a:solidFill>
                <a:srgbClr val="ffffff"/>
              </a:solidFill>
              <a:latin typeface="Arial"/>
            </a:endParaRPr>
          </a:p>
        </p:txBody>
      </p:sp>
      <p:sp>
        <p:nvSpPr>
          <p:cNvPr id="192" name=""/>
          <p:cNvSpPr/>
          <p:nvPr/>
        </p:nvSpPr>
        <p:spPr>
          <a:xfrm flipH="1">
            <a:off x="1979280" y="3500280"/>
            <a:ext cx="2521080" cy="1224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500720" y="3500280"/>
            <a:ext cx="2376360" cy="11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900000" y="5084640"/>
            <a:ext cx="431964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chunkowość finansowa</a:t>
            </a:r>
            <a:endParaRPr b="0" lang="en-US" sz="3200" spc="-1" strike="noStrike">
              <a:solidFill>
                <a:srgbClr val="ffffff"/>
              </a:solidFill>
              <a:latin typeface="Arial"/>
            </a:endParaRPr>
          </a:p>
        </p:txBody>
      </p:sp>
      <p:sp>
        <p:nvSpPr>
          <p:cNvPr id="195" name=""/>
          <p:cNvSpPr/>
          <p:nvPr/>
        </p:nvSpPr>
        <p:spPr>
          <a:xfrm>
            <a:off x="5435640" y="4941720"/>
            <a:ext cx="324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chunkowość zarządcza</a:t>
            </a:r>
            <a:endParaRPr b="0" lang="en-US" sz="3200" spc="-1" strike="noStrike">
              <a:solidFill>
                <a:srgbClr val="ffffff"/>
              </a:solidFill>
              <a:latin typeface="Arial"/>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9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Rozrachunki i rezerwy - zobowiązania</a:t>
            </a:r>
            <a:endParaRPr b="1" lang="en-US" sz="3400" spc="-1" strike="noStrike">
              <a:solidFill>
                <a:srgbClr val="feec94"/>
              </a:solidFill>
              <a:latin typeface="Times New Roman"/>
            </a:endParaRPr>
          </a:p>
        </p:txBody>
      </p:sp>
      <p:sp>
        <p:nvSpPr>
          <p:cNvPr id="70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
          <p:cNvSpPr/>
          <p:nvPr/>
        </p:nvSpPr>
        <p:spPr>
          <a:xfrm>
            <a:off x="395280" y="1197000"/>
            <a:ext cx="8280360" cy="546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Zobowiązania są to obowiązki jednostki do świadczeń, które spowodują wykorzystanie już posiadanych lub przyszłych aktywów. Podobnie jak należności zobowiązania kwalifikowane są w bilansie, ze względu na okres spłaty, do długo- bądź krótkoterminowych. Prezentacja zobowiązań w bilansie uzależniona jest od spełnienia następujących warunków:</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Zdarzenie wymagające świadczenia nastąpiło przed dniem bilansowym,</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Świadczenie to posiadało wiarygodnie określoną wartość,</a:t>
            </a:r>
            <a:endParaRPr b="0" lang="en-US" sz="2600" spc="-1" strike="noStrike">
              <a:solidFill>
                <a:srgbClr val="ffffff"/>
              </a:solidFill>
              <a:latin typeface="Arial"/>
            </a:endParaRPr>
          </a:p>
          <a:p>
            <a:pPr marL="343080" indent="-343080">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Świadczenie to spowodowało wykorzystanie już posiadanych lub przyszłych aktywów jednostki.</a:t>
            </a:r>
            <a:endParaRPr b="0" lang="en-US" sz="2600" spc="-1" strike="noStrike">
              <a:solidFill>
                <a:srgbClr val="ffffff"/>
              </a:solidFill>
              <a:latin typeface="Arial"/>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0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Rozrachunki i rezerwy - zobowiązania</a:t>
            </a:r>
            <a:endParaRPr b="1" lang="en-US" sz="3400" spc="-1" strike="noStrike">
              <a:solidFill>
                <a:srgbClr val="feec94"/>
              </a:solidFill>
              <a:latin typeface="Times New Roman"/>
            </a:endParaRPr>
          </a:p>
        </p:txBody>
      </p:sp>
      <p:sp>
        <p:nvSpPr>
          <p:cNvPr id="71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
          <p:cNvSpPr/>
          <p:nvPr/>
        </p:nvSpPr>
        <p:spPr>
          <a:xfrm>
            <a:off x="468360" y="1989000"/>
            <a:ext cx="82803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czątkowa wycena zobowiązań następuje według ich wartości nominalnej. Na dzień bilansowy natomiast wycena zobowiązań powinna odbywać się na poziomie kwoty wymaganej zapłaty, tj. wraz z ewentualnymi odsetkami.</a:t>
            </a:r>
            <a:endParaRPr b="0" lang="en-US" sz="3600" spc="-1" strike="noStrike">
              <a:solidFill>
                <a:srgbClr val="ffffff"/>
              </a:solidFill>
              <a:latin typeface="Arial"/>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1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FINANSOWA  Rozrachunki i rezerwy - rezerwy</a:t>
            </a:r>
            <a:endParaRPr b="1" lang="en-US" sz="3400" spc="-1" strike="noStrike">
              <a:solidFill>
                <a:srgbClr val="feec94"/>
              </a:solidFill>
              <a:latin typeface="Times New Roman"/>
            </a:endParaRPr>
          </a:p>
        </p:txBody>
      </p:sp>
      <p:sp>
        <p:nvSpPr>
          <p:cNvPr id="71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
          <p:cNvSpPr/>
          <p:nvPr/>
        </p:nvSpPr>
        <p:spPr>
          <a:xfrm>
            <a:off x="468360" y="1989000"/>
            <a:ext cx="828036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W myśl definicji w UoR do zobowiązań zalicza się obecnie, poza tradycyjnymi „długami” także rezerwy na przyszłe zobowiązania (art. 35 d) oraz bierne rozliczenia kosztów (art.39)</a:t>
            </a:r>
            <a:endParaRPr b="0" lang="en-US" sz="3600" spc="-1" strike="noStrike">
              <a:solidFill>
                <a:srgbClr val="ffffff"/>
              </a:solidFill>
              <a:latin typeface="Arial"/>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2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FINANSOWA  Rozrachunki i rezerwy - rezerwy</a:t>
            </a:r>
            <a:endParaRPr b="1" lang="en-US" sz="3400" spc="-1" strike="noStrike">
              <a:solidFill>
                <a:srgbClr val="feec94"/>
              </a:solidFill>
              <a:latin typeface="Times New Roman"/>
            </a:endParaRPr>
          </a:p>
        </p:txBody>
      </p:sp>
      <p:sp>
        <p:nvSpPr>
          <p:cNvPr id="72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
          <p:cNvSpPr/>
          <p:nvPr/>
        </p:nvSpPr>
        <p:spPr>
          <a:xfrm>
            <a:off x="468360" y="2421000"/>
            <a:ext cx="8280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zerwy to zobowiązania, których termin wymagalności lub kwota nie są pewne.</a:t>
            </a:r>
            <a:endParaRPr b="0" lang="en-US" sz="3600" spc="-1" strike="noStrike">
              <a:solidFill>
                <a:srgbClr val="ffffff"/>
              </a:solidFill>
              <a:latin typeface="Arial"/>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3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FINANSOWA  Rozrachunki i rezerwy - rezerwy</a:t>
            </a:r>
            <a:endParaRPr b="1" lang="en-US" sz="3400" spc="-1" strike="noStrike">
              <a:solidFill>
                <a:srgbClr val="feec94"/>
              </a:solidFill>
              <a:latin typeface="Times New Roman"/>
            </a:endParaRPr>
          </a:p>
        </p:txBody>
      </p:sp>
      <p:sp>
        <p:nvSpPr>
          <p:cNvPr id="73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
          <p:cNvSpPr/>
          <p:nvPr/>
        </p:nvSpPr>
        <p:spPr>
          <a:xfrm>
            <a:off x="539640" y="1484280"/>
            <a:ext cx="828036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zerwy wycenia się w uzasadnionej, wiarygodnie oszacowanej wartości, tj. zgodnie z racjonalnymi przesłankami, przy wykorzystaniu wiedzy i profesjonalnego osądu kierownictwa, na podstawie dotychczasowego doświadczenia lub przy wykorzystaniu ekspertów z danej dziedziny.</a:t>
            </a:r>
            <a:endParaRPr b="0" lang="en-US" sz="3600" spc="-1" strike="noStrike">
              <a:solidFill>
                <a:srgbClr val="ffffff"/>
              </a:solidFill>
              <a:latin typeface="Arial"/>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3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feec94"/>
                </a:solidFill>
                <a:latin typeface="Times New Roman"/>
              </a:rPr>
              <a:t>RACHUNKOWOŚĆ FINANSOWA  Rozrachunki i rezerwy - rezerwy</a:t>
            </a:r>
            <a:endParaRPr b="1" lang="en-US" sz="3400" spc="-1" strike="noStrike">
              <a:solidFill>
                <a:srgbClr val="feec94"/>
              </a:solidFill>
              <a:latin typeface="Times New Roman"/>
            </a:endParaRPr>
          </a:p>
        </p:txBody>
      </p:sp>
      <p:sp>
        <p:nvSpPr>
          <p:cNvPr id="74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
          <p:cNvSpPr/>
          <p:nvPr/>
        </p:nvSpPr>
        <p:spPr>
          <a:xfrm>
            <a:off x="539640" y="1484280"/>
            <a:ext cx="8280360" cy="49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zyjęcie zasady ostrożnej wyceny nie uprawnia ani do tworzenia ukrytych lub nadmiernych rezerw, ani do celowego zaniżania wartości przychodów lub aktywów. Sporządzający sprawozdanie finansowe powinni zwracać uwagę na oba aspekty tej zasady, co w praktyce oznacza wycenę „nie za wysoko, ale też nie za nisko” w odniesieniu do aktywów i „nie za nisko, ale także nie za wysoko” w odniesieniu do pasywów.</a:t>
            </a:r>
            <a:endParaRPr b="0" lang="en-US" sz="3200" spc="-1" strike="noStrike">
              <a:solidFill>
                <a:srgbClr val="ffffff"/>
              </a:solidFill>
              <a:latin typeface="Arial"/>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4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5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
          <p:cNvSpPr/>
          <p:nvPr/>
        </p:nvSpPr>
        <p:spPr>
          <a:xfrm>
            <a:off x="539640" y="1484280"/>
            <a:ext cx="828036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zez koszty rozumie się uprawdopodobnione zmniejszenia w okresie sprawozdawczym korzyści ekonomicznych, o wiarygodnie określonej wartości, w formie zmniejszenia wartości aktywów, albo zwiększenia wartości zobowiązań i rezerw, które prowadzą do zmniejszenia kapitału własnego.</a:t>
            </a:r>
            <a:endParaRPr b="0" lang="en-US" sz="3600" spc="-1" strike="noStrike">
              <a:solidFill>
                <a:srgbClr val="ffffff"/>
              </a:solidFill>
              <a:latin typeface="Arial"/>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5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5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
          <p:cNvSpPr/>
          <p:nvPr/>
        </p:nvSpPr>
        <p:spPr>
          <a:xfrm>
            <a:off x="539640" y="1484280"/>
            <a:ext cx="828036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zez przychody rozumie się uprawdopodobnione zwiększenia w okresie sprawozdawczym korzyści ekonomicznych, o wiarygodnie określonej wartości, w formie zwiększenia wartości aktywów, albo zmniejszenia wartości zobowiązań i rezerw, które prowadzą do wzrostu kapitału własnego.</a:t>
            </a:r>
            <a:endParaRPr b="0" lang="en-US" sz="3600" spc="-1" strike="noStrike">
              <a:solidFill>
                <a:srgbClr val="ffffff"/>
              </a:solidFill>
              <a:latin typeface="Arial"/>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6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6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
          <p:cNvSpPr/>
          <p:nvPr/>
        </p:nvSpPr>
        <p:spPr>
          <a:xfrm>
            <a:off x="539640" y="1268280"/>
            <a:ext cx="8280360" cy="459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O wyniku finansowym jednostki decydują koszty i przychody różnych segmentów działalności, tj.:</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odstawowej - np. Koszty wytworzenia, zarządu czy sprzedaży</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ozostałej operacyjnej – pośrednio związanej z działalnością operacyjną jednostki, np. sprzedaż czy likwidacja niefinansowych aktywów trwałych,</a:t>
            </a:r>
            <a:endParaRPr b="0" lang="en-US" sz="2800" spc="-1" strike="noStrike">
              <a:solidFill>
                <a:srgbClr val="ffffff"/>
              </a:solidFill>
              <a:latin typeface="Arial"/>
            </a:endParaRPr>
          </a:p>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Finansowej- operacje finansowe na instrumentach finansowych.</a:t>
            </a:r>
            <a:endParaRPr b="0" lang="en-US" sz="2800" spc="-1" strike="noStrike">
              <a:solidFill>
                <a:srgbClr val="ffffff"/>
              </a:solidFill>
              <a:latin typeface="Arial"/>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7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7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
          <p:cNvSpPr/>
          <p:nvPr/>
        </p:nvSpPr>
        <p:spPr>
          <a:xfrm>
            <a:off x="468360" y="1916280"/>
            <a:ext cx="828036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nadto wynik finansowy jednostki mogą korygować nadzwyczajne straty lub zyski, za które uważa się straty i zyski powstające na skutek zdarzeń trudnych do przewidzenia, poza działalnością operacyjną jednostki i niezwiązane z ogólnym ryzykiem jej prowadzenia.</a:t>
            </a:r>
            <a:endParaRPr b="0" lang="en-US" sz="32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3520" y="144792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2"/>
          <p:cNvSpPr>
            <a:spLocks noGrp="1"/>
          </p:cNvSpPr>
          <p:nvPr>
            <p:ph type="title"/>
          </p:nvPr>
        </p:nvSpPr>
        <p:spPr>
          <a:xfrm>
            <a:off x="685800" y="612360"/>
            <a:ext cx="7772400" cy="60948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02" name=""/>
          <p:cNvSpPr/>
          <p:nvPr/>
        </p:nvSpPr>
        <p:spPr>
          <a:xfrm>
            <a:off x="685800" y="1676520"/>
            <a:ext cx="78487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gromadzenia, przetwarzania i dostarczania informacji finansowych na temat działalności gospodarczej podmiotu gospodarującego dla odbiorców przede wszystkim zewnętrznych. Rachunkowość finansowa jako system ewidencyjno -informacyjno-kontrolny opiera się zasadniczo na informacji retrospektywnej a określony jest przez normy prawne, naukę i tradycję, które tworzą zasady rachunkowości obowiązujące w danym kraju.</a:t>
            </a:r>
            <a:endParaRPr b="0" lang="en-US" sz="2800" spc="-1" strike="noStrike">
              <a:solidFill>
                <a:srgbClr val="ffffff"/>
              </a:solidFill>
              <a:latin typeface="Arial"/>
            </a:endParaRPr>
          </a:p>
        </p:txBody>
      </p:sp>
      <p:sp>
        <p:nvSpPr>
          <p:cNvPr id="203" name=""/>
          <p:cNvSpPr/>
          <p:nvPr/>
        </p:nvSpPr>
        <p:spPr>
          <a:xfrm flipV="1">
            <a:off x="179280" y="2708280"/>
            <a:ext cx="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7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8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24000" y="1700280"/>
            <a:ext cx="83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
          <p:cNvSpPr/>
          <p:nvPr/>
        </p:nvSpPr>
        <p:spPr>
          <a:xfrm>
            <a:off x="468360" y="1916280"/>
            <a:ext cx="8280360" cy="452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chunek zysków i strat sporządza się w wariancie:</a:t>
            </a:r>
            <a:endParaRPr b="0" lang="en-US" sz="3200" spc="-1" strike="noStrike">
              <a:solidFill>
                <a:srgbClr val="ffffff"/>
              </a:solidFill>
              <a:latin typeface="Arial"/>
            </a:endParaRPr>
          </a:p>
          <a:p>
            <a:pPr marL="343080" indent="-343080">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lkulacyjnym, bądź</a:t>
            </a:r>
            <a:endParaRPr b="0" lang="en-US" sz="3200" spc="-1" strike="noStrike">
              <a:solidFill>
                <a:srgbClr val="ffffff"/>
              </a:solidFill>
              <a:latin typeface="Arial"/>
            </a:endParaRPr>
          </a:p>
          <a:p>
            <a:pPr marL="343080" indent="-343080">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ównawczym.</a:t>
            </a:r>
            <a:endParaRPr b="0" lang="en-US" sz="3200" spc="-1" strike="noStrike">
              <a:solidFill>
                <a:srgbClr val="ffffff"/>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óżnica dotyczy sposobu prezentacji kosztów działalności operacyjnej.</a:t>
            </a:r>
            <a:endParaRPr b="0" lang="en-US" sz="3200" spc="-1" strike="noStrike">
              <a:solidFill>
                <a:srgbClr val="ffffff"/>
              </a:solidFill>
              <a:latin typeface="Arial"/>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8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9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468360" y="1471680"/>
            <a:ext cx="835164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sady ustalania wyniku finansowego wskazują na konieczność dokonania określonych wyborów przy klasyfikacji kosztów i przychodów:</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dnostka powinna zdecydować o podziale kosztów i przychodów operacyjnych na dwie części: podstawowe i pozostałe;</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amach działalności podstawowej konieczne jest określenie pojęć: koszt wytworzenia, koszty zarządu, koszty sprzedaży;</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dnostka powinna uszczegółowić listę pozycji obciążających wynik na pozostałej działalności operacyjnej;</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leży dokonać zmiany w klasyfikacji i zasadach ustalania przychodów i kosztów finansowych oraz pozycji nadzwyczajnyc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793"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798"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468360" y="1268280"/>
            <a:ext cx="8351640" cy="63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hemat ustalania wyniku finansowego w przedsiębiorstwie produkcyjnym:</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Przychody ze sprzedaży</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Koszt własny sprzedaży       } Wynik z działalności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dstawowej</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Pozostałe przychody operacyjn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ozostałe koszty operacyjne } Wynik z pozostałej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ziałalności operacyjnej</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Przychody finansow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Koszty finansowe                } Wynik z operacji finansowych</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V. Nadzwyczajne zysk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adzwyczajne straty            } Wynik nadzwyczajny</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0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80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95280" y="1413000"/>
            <a:ext cx="8352000" cy="454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zy ustalaniu przychodów bieżącego okresu należy określić:</a:t>
            </a:r>
            <a:endParaRPr b="0" lang="en-US" sz="2800" spc="-1" strike="noStrike">
              <a:solidFill>
                <a:srgbClr val="ffffff"/>
              </a:solidFill>
              <a:latin typeface="Arial"/>
            </a:endParaRPr>
          </a:p>
          <a:p>
            <a:pPr algn="just">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zy mamy do czynienia z przychodem spełniającym warunki definicji,</a:t>
            </a:r>
            <a:endParaRPr b="0" lang="en-US" sz="2600" spc="-1" strike="noStrike">
              <a:solidFill>
                <a:srgbClr val="ffffff"/>
              </a:solidFill>
              <a:latin typeface="Arial"/>
            </a:endParaRPr>
          </a:p>
          <a:p>
            <a:pPr algn="just">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ak powinien być ujęty w sprawozdaniach finansowych,</a:t>
            </a:r>
            <a:endParaRPr b="0" lang="en-US" sz="2600" spc="-1" strike="noStrike">
              <a:solidFill>
                <a:srgbClr val="ffffff"/>
              </a:solidFill>
              <a:latin typeface="Arial"/>
            </a:endParaRPr>
          </a:p>
          <a:p>
            <a:pPr algn="just">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zy jest przychodem bieżącego okresu, czy też powinien być rozliczony w czasie lub bezpośrednio zwiększać kapitał,</a:t>
            </a:r>
            <a:endParaRPr b="0" lang="en-US" sz="2600" spc="-1" strike="noStrike">
              <a:solidFill>
                <a:srgbClr val="ffffff"/>
              </a:solidFill>
              <a:latin typeface="Arial"/>
            </a:endParaRPr>
          </a:p>
          <a:p>
            <a:pPr algn="just">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eśli stanowi przychód okresu bieżącego, to do jakiej działalności powinien być przyporządkowany.</a:t>
            </a:r>
            <a:endParaRPr b="0" lang="en-US" sz="2600" spc="-1" strike="noStrike">
              <a:solidFill>
                <a:srgbClr val="ffffff"/>
              </a:solidFill>
              <a:latin typeface="Arial"/>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07"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812"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95280" y="1413000"/>
            <a:ext cx="8352000" cy="450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zychody bieżącego okresu mają swoje źródło generalnie w zdarzeniach występujących w tym okresie. Dodatkowo jednak mogą być uznane wskutek:</a:t>
            </a:r>
            <a:endParaRPr b="0" lang="en-US" sz="3200" spc="-1" strike="noStrike">
              <a:solidFill>
                <a:srgbClr val="ffffff"/>
              </a:solidFill>
              <a:latin typeface="Arial"/>
            </a:endParaRPr>
          </a:p>
          <a:p>
            <a:pPr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zliczenia w czasie przychodów przyszłych okresów,</a:t>
            </a:r>
            <a:endParaRPr b="0" lang="en-US" sz="3200" spc="-1" strike="noStrike">
              <a:solidFill>
                <a:srgbClr val="ffffff"/>
              </a:solidFill>
              <a:latin typeface="Arial"/>
            </a:endParaRPr>
          </a:p>
          <a:p>
            <a:pPr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zliczenia przychodów zarachowanych uprzednio w kapitale własnym.</a:t>
            </a:r>
            <a:endParaRPr b="0" lang="en-US" sz="3200" spc="-1" strike="noStrike">
              <a:solidFill>
                <a:srgbClr val="ffffff"/>
              </a:solidFill>
              <a:latin typeface="Arial"/>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1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81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95280" y="1413000"/>
            <a:ext cx="8352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szt może być uznany w sprawozdaniu finansowym, jeśli spełnia warunki definicji kosztu, dotyczące prawdopodobieństwa utraty w przyszłości korzyści oraz wiarygodności wartości kosztu. Podstawowym zbiorem kosztów są podstawowe koszty operacyjne, które mogą być prezentowane w układzie rodzajowym albo kalkulacyjnym. Uznawanie kosztów operacyjnych ma miejsce na bazie memoriału i współmierności.</a:t>
            </a:r>
            <a:endParaRPr b="0" lang="en-US" sz="3200" spc="-1" strike="noStrike">
              <a:solidFill>
                <a:srgbClr val="ffffff"/>
              </a:solidFill>
              <a:latin typeface="Arial"/>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21"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Koszty i przychody</a:t>
            </a:r>
            <a:endParaRPr b="1" lang="en-US" sz="3400" spc="-1" strike="noStrike">
              <a:solidFill>
                <a:srgbClr val="feec94"/>
              </a:solidFill>
              <a:latin typeface="Times New Roman"/>
            </a:endParaRPr>
          </a:p>
        </p:txBody>
      </p:sp>
      <p:sp>
        <p:nvSpPr>
          <p:cNvPr id="826"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95280" y="1413000"/>
            <a:ext cx="835200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 wynik podstawowej działalności operacyjnej wpływają zatem:</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tość sprzedanych produktów, towarów i materiałów wycenionych w kosztach wytworzenia albo w cenach nabycia lub zakupu,</a:t>
            </a:r>
            <a:endParaRPr b="0" lang="en-US" sz="3200" spc="-1" strike="noStrike">
              <a:solidFill>
                <a:srgbClr val="ffffff"/>
              </a:solidFill>
              <a:latin typeface="Arial"/>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łość poniesionych od początku roku koszów zarządu, sprzedaży produktów, towarów i materiałów.</a:t>
            </a:r>
            <a:endParaRPr b="0" lang="en-US" sz="3200" spc="-1" strike="noStrike">
              <a:solidFill>
                <a:srgbClr val="ffffff"/>
              </a:solidFill>
              <a:latin typeface="Arial"/>
            </a:endParaRPr>
          </a:p>
        </p:txBody>
      </p:sp>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28"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3400" spc="-1" strike="noStrike">
                <a:solidFill>
                  <a:srgbClr val="feec94"/>
                </a:solidFill>
                <a:latin typeface="Times New Roman"/>
              </a:rPr>
              <a:t>Sprawozdanie finansowe - elementy</a:t>
            </a:r>
            <a:endParaRPr b="1" lang="en-US" sz="3400" spc="-1" strike="noStrike">
              <a:solidFill>
                <a:srgbClr val="feec94"/>
              </a:solidFill>
              <a:latin typeface="Times New Roman"/>
            </a:endParaRPr>
          </a:p>
        </p:txBody>
      </p:sp>
      <p:sp>
        <p:nvSpPr>
          <p:cNvPr id="833"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395280" y="1413000"/>
            <a:ext cx="835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dnostkowe sprawozdanie finansowe składa się z następujących elementów:</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ansu,</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chunku zysków i strat,</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cji dodatkowej,</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estawienia zmian w kapitale (funduszu) własnym,</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chunku przepływów pieniężnych,</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rawozdania z działalności.</a:t>
            </a:r>
            <a:endParaRPr b="0" lang="en-US" sz="2800" spc="-1" strike="noStrike">
              <a:solidFill>
                <a:srgbClr val="ffffff"/>
              </a:solidFill>
              <a:latin typeface="Arial"/>
            </a:endParaRPr>
          </a:p>
        </p:txBody>
      </p:sp>
    </p:spTree>
  </p:cSld>
  <p:transition spd="med">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35"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6"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9"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3400" spc="-1" strike="noStrike">
                <a:solidFill>
                  <a:srgbClr val="feec94"/>
                </a:solidFill>
                <a:latin typeface="Times New Roman"/>
              </a:rPr>
              <a:t>Sprawozdanie finansowe - elementy</a:t>
            </a:r>
            <a:endParaRPr b="1" lang="en-US" sz="3400" spc="-1" strike="noStrike">
              <a:solidFill>
                <a:srgbClr val="feec94"/>
              </a:solidFill>
              <a:latin typeface="Times New Roman"/>
            </a:endParaRPr>
          </a:p>
        </p:txBody>
      </p:sp>
      <p:sp>
        <p:nvSpPr>
          <p:cNvPr id="840"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95280" y="1413000"/>
            <a:ext cx="83520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Pierwsze trzy elementy sprawozdania finansowego wszystkie jednostki prowadzące rachunkowość finansową w oparciu o UoR sporządzają obligatoryjni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Pozostałe trzy elementy sporządzają tylko wybrane jednostki (art.. 45 UoR), tj. te, których sprawozdanie finansowe podlega obligatoryjnemu badaniu i ogłaszaniu.</a:t>
            </a:r>
            <a:endParaRPr b="0" lang="en-US" sz="3200" spc="-1" strike="noStrike">
              <a:solidFill>
                <a:srgbClr val="ffffff"/>
              </a:solidFill>
              <a:latin typeface="Arial"/>
            </a:endParaRPr>
          </a:p>
        </p:txBody>
      </p:sp>
    </p:spTree>
  </p:cSld>
  <p:transition spd="med">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42"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3"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badanie i ogłaszanie</a:t>
            </a:r>
            <a:endParaRPr b="1" lang="en-US" sz="2800" spc="-1" strike="noStrike">
              <a:solidFill>
                <a:srgbClr val="feec94"/>
              </a:solidFill>
              <a:latin typeface="Times New Roman"/>
            </a:endParaRPr>
          </a:p>
        </p:txBody>
      </p:sp>
      <p:sp>
        <p:nvSpPr>
          <p:cNvPr id="847"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95280" y="1413000"/>
            <a:ext cx="835200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godnie z art.. 69 i 70 UoR sprawozdanie finansowe podlega złożeniu w odpowiednim rejestrze sądowym oraz ogłoszeniu w Monitorze Polskim „B”.</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W rejestrze sądowym składane są całe sprawozdania wraz z opinią biegłego rewidenta (jeżeli podlegało badaniu), uchwałą zatwierdzenia i uchwałą o podziale zysku lub pokryciu straty w ciągu 15 dni od dnia zatwierdzenia rocznego sprawozdania finansowego.</a:t>
            </a:r>
            <a:endParaRPr b="0" lang="en-US" sz="32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57200" y="1219320"/>
            <a:ext cx="8352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PlaceHolder 1"/>
          <p:cNvSpPr>
            <a:spLocks noGrp="1"/>
          </p:cNvSpPr>
          <p:nvPr>
            <p:ph/>
          </p:nvPr>
        </p:nvSpPr>
        <p:spPr>
          <a:xfrm>
            <a:off x="468000" y="1844280"/>
            <a:ext cx="8351640" cy="45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2"/>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RACHUNKOWOŚĆ FINANSOWA</a:t>
            </a:r>
            <a:endParaRPr b="1" lang="en-US" sz="3600" spc="-1" strike="noStrike">
              <a:solidFill>
                <a:srgbClr val="feec94"/>
              </a:solidFill>
              <a:latin typeface="Times New Roman"/>
            </a:endParaRPr>
          </a:p>
        </p:txBody>
      </p:sp>
      <p:sp>
        <p:nvSpPr>
          <p:cNvPr id="210" name=""/>
          <p:cNvSpPr/>
          <p:nvPr/>
        </p:nvSpPr>
        <p:spPr>
          <a:xfrm>
            <a:off x="685800" y="1471680"/>
            <a:ext cx="77724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iorcami informacji finansowych dostarczanych przez rachunkowość finansową są m. in.:</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westorzy,</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redytodawcy,</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ownicy,</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ienci,</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arat skarbowy</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ystyka państwow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p:nvPr/>
        </p:nvSpPr>
        <p:spPr>
          <a:xfrm flipV="1">
            <a:off x="179280" y="285228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49"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0"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2"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3"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badanie i ogłaszanie</a:t>
            </a:r>
            <a:endParaRPr b="1" lang="en-US" sz="2800" spc="-1" strike="noStrike">
              <a:solidFill>
                <a:srgbClr val="feec94"/>
              </a:solidFill>
              <a:latin typeface="Times New Roman"/>
            </a:endParaRPr>
          </a:p>
        </p:txBody>
      </p:sp>
      <p:sp>
        <p:nvSpPr>
          <p:cNvPr id="854"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395280" y="1844640"/>
            <a:ext cx="8352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Natomiast w Monitorze Polskim „B” podlegają ogłoszeniu tylko wybrane sprawozdania finansowe – w szczególności sprawozdanie finansowe, które podlegało badaniu przez biegłego rewidenta, w myśl zapisów art. 64, ust. 1 UoR.</a:t>
            </a:r>
            <a:endParaRPr b="0" lang="en-US" sz="3200" spc="-1" strike="noStrike">
              <a:solidFill>
                <a:srgbClr val="ffffff"/>
              </a:solidFill>
              <a:latin typeface="Arial"/>
            </a:endParaRPr>
          </a:p>
        </p:txBody>
      </p:sp>
    </p:spTree>
  </p:cSld>
  <p:transition spd="med">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56"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badanie i ogłaszanie</a:t>
            </a:r>
            <a:endParaRPr b="1" lang="en-US" sz="2800" spc="-1" strike="noStrike">
              <a:solidFill>
                <a:srgbClr val="feec94"/>
              </a:solidFill>
              <a:latin typeface="Times New Roman"/>
            </a:endParaRPr>
          </a:p>
        </p:txBody>
      </p:sp>
      <p:sp>
        <p:nvSpPr>
          <p:cNvPr id="861"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324000" y="1341360"/>
            <a:ext cx="83516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daniu i ogłaszaniu podlegają roczne sprawozdania finansowe jednostek powiązanych, w tym roczne skonsolidowane sprawozdania finansowe grup kapitałowych a także roczne sprawozdania finansowe kontynuujących działalność:</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ków oraz zakładów ubezpieczeń,</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dnostek działających na podstawie przepisów o publicznym obrocie papierami wartościowymi oraz przepisów o funduszach inwestycyjnych,</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dnostek działających na podstawie przepisów o organizacji i funkcjonowaniu funduszy emerytalnych,</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ółek akcyjnyc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63"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badanie i ogłaszanie</a:t>
            </a:r>
            <a:endParaRPr b="1" lang="en-US" sz="2800" spc="-1" strike="noStrike">
              <a:solidFill>
                <a:srgbClr val="feec94"/>
              </a:solidFill>
              <a:latin typeface="Times New Roman"/>
            </a:endParaRPr>
          </a:p>
        </p:txBody>
      </p:sp>
      <p:sp>
        <p:nvSpPr>
          <p:cNvPr id="868"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324000" y="1557360"/>
            <a:ext cx="835164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adto badaniu podlegają sprawozdania jednostek, które w poprzednim roku obrotowym spełniły co najmniej dwa z poniższych warunków:</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Średnioroczne zatrudnienie w przeliczeniu na pełne etaty wyniosło co najmniej 50 osó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ma aktywów bilansu na koniec roku obrotowego stanowiła równowartość co najmniej 2500000 euro,</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zychody netto ze sprzedaży towarów i produktów oraz operacji finansowych za rok obrotowy stanowiły równowartość co najmniej 5000000 euro.</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70"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4"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informacja dodatkowa</a:t>
            </a:r>
            <a:endParaRPr b="1" lang="en-US" sz="2800" spc="-1" strike="noStrike">
              <a:solidFill>
                <a:srgbClr val="feec94"/>
              </a:solidFill>
              <a:latin typeface="Times New Roman"/>
            </a:endParaRPr>
          </a:p>
        </p:txBody>
      </p:sp>
      <p:sp>
        <p:nvSpPr>
          <p:cNvPr id="875"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324000" y="1557360"/>
            <a:ext cx="835164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cja dodatkowa składa się z dwóch elementów:</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prowadzenia do sprawozdania finansowego,</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datkowych informacji i objaśnień.</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prowadzenie pełni funkcję opisową dla odbiorcy, z analizą jakiego podmiotu ma do czynienia. Uzupełnieniem informacji zawartych w innych elementach sprawozdania finansowego są wielkości zawarte w dodatkowych informacjach i objaśnieniach.</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77"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informacja dodatkowa</a:t>
            </a:r>
            <a:endParaRPr b="1" lang="en-US" sz="2800" spc="-1" strike="noStrike">
              <a:solidFill>
                <a:srgbClr val="feec94"/>
              </a:solidFill>
              <a:latin typeface="Times New Roman"/>
            </a:endParaRPr>
          </a:p>
        </p:txBody>
      </p:sp>
      <p:sp>
        <p:nvSpPr>
          <p:cNvPr id="882"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324000" y="1557360"/>
            <a:ext cx="83516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prowadzenie do sprawozdania oraz dodatkowe informacje i objaśnienia zawierają informacje dotyczące:</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graniczenia czasu trwania działalności,</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yki rachunkowości,</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miany polityki rachunkowości,</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miany w aktywach trwałych,</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ktury kapitału,</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działu wyniku,</a:t>
            </a:r>
            <a:endParaRPr b="0" lang="en-US" sz="2800" spc="-1" strike="noStrike">
              <a:solidFill>
                <a:srgbClr val="ffffff"/>
              </a:solidFill>
              <a:latin typeface="Arial"/>
            </a:endParaRPr>
          </a:p>
        </p:txBody>
      </p:sp>
    </p:spTree>
  </p:cSld>
  <p:transition spd="med">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84" name=""/>
          <p:cNvSpPr/>
          <p:nvPr/>
        </p:nvSpPr>
        <p:spPr>
          <a:xfrm flipV="1">
            <a:off x="179280" y="188640"/>
            <a:ext cx="0" cy="26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
          <p:cNvSpPr/>
          <p:nvPr/>
        </p:nvSpPr>
        <p:spPr>
          <a:xfrm flipV="1">
            <a:off x="179280" y="3933720"/>
            <a:ext cx="0" cy="266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179280" y="6597720"/>
            <a:ext cx="878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50920" y="1125360"/>
            <a:ext cx="83516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PlaceHolder 1"/>
          <p:cNvSpPr>
            <a:spLocks noGrp="1"/>
          </p:cNvSpPr>
          <p:nvPr>
            <p:ph type="title"/>
          </p:nvPr>
        </p:nvSpPr>
        <p:spPr>
          <a:xfrm>
            <a:off x="685800" y="307800"/>
            <a:ext cx="7772400" cy="609840"/>
          </a:xfrm>
          <a:prstGeom prst="rect">
            <a:avLst/>
          </a:prstGeom>
          <a:solidFill>
            <a:srgbClr val="9933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c94"/>
                </a:solidFill>
                <a:latin typeface="Times New Roman"/>
              </a:rPr>
              <a:t>RACHUNKOWOŚĆ FINANSOWA  </a:t>
            </a:r>
            <a:br>
              <a:rPr sz="3400"/>
            </a:br>
            <a:r>
              <a:rPr b="1" lang="en-US" sz="2800" spc="-1" strike="noStrike">
                <a:solidFill>
                  <a:srgbClr val="feec94"/>
                </a:solidFill>
                <a:latin typeface="Times New Roman"/>
              </a:rPr>
              <a:t>Sprawozdanie finansowe – informacja dodatkowa</a:t>
            </a:r>
            <a:endParaRPr b="1" lang="en-US" sz="2800" spc="-1" strike="noStrike">
              <a:solidFill>
                <a:srgbClr val="feec94"/>
              </a:solidFill>
              <a:latin typeface="Times New Roman"/>
            </a:endParaRPr>
          </a:p>
        </p:txBody>
      </p:sp>
      <p:sp>
        <p:nvSpPr>
          <p:cNvPr id="889" name=""/>
          <p:cNvSpPr/>
          <p:nvPr/>
        </p:nvSpPr>
        <p:spPr>
          <a:xfrm flipV="1">
            <a:off x="1792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50920" y="1268280"/>
            <a:ext cx="835164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d.</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zerw,</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pisów aktualizujących należności,</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MK,</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pisów aktualizujących zapasy,</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bezpieczenia na majątku i zobowiązania warunkowe,</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ktura rzeczowa i terytorialna przychodów,</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oszty rodzajowe,</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ziałalność zaniechana,</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czące zdarzenia po dacie bilansu,</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ontynuacja działalności</a:t>
            </a:r>
            <a:endParaRPr b="0"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ne informacj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08:13Z</dcterms:created>
  <dc:creator>Edek</dc:creator>
  <dc:description/>
  <dc:language>en-US</dc:language>
  <cp:lastModifiedBy>Administrator</cp:lastModifiedBy>
  <dcterms:modified xsi:type="dcterms:W3CDTF">2009-11-15T11:34:11Z</dcterms:modified>
  <cp:revision>104</cp:revision>
  <dc:subject/>
  <dc:title>RF</dc:title>
</cp:coreProperties>
</file>