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65D3-725E-427B-B595-E1C54E43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9322-9061-4EDB-805E-5D5B9A3F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417-BBD1-4311-B711-82AB04A1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082-579D-4215-B178-E3BDD441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8348-8F06-4817-A17E-D278E113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80B-A29D-43A3-8705-3C828F2E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5E09-5454-4966-A8DA-98C03241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15A-8F79-4A51-B6DF-CC2D99D0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0B6-C8E1-4894-AD52-41A106F2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91A-9F9A-494F-A5AE-1E177D15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86A-4618-4987-A631-AB9EA7F2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5F4-0FF6-4A28-B23D-2F2D10AC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152280"/>
            <a:ext cx="8496360" cy="540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l-PL" sz="18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Monotype Corsiva"/>
              </a:rPr>
              <a:t>Dr Adam Suchodolski  </a:t>
            </a: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Katedra Zarządzania Kadrami</a:t>
            </a:r>
            <a:r>
              <a:rPr b="1" i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Uniwersytet Ekonomiczny we Wrocław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69F6-D6EE-46E6-AAF9-FFE2CD303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00960"/>
            <a:ext cx="91440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0" y="6407280"/>
            <a:ext cx="8586720" cy="14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 flipV="1">
            <a:off x="108000" y="0"/>
            <a:ext cx="1440" cy="685800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304920" y="228240"/>
            <a:ext cx="0" cy="6629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Doskonalenie i rozwój pracownikó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Prowadząc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Dr Adam Suchodol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Katedra Zarządzania Kadra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Uniwersytet Ekonomiczny we Wrocław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E-mail: adam.suchodolski@ue.wroc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439F-5B15-49BF-95C2-4211DD9A7C8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odzaje warunkowania instrumentalne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Wzmacnianie ciągłe</a:t>
            </a:r>
            <a:r>
              <a:rPr b="0" lang="pl-PL" sz="3600" spc="-1" strike="noStrike">
                <a:solidFill>
                  <a:srgbClr val="ffff00"/>
                </a:solidFill>
                <a:latin typeface="Times New Roman"/>
              </a:rPr>
              <a:t> (szybsze) i </a:t>
            </a: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częściowe</a:t>
            </a:r>
            <a:r>
              <a:rPr b="0" lang="pl-PL" sz="3600" spc="-1" strike="noStrike">
                <a:solidFill>
                  <a:srgbClr val="ffff00"/>
                </a:solidFill>
                <a:latin typeface="Times New Roman"/>
              </a:rPr>
              <a:t> (trwalsz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Wzmacnianie regularne</a:t>
            </a:r>
            <a:r>
              <a:rPr b="0" lang="pl-PL" sz="3600" spc="-1" strike="noStrike">
                <a:solidFill>
                  <a:srgbClr val="ffff00"/>
                </a:solidFill>
                <a:latin typeface="Times New Roman"/>
              </a:rPr>
              <a:t> (roszczenia) i </a:t>
            </a: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nieregularne</a:t>
            </a:r>
            <a:r>
              <a:rPr b="0" lang="pl-PL" sz="3600" spc="-1" strike="noStrike">
                <a:solidFill>
                  <a:srgbClr val="ffff00"/>
                </a:solidFill>
                <a:latin typeface="Times New Roman"/>
              </a:rPr>
              <a:t> (motywacj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Metoda przybliżeń</a:t>
            </a:r>
            <a:r>
              <a:rPr b="0" lang="pl-PL" sz="3600" spc="-1" strike="noStrike">
                <a:solidFill>
                  <a:srgbClr val="ffff00"/>
                </a:solidFill>
                <a:latin typeface="Times New Roman"/>
              </a:rPr>
              <a:t> (różna cenność nagró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Metoda Premacka</a:t>
            </a:r>
            <a:r>
              <a:rPr b="0" lang="pl-PL" sz="3600" spc="-1" strike="noStrike">
                <a:solidFill>
                  <a:srgbClr val="ffff00"/>
                </a:solidFill>
                <a:latin typeface="Times New Roman"/>
              </a:rPr>
              <a:t> (budowanie skojarzenia obowiązek – przyjemność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61F-7EAB-495A-B01A-2FBF494402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roces uczenia si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900000" y="1628640"/>
            <a:ext cx="6985080" cy="4464000"/>
            <a:chOff x="900000" y="1628640"/>
            <a:chExt cx="6985080" cy="4464000"/>
          </a:xfrm>
        </p:grpSpPr>
        <p:sp>
          <p:nvSpPr>
            <p:cNvPr id="67" name=""/>
            <p:cNvSpPr/>
            <p:nvPr/>
          </p:nvSpPr>
          <p:spPr>
            <a:xfrm>
              <a:off x="900000" y="1628640"/>
              <a:ext cx="2350080" cy="110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ieświadoma niekompetenc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35000" y="1628640"/>
              <a:ext cx="2350080" cy="110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Świadoma niekompetenc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35000" y="4891680"/>
              <a:ext cx="2350080" cy="110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Świadoma kompetenc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00000" y="4891680"/>
              <a:ext cx="2350080" cy="120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ieświadoma kompetenc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25440" y="2715840"/>
              <a:ext cx="0" cy="217476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17320" y="2171880"/>
              <a:ext cx="231732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990440" y="2715480"/>
              <a:ext cx="0" cy="2174760"/>
            </a:xfrm>
            <a:prstGeom prst="line">
              <a:avLst/>
            </a:prstGeom>
            <a:ln w="57240">
              <a:solidFill>
                <a:srgbClr val="ffff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216960" y="5435640"/>
              <a:ext cx="231732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419640" y="162864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Uświadami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04000" y="342900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czenie si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40600" y="566100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wtarz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42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8160" y="35002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uty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EEC9-E0B1-4C96-B146-FD672FEC2DF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Times New Roman"/>
              </a:rPr>
              <a:t>Cykl uczenia się (wg. Kolb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00000" y="1628640"/>
            <a:ext cx="6985080" cy="4464000"/>
            <a:chOff x="900000" y="1628640"/>
            <a:chExt cx="6985080" cy="4464000"/>
          </a:xfrm>
        </p:grpSpPr>
        <p:sp>
          <p:nvSpPr>
            <p:cNvPr id="82" name=""/>
            <p:cNvSpPr/>
            <p:nvPr/>
          </p:nvSpPr>
          <p:spPr>
            <a:xfrm>
              <a:off x="900000" y="1628640"/>
              <a:ext cx="2350080" cy="110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oświadcze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faza aktywnośc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35000" y="1628640"/>
              <a:ext cx="2350080" cy="110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fleks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35000" y="4891680"/>
              <a:ext cx="2350080" cy="110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yciąga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nioskó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0000" y="4891680"/>
              <a:ext cx="2350080" cy="120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lanowa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ziała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5440" y="2715840"/>
              <a:ext cx="0" cy="217476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17320" y="2171880"/>
              <a:ext cx="231732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1990440" y="2715480"/>
              <a:ext cx="0" cy="217476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3216960" y="5435640"/>
              <a:ext cx="231732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136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011-8A5E-4AA1-A92A-9E190A4833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ormy uczenia si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5676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ształtowani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(metodą prób i błędów dochodzimy do czegoś lub stosując bodźce pozytywne i negatywne kształtujemy pożądany obraz zachowań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delowani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(obserwujemy innych, obieramy sobie wzorce i staramy się je naśladować, znajdujemy to co różni nasze zachowania i modyfikujemy własn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7EB3-7F95-4B14-B47B-F9F1329B55B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sychologiczne bariery w uczeniu si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5676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um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(pozycja społeczna – zaufanie, „ekspert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ała pewność siebi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(obawa przed niepowodzeniem lub ośmieszeniem - sukces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oziom samooceny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(niska – podnoszenie, wysoka – kreowanie niepewnoś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rak zainteresowani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– znane realia, kod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iska motywacj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– osobiste cele, korzy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cześniejsze negatywne doświadczeni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– atrakcyjna forma, nagr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A624-B1FC-4C0F-8E78-4F9B84912E2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ele procesu rozwoj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aspokojenie przyszłych potrzeb organizacji pod względem obsady stanowisk kluczowyc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apewnienie sprawnej realizacji zadań i obowiązków poprzez zatrudnienie i przygotowanie pod względem kwalifikacyjnym odpowiednich pracownikó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możliwienie w ramach organizacji zaspokojenia potrzeb samorealizacji i uznania pracownikom posiadającym odpowiednie predyspozyc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169-6C79-456F-A641-BDDF299AE00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ziałania rozwojowe mogą być prowadzone dwutoro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zez koncentrowanie uwagi na indywidualnym rozwoju poszczególnych członków organizacj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zez prowadzenie systematycznego programu rozwoju całego potencjału społecznego fir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3179-A28C-49FA-9081-3B4CC23605F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16000" y="836640"/>
            <a:ext cx="74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ystem rozwoju pracowników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71640" y="1268280"/>
            <a:ext cx="7272360" cy="5185080"/>
            <a:chOff x="971640" y="1268280"/>
            <a:chExt cx="7272360" cy="5185080"/>
          </a:xfrm>
        </p:grpSpPr>
        <p:sp>
          <p:nvSpPr>
            <p:cNvPr id="101" name=""/>
            <p:cNvSpPr/>
            <p:nvPr/>
          </p:nvSpPr>
          <p:spPr>
            <a:xfrm>
              <a:off x="971640" y="1268280"/>
              <a:ext cx="7272360" cy="518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TOCZENI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11320" y="1739520"/>
              <a:ext cx="6992640" cy="443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GANIZAC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51000" y="2155320"/>
              <a:ext cx="1258560" cy="374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JŚCI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ele i zadan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udz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Zasoby materialne, technologiczne, informacyj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truktu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05360" y="2155320"/>
              <a:ext cx="1258560" cy="374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JŚCI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Wynik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udz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Zasoby materialne, technologiczne, informacyj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truktu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9920" y="2155320"/>
              <a:ext cx="4195440" cy="374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ZEJŚCI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09920" y="2571480"/>
              <a:ext cx="1398240" cy="332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EPARAC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OZWOJ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adanie potrzeb i aspiracji pracownikó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iagnozowanie potencjału rozwojowego pracownikó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lanowanie sukcesj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lanowanie kari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lanowanie szkoleń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08160" y="2571480"/>
              <a:ext cx="1398600" cy="332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ALIZAC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OZWOJ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zkolenie pracownikó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zemieszczanie pracownikó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Zaspokajanie potrzeb samorealizacji w miejscu pra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07120" y="2571480"/>
              <a:ext cx="1398240" cy="332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ONTROL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OZWOJ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cenianie szkoleń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cenianie pracownikó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onitorowanie przebiegu karier pracownikó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adanie opinii pracownikó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luktuacja pracownikó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936F-2048-4A70-93A6-312CA230EF1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reparacja procesu rozwoj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danie potrzeb i aspiracji pracownikó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agnozowanie potencjału rozwojowego pracownikó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lanowanie sukcesj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lanowanie kari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lanowanie szkole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0444-313F-4F81-A7BC-918392C85DA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alizacja procesu rozwoj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możliwienie pracownikom zaspokojenia potrzeb samorealizacj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skonalenie kwalifikacji pracownikó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zemieszczenia pracownik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BA79-6777-488E-8C49-716E903CBFF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00"/>
                </a:solidFill>
                <a:latin typeface="Times New Roman"/>
              </a:rPr>
              <a:t>Boydell T., Leary M., </a:t>
            </a:r>
            <a:r>
              <a:rPr b="1" lang="pl-PL" sz="1800" spc="-1" strike="noStrike">
                <a:solidFill>
                  <a:srgbClr val="ffff00"/>
                </a:solidFill>
                <a:latin typeface="Times New Roman"/>
              </a:rPr>
              <a:t>Identyfikacja potrzeb szkoleniowych</a:t>
            </a:r>
            <a:r>
              <a:rPr b="0" lang="pl-PL" sz="1800" spc="-1" strike="noStrike">
                <a:solidFill>
                  <a:srgbClr val="ffff00"/>
                </a:solidFill>
                <a:latin typeface="Times New Roman"/>
              </a:rPr>
              <a:t>, Oficyna Ekonomiczna, Kraków 200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00"/>
                </a:solidFill>
                <a:latin typeface="Times New Roman"/>
              </a:rPr>
              <a:t>Kossowska M., Jarmuż S., Witkowski T., </a:t>
            </a:r>
            <a:r>
              <a:rPr b="1" lang="pl-PL" sz="1800" spc="-1" strike="noStrike">
                <a:solidFill>
                  <a:srgbClr val="ffff00"/>
                </a:solidFill>
                <a:latin typeface="Times New Roman"/>
              </a:rPr>
              <a:t>Psychologia dla trenerów</a:t>
            </a:r>
            <a:r>
              <a:rPr b="0" lang="pl-PL" sz="1800" spc="-1" strike="noStrike">
                <a:solidFill>
                  <a:srgbClr val="ffff00"/>
                </a:solidFill>
                <a:latin typeface="Times New Roman"/>
              </a:rPr>
              <a:t>, Wolters Kluwer, Kraków 200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00"/>
                </a:solidFill>
                <a:latin typeface="Times New Roman"/>
              </a:rPr>
              <a:t>Kossowska M., Sołtysińska I., </a:t>
            </a:r>
            <a:r>
              <a:rPr b="1" lang="pl-PL" sz="1800" spc="-1" strike="noStrike">
                <a:solidFill>
                  <a:srgbClr val="ffff00"/>
                </a:solidFill>
                <a:latin typeface="Times New Roman"/>
              </a:rPr>
              <a:t>Szkolenia pracowników a rozwój organizacji</a:t>
            </a:r>
            <a:r>
              <a:rPr b="0" lang="pl-PL" sz="1800" spc="-1" strike="noStrike">
                <a:solidFill>
                  <a:srgbClr val="ffff00"/>
                </a:solidFill>
                <a:latin typeface="Times New Roman"/>
              </a:rPr>
              <a:t>, Oficyna ekonomiczna, Kraków 200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00"/>
                </a:solidFill>
                <a:latin typeface="Times New Roman"/>
              </a:rPr>
              <a:t>Matthews J.J., Megginson D., Surtees M., </a:t>
            </a:r>
            <a:r>
              <a:rPr b="1" lang="pl-PL" sz="1800" spc="-1" strike="noStrike">
                <a:solidFill>
                  <a:srgbClr val="ffff00"/>
                </a:solidFill>
                <a:latin typeface="Times New Roman"/>
              </a:rPr>
              <a:t>Rozwój zasobów ludzkich</a:t>
            </a:r>
            <a:r>
              <a:rPr b="0" lang="pl-PL" sz="1800" spc="-1" strike="noStrike">
                <a:solidFill>
                  <a:srgbClr val="ffff00"/>
                </a:solidFill>
                <a:latin typeface="Times New Roman"/>
              </a:rPr>
              <a:t>, Wydawnictwo HELION, Gliwice 200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00"/>
                </a:solidFill>
                <a:latin typeface="Times New Roman"/>
              </a:rPr>
              <a:t>Mayo A., </a:t>
            </a:r>
            <a:r>
              <a:rPr b="1" lang="pl-PL" sz="1800" spc="-1" strike="noStrike">
                <a:solidFill>
                  <a:srgbClr val="ffff00"/>
                </a:solidFill>
                <a:latin typeface="Times New Roman"/>
              </a:rPr>
              <a:t>Kształtowanie strategii szkoleń i rozwoju pracowników</a:t>
            </a:r>
            <a:r>
              <a:rPr b="0" lang="pl-PL" sz="1800" spc="-1" strike="noStrike">
                <a:solidFill>
                  <a:srgbClr val="ffff00"/>
                </a:solidFill>
                <a:latin typeface="Times New Roman"/>
              </a:rPr>
              <a:t>, Oficyna ekonomiczna, Kraków 200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Parsloe E., Wray M.,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rener i mentor. </a:t>
            </a:r>
            <a:r>
              <a:rPr b="1" lang="pl-PL" sz="1800" spc="-1" strike="noStrike">
                <a:solidFill>
                  <a:srgbClr val="ffff00"/>
                </a:solidFill>
                <a:latin typeface="Times New Roman"/>
              </a:rPr>
              <a:t>Udział coachingu i mentoringu w doskonaleniu procesu uczenia się</a:t>
            </a:r>
            <a:r>
              <a:rPr b="0" lang="pl-PL" sz="1800" spc="-1" strike="noStrike">
                <a:solidFill>
                  <a:srgbClr val="ffff00"/>
                </a:solidFill>
                <a:latin typeface="Times New Roman"/>
              </a:rPr>
              <a:t>, Oficyna ekonomiczna, Kraków 200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00"/>
                </a:solidFill>
                <a:latin typeface="Times New Roman"/>
              </a:rPr>
              <a:t>Rae L., </a:t>
            </a:r>
            <a:r>
              <a:rPr b="1" lang="pl-PL" sz="1800" spc="-1" strike="noStrike">
                <a:solidFill>
                  <a:srgbClr val="ffff00"/>
                </a:solidFill>
                <a:latin typeface="Times New Roman"/>
              </a:rPr>
              <a:t>Planowanie i projektowanie szkoleń</a:t>
            </a:r>
            <a:r>
              <a:rPr b="0" lang="pl-PL" sz="1800" spc="-1" strike="noStrike">
                <a:solidFill>
                  <a:srgbClr val="ffff00"/>
                </a:solidFill>
                <a:latin typeface="Times New Roman"/>
              </a:rPr>
              <a:t>, Oficyna ekonomiczna, Kraków 200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00"/>
                </a:solidFill>
                <a:latin typeface="Times New Roman"/>
              </a:rPr>
              <a:t>Sitko – Lutek A., </a:t>
            </a:r>
            <a:r>
              <a:rPr b="1" lang="pl-PL" sz="1800" spc="-1" strike="noStrike">
                <a:solidFill>
                  <a:srgbClr val="ffff00"/>
                </a:solidFill>
                <a:latin typeface="Times New Roman"/>
              </a:rPr>
              <a:t>Kulturowe uwarunkowania doskonalenia menedżerów</a:t>
            </a:r>
            <a:r>
              <a:rPr b="0" lang="pl-PL" sz="1800" spc="-1" strike="noStrike">
                <a:solidFill>
                  <a:srgbClr val="ffff00"/>
                </a:solidFill>
                <a:latin typeface="Times New Roman"/>
              </a:rPr>
              <a:t>, UMCS, Lublin 200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00"/>
                </a:solidFill>
                <a:latin typeface="Times New Roman"/>
              </a:rPr>
              <a:t>Sloman M., </a:t>
            </a:r>
            <a:r>
              <a:rPr b="1" lang="pl-PL" sz="1800" spc="-1" strike="noStrike">
                <a:solidFill>
                  <a:srgbClr val="ffff00"/>
                </a:solidFill>
                <a:latin typeface="Times New Roman"/>
              </a:rPr>
              <a:t>Strategia szkolenia pracowników</a:t>
            </a:r>
            <a:r>
              <a:rPr b="0" lang="pl-PL" sz="1800" spc="-1" strike="noStrike">
                <a:solidFill>
                  <a:srgbClr val="ffff00"/>
                </a:solidFill>
                <a:latin typeface="Times New Roman"/>
              </a:rPr>
              <a:t>, PWN, Warszawa 1997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00"/>
                </a:solidFill>
                <a:latin typeface="Times New Roman"/>
              </a:rPr>
              <a:t>Woodruffe C., </a:t>
            </a:r>
            <a:r>
              <a:rPr b="1" lang="pl-PL" sz="1800" spc="-1" strike="noStrike">
                <a:solidFill>
                  <a:srgbClr val="ffff00"/>
                </a:solidFill>
                <a:latin typeface="Times New Roman"/>
              </a:rPr>
              <a:t>Ośrodki oceny i rozwoju</a:t>
            </a:r>
            <a:r>
              <a:rPr b="0" lang="pl-PL" sz="1800" spc="-1" strike="noStrike">
                <a:solidFill>
                  <a:srgbClr val="ffff00"/>
                </a:solidFill>
                <a:latin typeface="Times New Roman"/>
              </a:rPr>
              <a:t>, Oficyna ekonomiczna, Kraków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73D-BEEF-4A57-83D0-09D34383920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Kontrola procesu rozwoj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cenianie szkoleń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cenianie pracownikó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nitorowanie przebiegu karier pracownikó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danie opinii pracownikó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luktuacja kad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1B52-5F71-496F-9A03-CF936B5CF21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ystem wartości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otrze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spirac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ele życiow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ele zawodow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0920" y="1989000"/>
            <a:ext cx="1871640" cy="15112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003640" y="1916280"/>
            <a:ext cx="1872000" cy="15112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1700280"/>
            <a:ext cx="2376360" cy="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0014-A3B9-459E-8288-6CCBDE1C6EA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iagnoza potencjału rozwojowe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209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siadane kwalifikac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ed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miejętn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echy osobow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- cechy osobowości/postaw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- cechy organizmu (fizyczne i fizjologicz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8F4-B115-4234-AAAD-CA95E81CE73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echy rozwoj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twarcie na zmiany i skłonność uczenia się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stawienie na cel i konsekwencja w jego realizacj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miejętność nawiązywania i podtrzymywania korzystnych relacji interpersonal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D28-7D1F-4217-B5C0-A4C0D29B175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adanie potrzeb rozwojow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Analiza dokumentacji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(regulacje prawne, kluczowe kwalifikacje wynikające z celów firmy, kierunków rozwoju organizacji i planów sukcesj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Wywiady z kierownictwem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(braki kwalifikacyjne w kierowanym zespole, potencjał kwalifikacyjny pracownikó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Badanie ankietowe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(aspiracje rozwojowe pracownikó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Obserwacja zachowań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pracowników (potencjał kwalifikacyjny pracownikó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F59-CD7B-4530-BF6B-D0CE39449D7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Konfucjus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090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 usłyszę – zapomn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 zobaczę – zapamięt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 sam zrobię – zrozumi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AE3-58C0-4D07-928A-DDA90E452B1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ozwó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 literaturze przedmiotu pojęcie rozwoju kojarzone jest z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ozwojem zawodowym definiowanym jako proces indywidualnego wzrostu, zdobywania umiejętności i rozwoju związanego z pracą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yraża się on działaniami ukierunkowanymi 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rozumienie możliwośc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ydobycie ukrytych zdolności lub potencjał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chodzenie w bardziej zaawansowane stad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zechodzenie przez kolejne stadia na wyższy, bardziej złożony lub bardziej rozwinięty pozi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B0F4-FD51-4391-A6B9-878F7E118E1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ozwój pracownik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ziałania mające na celu przygotowanie pracowników (w okresie zatrudnienia w organizacji) do wykonywania pracy i zajmowania stanowisk o większej odpowiedzialnoś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 kontekście zarządzania kadrami dynamika i kierunek rozwoju są determinowane z jednej strony celami firmy, z drugiej zaś potrzebami i aspiracjami pracowników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F5F-81D0-4144-8AA6-97B080468E2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oskonale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00"/>
                </a:solidFill>
                <a:latin typeface="Times New Roman"/>
              </a:rPr>
              <a:t>proces dokonywania zmi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00"/>
                </a:solidFill>
                <a:latin typeface="Times New Roman"/>
              </a:rPr>
              <a:t>w kwalifikacjach pracownikó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00"/>
                </a:solidFill>
                <a:latin typeface="Times New Roman"/>
              </a:rPr>
              <a:t>w celu zwiększenia sprawnośc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00"/>
                </a:solidFill>
                <a:latin typeface="Times New Roman"/>
              </a:rPr>
              <a:t>ich działani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DFF1-C1D2-4A51-B55E-DC890AC7333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Kwalifikac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090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ed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miejętn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echy osobow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- cechy osobowości/postaw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- cechy organizmu (fizyczne i fizjologicz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5EE9-E01A-45F0-B49A-E4F549769A4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czenie si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090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ces prowadzący 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dyfikacji zachowania jednostk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 wyniku jej uprzednich doświadcze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BF7-E0E1-4DF8-A0CF-EF091D409D4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rawo efektu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(warunkowanie instrumentaln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491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Zachowan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jest funkcją jego konsekwencj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kojarzenie zachowa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z nagrodą, karą lub ignorowanie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785-54C8-40C0-9DD0-8C72D3EF6C6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 Adam Suchodolski   Human Resources Department Wrocław University of Economics, Poland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17:41:12Z</dcterms:created>
  <dc:creator>Marzena Stor</dc:creator>
  <dc:description/>
  <dc:language>en-US</dc:language>
  <cp:lastModifiedBy>Adam Suchodolski</cp:lastModifiedBy>
  <dcterms:modified xsi:type="dcterms:W3CDTF">2010-11-19T00:18:01Z</dcterms:modified>
  <cp:revision>114</cp:revision>
  <dc:subject/>
  <dc:title>Prezentacja programu PowerPoint</dc:title>
</cp:coreProperties>
</file>