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37B3-26B1-46C1-B662-C6DD5F5C7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F16E-C2A8-40DD-9572-985E624A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CB7D-2016-47B9-92DA-DCC334945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D6EF-9991-4AA2-866A-6AEF9FF53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2262-D1AF-47DF-BD0D-E6BBAB33C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6DFC-F553-4A69-9141-FB37B510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7386-3BD4-4F21-A7B5-56DC544B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5EBD-3B14-4193-B255-75A8F0E6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8538A-5AE4-44AD-995D-7309D3C5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EE32-0C94-4B85-8EDF-6CE4703D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6C73-E472-4E15-8DA3-85A437AD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53BB-0720-461C-BDA6-58DDE2C3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CE0D-F0AA-488A-B253-F30C6E46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B00F-E4D4-4473-8C54-7BFF7711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62B0-E1A4-418A-81A4-510BDE46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2545-5D5F-498C-8F87-33861D080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0703C-5B8D-43DF-B2F0-D6AE21EFA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C77D6-4667-43D6-87CD-3147B276B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8DF0A-37C4-4571-87DE-AB1F4977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68DD2-0107-4D4D-B107-C929751F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4B1C2-1ED6-4D02-A58D-0325DC16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1B742-879F-4702-8AC7-46B03FA7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8031-7D3D-455A-8A7C-AEDADB26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56BE7-6B77-474D-B6D3-BF662B8B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5B209-3DAC-4C86-AB90-180EE8BE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8724A-9546-4521-A990-0FCA746E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28761-A94C-478D-A919-50C38C5C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8581A-A32B-41D0-BAAE-4923470C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9315E-B259-4792-B25D-FAABC257C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FB853-3FDD-4D22-BC23-E8B298EB7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2B611-0DA4-4406-A8E7-74837D76C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9D446-FA5A-48B2-8A11-7A597E19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F95CE-0C46-4C08-89E7-0BC56EBE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5418-D49E-4493-904E-A3AD9C7B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AAB1D-4BBA-4FF6-8C62-B6BBC603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DB134-EF40-42AE-8DDA-70DB41E6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CAABF-03BE-4C1D-BE89-8915F612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4E773-BD34-4517-AFF9-F9EC989D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CA603-AF4B-43FF-8F2A-6F3B88D8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8395C-FDEB-4BF4-90E1-427EA493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788EA-68BA-4BCA-AA48-85BB4BD6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CA11C-E7C9-478E-A8E4-5089D3CE2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0ED15-2D3B-4ADA-9A6E-A87864549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4DE8-1411-42B4-B7B1-364CAB19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36F7-5896-448B-904F-A4BC0A51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051B-9799-4E65-9CE0-29421FCE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3C64-1AA6-4C0B-B112-B60701D7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1F57-FE64-4080-A3A1-9CD98EA4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owolny kształt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Dowolny kształt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80B2-4A4A-43AC-8742-A5E3B2C6116E}" type="slidenum">
              <a:rPr b="0" lang="pl-PL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up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Dowolny kształt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Dowolny kształt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Dowolny kształt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Dowolny kształt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owolny kształt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Dowolny kształt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up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Dowolny kształt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Dowolny kształt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Dowolny kształt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Dowolny kształt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C392-F19F-436B-B5CD-76D7A843B20D}" type="slidenum">
              <a:rPr b="0" lang="pl-PL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owolny kształt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wolny kształt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up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Dowolny kształt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Dowolny kształt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Dowolny kształt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Dowolny kształt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D349-0C04-4F4B-82DB-88DFA8E59C8E}" type="slidenum">
              <a:rPr b="0" lang="pl-PL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rostokąt ze ściętym i zaokrąglonym rogiem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rójkąt prostokątny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wolny kształt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Dowolny kształt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B78C-6FB4-463D-8327-6C5313E9D052}" type="slidenum">
              <a:rPr b="0" lang="pl-PL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ytuł 1" descr=""/>
          <p:cNvPicPr/>
          <p:nvPr/>
        </p:nvPicPr>
        <p:blipFill>
          <a:blip r:embed="rId1"/>
          <a:stretch/>
        </p:blipFill>
        <p:spPr>
          <a:xfrm>
            <a:off x="853920" y="476280"/>
            <a:ext cx="8217000" cy="9255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520" y="1356840"/>
            <a:ext cx="82533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  <a:ea typeface="Arial"/>
              </a:rPr>
              <a:t>Kapitał (fundusz) własny 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  <a:ea typeface="Arial"/>
              </a:rPr>
              <a:t>odzwierciedla tę część wartości majątku jednostki gospodarczej, która pozostaje w jej dyspozycji w całym okresie jej działalności, bez ograniczeń czasowych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  <a:ea typeface="Arial"/>
              </a:rPr>
              <a:t>(synonim: aktywa netto, czyli aktywa pomniejszone o zobowiązania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533520" y="1356840"/>
            <a:ext cx="82533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  <a:ea typeface="Arial"/>
              </a:rPr>
              <a:t>REZERW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  <a:ea typeface="Arial"/>
              </a:rPr>
              <a:t>zobowiązania, przy których kwota lub termin zapłaty są niepew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  <a:ea typeface="Arial"/>
              </a:rPr>
              <a:t>Rozliczenia międzyokresowe bier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  <a:ea typeface="Arial"/>
              </a:rPr>
              <a:t>Kwoty przypadające do zapłaty za towary lub usługi, które zostały dostarczone (wykonane) ale nie zostały zafakturowane lub formalnie uzgodnione z dostawcą, łącznie z kwotami należnymi pracownikom (np. za urlop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Tytuł 1" descr=""/>
          <p:cNvPicPr/>
          <p:nvPr/>
        </p:nvPicPr>
        <p:blipFill>
          <a:blip r:embed="rId1"/>
          <a:stretch/>
        </p:blipFill>
        <p:spPr>
          <a:xfrm>
            <a:off x="853920" y="476280"/>
            <a:ext cx="8217000" cy="92556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00040" y="1428480"/>
            <a:ext cx="82533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Constantia"/>
              </a:rPr>
              <a:t>Kapitał (fundusz) podstawowy </a:t>
            </a: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stanowi równowartość majątku jednostki gospodarczej odpowiadającą wartości wkładów wniesionych w momencie założenia jednostki w celu finansowania jej działalności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W zależności od formy prawnej jednostki gospodarczej kapitał (fundusz) podstawowy może przyjąć postać różnych kapitałów lub funduszy: kapitału akcyjnego (spółka akcyjna), kapitału udziałowego (spółka z o.o.), funduszu założycielskiego (przedsiębiorstwo państwowe), funduszu udziałowego (spółdzielnie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28760" y="857160"/>
            <a:ext cx="8253360" cy="5572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  <a:ea typeface="Arial"/>
              </a:rPr>
              <a:t>Kapitał akcyjny 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  <a:ea typeface="Arial"/>
              </a:rPr>
              <a:t>jest kapitałem zakładowym spółki akcyjnej, stanowiącym równowartość sumy pieniężnej wpłaconej przez akcjonariuszy w trakcie emisji akcji. Kapitał akcyjny dzieli się na akcje o równej wartości nominalnej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  <a:ea typeface="Arial"/>
              </a:rPr>
              <a:t>Kapitał udziałowy 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  <a:ea typeface="Arial"/>
              </a:rPr>
              <a:t>jest kapitałem zakładowym tworzonym w spółkach z ograniczoną odpowiedzialnością. Kapitał udziałowy stanowi równowartość pieniężną udziałów pieniężnych lub niepieniężnych (aportów) wniesionych przez udziałowców spółki. Kapitał udziałowy dzieli się na udziały o równej lub nierównej wysokości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28760" y="785520"/>
            <a:ext cx="8253360" cy="6072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  <a:ea typeface="Arial"/>
              </a:rPr>
              <a:t>Fundusz założycielski 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  <a:ea typeface="Arial"/>
              </a:rPr>
              <a:t>jest funduszem własnym tworzonym w przedsiębiorstwach państwowych. Fundusz ten jest wartościowym odzwierciedleniem wydzielonej przedsiębiorstwu części własności ogólnonarodowej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  <a:ea typeface="Arial"/>
              </a:rPr>
              <a:t>Fundusz udziałowy 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  <a:ea typeface="Arial"/>
              </a:rPr>
              <a:t>jest tworzony w spółdzielniach i odzwierciedla on równowartość wpłat udziałów członkowskich wniesionych przez członków spółdzielni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56800" y="625680"/>
            <a:ext cx="7851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44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533520" y="1356840"/>
            <a:ext cx="82533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Constantia"/>
              </a:rPr>
              <a:t>Kapitał zapasowy </a:t>
            </a: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jest częścią kapitału własnego spółek kapitałowych. Kapitał zapasowy powstaje w trakcie funkcjonowania spółki. Podstawowymi źródłami tworzenia kapitału zapasowego są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część wypracowanego zysku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nadwyżka osiągnięta przy sprzedaży akcji powyżej ich wartości nominalnej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dopłaty udziałowców/akcjonariuszy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W przedsiębiorstwach państwowych odpowiednikiem kapitału zapasowego jest </a:t>
            </a:r>
            <a:r>
              <a:rPr b="1" lang="pl-PL" sz="2600" spc="-1" strike="noStrike">
                <a:solidFill>
                  <a:srgbClr val="ffffff"/>
                </a:solidFill>
                <a:latin typeface="Constantia"/>
              </a:rPr>
              <a:t>fundusz przedsiębiorstwa, </a:t>
            </a: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a w spółdzielniach — </a:t>
            </a:r>
            <a:r>
              <a:rPr b="1" lang="pl-PL" sz="2600" spc="-1" strike="noStrike">
                <a:solidFill>
                  <a:srgbClr val="ffffff"/>
                </a:solidFill>
                <a:latin typeface="Constantia"/>
              </a:rPr>
              <a:t>fundusz zasobowy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56800" y="625680"/>
            <a:ext cx="7851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44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533520" y="1356840"/>
            <a:ext cx="82533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  <a:ea typeface="Arial"/>
              </a:rPr>
              <a:t>Kapitał (fundusz) rezerwowy 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  <a:ea typeface="Arial"/>
              </a:rPr>
              <a:t>jest częścią kapitałów lub funduszy własnych, obok kapitału (funduszu) podstawowego i kapitału (funduszu) zapasowego. Jest tworzony z części zysku netto do podziału z przeznaczeniem na pokrycie spodziewanych w przyszłości szczególnych wydatków i ewentualnych strat. Tworzenie kapitału lub funduszu rezerwowego nie jest obowiązkiem ustawowym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  <a:ea typeface="Arial"/>
              </a:rPr>
              <a:t>Szczególną pozycją kapitału (funduszu) własnego jest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  <a:ea typeface="Arial"/>
              </a:rPr>
              <a:t>kapitał (fundusz) rezerwowy z aktualizacji wyceny 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  <a:ea typeface="Arial"/>
              </a:rPr>
              <a:t>środków trwałych. Na kapitał ten odnosi się różnicę wartości netto środków trwałych powstałą w wyniku aktualizacji ich wyceny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533520" y="857160"/>
            <a:ext cx="8253360" cy="5572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  <a:ea typeface="Arial"/>
              </a:rPr>
              <a:t>Elementem kapitału lub funduszu własnego jednostek gospodarczych jest również wygospodarowany w toku działalności gospodarczej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  <a:ea typeface="Arial"/>
              </a:rPr>
              <a:t>wynik finansowy netto, 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  <a:ea typeface="Arial"/>
              </a:rPr>
              <a:t>na który składają się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  <a:ea typeface="Arial"/>
              </a:rPr>
              <a:t>nie podzielony wynik finansowy z lat ubiegłych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  <a:ea typeface="Arial"/>
              </a:rPr>
              <a:t>wynik finansowy netto roku obrotowego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  <a:ea typeface="Arial"/>
              </a:rPr>
              <a:t>Osiągnięty w toku działalności dodatni wynik finansowy, czyli zysk netto, jest głównym źródłem powiększania zasobów majątkowych jednostki gospodarczej, natomiast ujemny wynik finansowy, czyli strata netto, powoduje zmniejszenie ogólnej wartości majątku jednostk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ytuł 1" descr=""/>
          <p:cNvPicPr/>
          <p:nvPr/>
        </p:nvPicPr>
        <p:blipFill>
          <a:blip r:embed="rId1"/>
          <a:stretch/>
        </p:blipFill>
        <p:spPr>
          <a:xfrm>
            <a:off x="-42840" y="781200"/>
            <a:ext cx="8759880" cy="6141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33520" y="1356840"/>
            <a:ext cx="82533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równowartość tej części majątku jednostki, która nie jest sfinansowana kapitałami (funduszami) własnymi. Kapitały lub fundusze obce występują pod postacią </a:t>
            </a:r>
            <a:r>
              <a:rPr b="1" lang="pl-PL" sz="2600" spc="-1" strike="noStrike">
                <a:solidFill>
                  <a:srgbClr val="ffffff"/>
                </a:solidFill>
                <a:latin typeface="Constantia"/>
              </a:rPr>
              <a:t>zobowiązań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Constantia"/>
              </a:rPr>
              <a:t>Zobowiązania długoterminowe, </a:t>
            </a: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których termin spłaty jest dłuższy niż jeden rok od daty, na jaką sporządza się sprawozdanie finansow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Constantia"/>
              </a:rPr>
              <a:t>Zobowiązania krótkoterminowe, </a:t>
            </a: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których termin spłaty nie przekracza jednego roku od daty, na jaką sporządza się sprawozdanie finansow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Tytuł 1" descr=""/>
          <p:cNvPicPr/>
          <p:nvPr/>
        </p:nvPicPr>
        <p:blipFill>
          <a:blip r:embed="rId1"/>
          <a:stretch/>
        </p:blipFill>
        <p:spPr>
          <a:xfrm>
            <a:off x="853920" y="476280"/>
            <a:ext cx="8217000" cy="92556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533520" y="1356840"/>
            <a:ext cx="82533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  <a:ea typeface="Arial"/>
              </a:rPr>
              <a:t>Wynikający z przeszłych zdarzeń obowiązek wykonania świadczeń o wiarygodnie określonej wartości, które spowodują wykorzystanie już posiadanych lub przyszłych aktywów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14:42:50Z</dcterms:created>
  <dc:creator>HOME</dc:creator>
  <dc:description/>
  <dc:language>en-US</dc:language>
  <cp:lastModifiedBy>HOME</cp:lastModifiedBy>
  <dcterms:modified xsi:type="dcterms:W3CDTF">2009-10-02T06:25:41Z</dcterms:modified>
  <cp:revision>33</cp:revision>
  <dc:subject/>
  <dc:title>Slajd 1</dc:title>
</cp:coreProperties>
</file>