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3F5-CE47-42D6-95F0-9FA86554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DA8-1D56-4BF6-9357-DA937013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530-F4E3-4E21-AC14-BE2A25B6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4EC-E357-49F8-A3C4-01233731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EB4-A3E8-414E-9DE8-E35B635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8C5-3982-432A-AAD1-3C59778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2D7-D194-4A98-8337-1C39FC7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BDA-6FEB-4DE5-8156-D89649AE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FFE-84C4-43AD-98A0-056293B6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F75-E63E-4216-8637-6A39F69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B28-4B98-4A2A-8E54-28DB012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3B9-0C5A-405F-8500-FF6B09E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3AC-7F0A-4E3D-8A17-815E77AEC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ff3300"/>
                </a:solidFill>
                <a:latin typeface="Cordia New"/>
                <a:cs typeface="Cordia New"/>
              </a:rPr>
              <a:t>เสียงสะท้อน เพื่อก่อให้เกิดการแก้ไข ปรับเปลี่ย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666880"/>
            <a:ext cx="82296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แตกต่างระหว่างประเทศด้อยพัฒนา กับประเทศที่     พัฒนาสูงสุดแล้ว ไม่ได้อยู่ที่ความเก่าแก่ของอารยธรรมของประเทศนั้น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Cordia New"/>
                <a:cs typeface="Cordia New"/>
              </a:rPr>
              <a:t>จากการวิเคราะห์พฤติกรรมของคนในประเทศพัฒนาแล้ว พบว่าคนส่วนใหญ่ดำเนินชีวิตอยู่บนหลักปรัชญาเหล่านี้</a:t>
            </a:r>
            <a:r>
              <a:rPr b="1" lang="en-US" sz="4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จริยธรรมนำทางชีวิต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Ethics</a:t>
            </a: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as the basic princ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ซื่อสัตย์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Integ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รับผิดชอบในบทบาท หน้าที่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Respon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คารพต่อกฏระเบียบ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Respect to the law and r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คารพต่อสิทธิของผู้อื่น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Respect to the rights of other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รักในงาน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Work Lov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นใจในการอดออมและลงทุน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Strive for saving and inves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แรงผลักดันสูง สู่ความเป็นที่หนึ่ง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 Will of super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ตรงต่อเวลา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(Punctu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ประเทศด้อยพัฒนา มีคนเพียงจำนวนน้อยที่ใช้หลักปรัชญาเหล่านี้ในการดำเนินชีวิต</a:t>
            </a:r>
            <a:r>
              <a:rPr b="1" lang="en-US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ทศเรายังไม่เป็นประเทศพัฒนา ไม่ใช่เพราะเราขาดทรัพยากร หรือมีภัยธรรมชาติเป็นปัญห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ต่เรายังไม่พัฒนาไปได้ดีกว่านี้ เพราะเราขาดทัศนคติ และแรงผลักดันที่สอดคล้องไปตามหลักปรัชญาการดำเนินชีวิตที่กล่าวมาแล้ว</a:t>
            </a:r>
            <a:r>
              <a:rPr b="1" lang="en-US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ไม่ส่งต่อเมลล์นี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จะไม่ถูกสาปแช่งใด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จะไม่ล้มป่วย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จะไม่ทะเลาะกับแฟ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จะไม่ถูกไล่ออกจากงา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Cordia New"/>
                <a:cs typeface="Cordia New"/>
              </a:rPr>
              <a:t>แต่ถ้าคุณรักประเทศไทย และอยากเห็นประเทศของเราเปลี่ยนเป็นประเทศพัฒนาเต็มขั้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ิ่มที่ตัวคุณเอง พัฒนาสังคมใกล้ตัวคุณ ในบ้าน ที่ทำงา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อย่าลืมช่วยกันส่งข้อความนี้ต่อให้คนรอบข้างคุณให้มากที่สุ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Cordia New"/>
                <a:cs typeface="Cordia New"/>
              </a:rPr>
              <a:t>หวังว่าจะได้เป็นส่วนช่วยผลักดันให้คนไทยลุกขึ้นคิด วิเคราะห์พฤติกรรมการใช้ชีวิตของเราเพื่อนำประเทศไทยไปสู่                                         </a:t>
            </a:r>
            <a:r>
              <a:rPr b="1" lang="th-TH" sz="3200" spc="-1" strike="noStrike">
                <a:solidFill>
                  <a:srgbClr val="ff3300"/>
                </a:solidFill>
                <a:latin typeface="Cordia New"/>
                <a:cs typeface="Cordia New"/>
              </a:rPr>
              <a:t>การแก้ไข ปรับเปลี่ยน และพัฒนาเต็มขั้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ารถดูได้จากประเทศอย่างอินเดีย อียิปต์                           ซึ่งมีอารยธรรม มานานกว่า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2000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ีแต่ก็ยังยากจ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ขณะเดียวกัน คานาดา ออสเตรเลีย นิวซีแลนด์               ที่เคยเป็นประเทศเล็กๆ ไม่มีศากยภาพเมื่อ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150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ีที่แล้ว แต่วันนี้กลับพัฒนาจนกลายเป็นประเทศพัฒนาร่ำรวย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ความแตกต่างระหว่างประเทศเจริญแล้วที่ร่ำรวย กับประเทศด้อยพัฒนาที่ยากจน ก็ดูเหมือนไม่ได้อยู่ที่ทรัพยากรของประเทศอีกนั่นล่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ญี่ปุ่นเป็นประเทศที่มีพื้นที่ทำกินน้อยมาก  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%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พื้นที่เป็นภูเขา ไม่เหมาะในการทำเกษรตรกรรม                                                                     แต่ญี่ปุ่นกลับเป็นประเทศที่ส่งออกสินค้าการเกษตรที่สำคัญของโล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ยังเป็นเหมือนโรงงานกลางที่รับเอาวัตถุดิบจากที่ต่างๆของโลกมาผันเป็นสินค้าส่งออกกลับไปทั่วโล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อีกตัวอย่างคือสวิสเซอร์แลนด์ ที่ไม่มีการทำไร่โกโก้เลย แต่กลับเป็นประเทศที่ขึ้นชื่อด้านการทำช็อคโกแล็ตของโลก ทั้งๆที่พื้นที่ๆทำการเกษตรมีอยู่เล็กมากๆ และอากาศหนาวจัดจนทำการเกษตรได้เพียง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4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ดือนใน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สวิสเซอร์แลนด์ยังนำเอาความมีระบบระเบียบของคนและบ้านเมืองมาใช้ประโยชน์ จนได้รับการยอมรับให้เป็นธนาคารของโล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นักบริหารจากประเทศที่เจริญแล้วยืนยันกับคู่ค้าของเขาในประเทศที่ด้อยพัฒนาว่า ไม่เห็นมีความแตกต่างด้านสติปัญญาของแรงงานเล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ีผิว และ เผ่าพันธุ์ก็ไม่ใช่เหตุผลอีกแหละ เพราะเมื่อแรงงานที่เคยขี้เกียจในประเทศของตนย้ายไปอยู่และหากินในประเทศที่เจริญแล้วกลับกลายเป็นแรงงานที่ขยันด้วยซ้ำไป</a:t>
            </a:r>
            <a:r>
              <a:rPr b="1" lang="en-US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23317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4000" spc="-1" strike="noStrike">
                <a:solidFill>
                  <a:srgbClr val="ff3300"/>
                </a:solidFill>
                <a:latin typeface="Cordia New"/>
                <a:cs typeface="Cordia New"/>
              </a:rPr>
              <a:t>แล้วอะไรที่ทำให้แตกต่าง </a:t>
            </a:r>
            <a:r>
              <a:rPr b="1" lang="en-US" sz="4000" spc="-1" strike="noStrike">
                <a:solidFill>
                  <a:srgbClr val="ff3300"/>
                </a:solidFill>
                <a:latin typeface="Cordia New"/>
                <a:ea typeface="Cordia New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00"/>
                </a:solidFill>
                <a:latin typeface="Cordia New"/>
                <a:ea typeface="Cordi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ที่แตกต่างคือ </a:t>
            </a:r>
            <a:r>
              <a:rPr b="1" lang="th-TH" sz="4000" spc="-1" strike="noStrike">
                <a:solidFill>
                  <a:srgbClr val="ff3300"/>
                </a:solidFill>
                <a:latin typeface="Cordia New"/>
                <a:cs typeface="Cordia New"/>
              </a:rPr>
              <a:t>ทัศนคติ </a:t>
            </a:r>
            <a:r>
              <a:rPr b="1" lang="th-TH" sz="40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ฝังรากลึกมานานปีผ่านระบบการศึกษา และการอบรมปลูกฝัง</a:t>
            </a:r>
            <a:r>
              <a:rPr b="1" lang="en-US" sz="4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00:38Z</dcterms:created>
  <dc:creator>bhanu</dc:creator>
  <dc:description/>
  <dc:language>en-US</dc:language>
  <cp:lastModifiedBy>bhanu</cp:lastModifiedBy>
  <dcterms:modified xsi:type="dcterms:W3CDTF">2007-12-14T03:18:56Z</dcterms:modified>
  <cp:revision>16</cp:revision>
  <dc:subject/>
  <dc:title>Slide 1</dc:title>
</cp:coreProperties>
</file>