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5400675" cy="360045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  <a:defRPr b="0" lang="fr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5080" y="684360"/>
            <a:ext cx="512784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6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  <a:defRPr b="0" lang="fr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fld id="{0B434A56-2800-4D7B-82D8-31CA97913C91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865080" y="684360"/>
            <a:ext cx="5127840" cy="34178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26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fr-CA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Espace réservé du numéro de diapositive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fld id="{7A61045E-98ED-498F-9540-0192EED87440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865080" y="684360"/>
            <a:ext cx="5127840" cy="34178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26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fr-CA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Espace réservé du numéro de diapositive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fld id="{D6D55A6E-72DE-44DB-B364-0F9B6C082D36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FCAE-9C62-48D0-8D78-1E58FF2A0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000" y="144000"/>
            <a:ext cx="4860720" cy="60012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0000" y="839520"/>
            <a:ext cx="4860720" cy="11332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0000" y="2080800"/>
            <a:ext cx="4860720" cy="11332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0E82-92B2-407C-9D5E-37E560B5F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000" y="144000"/>
            <a:ext cx="4860720" cy="60012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0000" y="839520"/>
            <a:ext cx="2371680" cy="11332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0480" y="839520"/>
            <a:ext cx="2371680" cy="11332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0000" y="2080800"/>
            <a:ext cx="2371680" cy="11332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60480" y="2080800"/>
            <a:ext cx="2371680" cy="11332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F64E-DA7A-4C77-97C1-40DC23292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000" y="144000"/>
            <a:ext cx="4860720" cy="60012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0000" y="839520"/>
            <a:ext cx="1564920" cy="11332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13400" y="839520"/>
            <a:ext cx="1564920" cy="11332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57160" y="839520"/>
            <a:ext cx="1564920" cy="11332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0000" y="2080800"/>
            <a:ext cx="1564920" cy="11332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13400" y="2080800"/>
            <a:ext cx="1564920" cy="11332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57160" y="2080800"/>
            <a:ext cx="1564920" cy="11332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0546-E2F3-4DAA-BFA0-B7C334073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000" y="144000"/>
            <a:ext cx="4860720" cy="60012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0000" y="839520"/>
            <a:ext cx="4860720" cy="23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D76A-0FAA-404B-853F-E649078D6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000" y="144000"/>
            <a:ext cx="4860720" cy="60012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0000" y="839520"/>
            <a:ext cx="4860720" cy="237636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41BC-AA0D-4954-8CC3-9B3F595E7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000" y="144000"/>
            <a:ext cx="4860720" cy="60012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0000" y="839520"/>
            <a:ext cx="2371680" cy="237636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60480" y="839520"/>
            <a:ext cx="2371680" cy="237636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5B9E-CEEC-42B6-BF18-D7B146004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000" y="144000"/>
            <a:ext cx="4860720" cy="60012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B1E7-0565-4B5E-83C1-F291B682B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000" y="144000"/>
            <a:ext cx="4860720" cy="27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6D79-20EE-408A-9137-356470F8F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000" y="144000"/>
            <a:ext cx="4860720" cy="60012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0000" y="839520"/>
            <a:ext cx="2371680" cy="11332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60480" y="839520"/>
            <a:ext cx="2371680" cy="237636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0000" y="2080800"/>
            <a:ext cx="2371680" cy="11332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21BE-6CFD-459D-8DA7-5A24D39D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000" y="144000"/>
            <a:ext cx="4860720" cy="60012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0000" y="839520"/>
            <a:ext cx="2371680" cy="237636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60480" y="839520"/>
            <a:ext cx="2371680" cy="11332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60480" y="2080800"/>
            <a:ext cx="2371680" cy="11332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1AAC-0FF0-4F93-BB2F-14942593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000" y="144000"/>
            <a:ext cx="4860720" cy="60012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0000" y="839520"/>
            <a:ext cx="2371680" cy="11332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60480" y="839520"/>
            <a:ext cx="2371680" cy="11332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0000" y="2080800"/>
            <a:ext cx="4860720" cy="11332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31E3-D6D0-47CA-BF10-13F20E1D9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000" y="144000"/>
            <a:ext cx="4860720" cy="60012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0000" y="839520"/>
            <a:ext cx="4860720" cy="237636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marL="192240" indent="-192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17600" indent="-160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642960" indent="-12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900000" indent="-128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157400" indent="-1285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157400" indent="-1285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157400" indent="-1285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9640" y="3336840"/>
            <a:ext cx="1260360" cy="1922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  <a:defRPr b="0" lang="fr-CA" sz="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fr-CA" sz="7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44640" y="3336840"/>
            <a:ext cx="1711440" cy="1922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indent="0"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70000" y="3336840"/>
            <a:ext cx="1260360" cy="1922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  <a:defRPr b="0" lang="fr-CA" sz="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fld id="{FFE94E25-0493-4BC1-A132-F02DCC9394FC}" type="slidenum">
              <a:rPr b="0" lang="fr-CA" sz="7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e 18"/>
          <p:cNvGrpSpPr/>
          <p:nvPr/>
        </p:nvGrpSpPr>
        <p:grpSpPr>
          <a:xfrm>
            <a:off x="36360" y="0"/>
            <a:ext cx="5349960" cy="3600360"/>
            <a:chOff x="36360" y="0"/>
            <a:chExt cx="5349960" cy="3600360"/>
          </a:xfrm>
        </p:grpSpPr>
        <p:sp>
          <p:nvSpPr>
            <p:cNvPr id="49" name="Espace réservé du contenu 2"/>
            <p:cNvSpPr/>
            <p:nvPr/>
          </p:nvSpPr>
          <p:spPr>
            <a:xfrm>
              <a:off x="394920" y="403200"/>
              <a:ext cx="4681800" cy="30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noAutofit/>
            </a:bodyPr>
            <a:p>
              <a:pPr algn="ctr">
                <a:lnSpc>
                  <a:spcPct val="80000"/>
                </a:lnSpc>
                <a:spcBef>
                  <a:spcPts val="374"/>
                </a:spcBef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fr-CA" sz="1100" spc="-1" strike="noStrike">
                  <a:solidFill>
                    <a:srgbClr val="121307"/>
                  </a:solidFill>
                  <a:latin typeface="Calibri"/>
                </a:rPr>
                <a:t>	</a:t>
              </a:r>
              <a:r>
                <a:rPr b="1" lang="fr-CA" sz="1500" spc="-1" strike="noStrike">
                  <a:solidFill>
                    <a:srgbClr val="000000"/>
                  </a:solidFill>
                  <a:latin typeface="Calibri"/>
                </a:rPr>
                <a:t>Vous avez un membre de la famille ou un(e) ami(e)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374"/>
                </a:spcBef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fr-CA" sz="1500" spc="-1" strike="noStrike">
                  <a:solidFill>
                    <a:srgbClr val="000000"/>
                  </a:solidFill>
                  <a:latin typeface="Calibri"/>
                </a:rPr>
                <a:t>qui a choisi l’Islam ? 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fr-CA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fr-CA" sz="1200" spc="-1" strike="noStrike">
                  <a:solidFill>
                    <a:srgbClr val="000000"/>
                  </a:solidFill>
                  <a:latin typeface="Calibri"/>
                </a:rPr>
                <a:t>Vous désirez comprendre davantage ce qui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fr-CA" sz="1200" spc="-1" strike="noStrike">
                  <a:solidFill>
                    <a:srgbClr val="000000"/>
                  </a:solidFill>
                  <a:latin typeface="Calibri"/>
                </a:rPr>
                <a:t>a motivé son choix ?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fr-CA" sz="1200" spc="-1" strike="noStrike">
                  <a:solidFill>
                    <a:srgbClr val="000000"/>
                  </a:solidFill>
                  <a:latin typeface="Calibri"/>
                </a:rPr>
                <a:t>Vous êtes curieux de connaître un environnement musulman ouvert ?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75"/>
                </a:spcBef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75"/>
                </a:spcBef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fr-CA" sz="1100" spc="-1" strike="noStrike">
                  <a:solidFill>
                    <a:srgbClr val="000000"/>
                  </a:solidFill>
                  <a:latin typeface="Calibri"/>
                </a:rPr>
                <a:t>                                      </a:t>
              </a:r>
              <a:r>
                <a:rPr b="0" lang="fr-CA" sz="1100" spc="-1" strike="noStrike">
                  <a:solidFill>
                    <a:srgbClr val="000000"/>
                  </a:solidFill>
                  <a:latin typeface="Calibri"/>
                </a:rPr>
                <a:t>vous invite cordialement à un souper dédié aux convertis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75"/>
                </a:spcBef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fr-CA" sz="1100" spc="-1" strike="noStrike">
                  <a:solidFill>
                    <a:srgbClr val="000000"/>
                  </a:solidFill>
                  <a:latin typeface="Calibri"/>
                </a:rPr>
                <a:t>et leurs proches.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75"/>
                </a:spcBef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fr-CA" sz="1100" spc="-1" strike="noStrike">
                  <a:solidFill>
                    <a:srgbClr val="000000"/>
                  </a:solidFill>
                  <a:latin typeface="Calibri"/>
                </a:rPr>
                <a:t>Venez échanger dans un environnement respectueux et convivial!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fr-CA" sz="1000" spc="-1" strike="noStrike">
                  <a:solidFill>
                    <a:srgbClr val="000000"/>
                  </a:solidFill>
                  <a:latin typeface="Calibri"/>
                </a:rPr>
                <a:t>Le 16 octobre à 16h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fr-CA" sz="1000" spc="-1" strike="noStrike">
                  <a:solidFill>
                    <a:srgbClr val="000000"/>
                  </a:solidFill>
                  <a:latin typeface="Calibri"/>
                </a:rPr>
                <a:t>Au Centre Communautaire Laurentien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fr-CA" sz="1000" spc="-1" strike="noStrike">
                  <a:solidFill>
                    <a:srgbClr val="000000"/>
                  </a:solidFill>
                  <a:latin typeface="Calibri"/>
                </a:rPr>
                <a:t>12253 Boul. Laurentie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fr-CA" sz="1000" spc="-1" strike="noStrike">
                  <a:solidFill>
                    <a:srgbClr val="000000"/>
                  </a:solidFill>
                  <a:latin typeface="Calibri"/>
                </a:rPr>
                <a:t>Montréal, H4K 1N5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fr-CA" sz="800" spc="-1" strike="noStrike">
                  <a:solidFill>
                    <a:srgbClr val="000000"/>
                  </a:solidFill>
                  <a:latin typeface="Calibri"/>
                </a:rPr>
                <a:t>(Contribution symbolique de 5$ par invité, service de garderie à 5$, stationnement gratuit à l’arrièr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Groupe 11"/>
            <p:cNvGrpSpPr/>
            <p:nvPr/>
          </p:nvGrpSpPr>
          <p:grpSpPr>
            <a:xfrm>
              <a:off x="4035600" y="3240000"/>
              <a:ext cx="1350720" cy="360360"/>
              <a:chOff x="4035600" y="3240000"/>
              <a:chExt cx="1350720" cy="360360"/>
            </a:xfrm>
          </p:grpSpPr>
          <p:pic>
            <p:nvPicPr>
              <p:cNvPr id="51" name="Picture 2" descr="http://www.linternaute.com/femmes/decoration/loisirs-creatifs/tutoriel-pratique/creer-un-plateau-en-mosaique/image/gabarit-dessin-345250.jpg"/>
              <p:cNvPicPr/>
              <p:nvPr/>
            </p:nvPicPr>
            <p:blipFill>
              <a:blip r:embed="rId1"/>
              <a:stretch/>
            </p:blipFill>
            <p:spPr>
              <a:xfrm>
                <a:off x="4936320" y="3240000"/>
                <a:ext cx="450000" cy="360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2" name="Groupe 10"/>
              <p:cNvGrpSpPr/>
              <p:nvPr/>
            </p:nvGrpSpPr>
            <p:grpSpPr>
              <a:xfrm>
                <a:off x="4035600" y="3240000"/>
                <a:ext cx="900000" cy="360360"/>
                <a:chOff x="4035600" y="3240000"/>
                <a:chExt cx="900000" cy="360360"/>
              </a:xfrm>
            </p:grpSpPr>
            <p:pic>
              <p:nvPicPr>
                <p:cNvPr id="53" name="Picture 2" descr="http://www.linternaute.com/femmes/decoration/loisirs-creatifs/tutoriel-pratique/creer-un-plateau-en-mosaique/image/gabarit-dessin-345250.jpg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485600" y="3240000"/>
                  <a:ext cx="450000" cy="360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" name="Picture 2" descr="http://www.linternaute.com/femmes/decoration/loisirs-creatifs/tutoriel-pratique/creer-un-plateau-en-mosaique/image/gabarit-dessin-345250.jpg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035600" y="3240000"/>
                  <a:ext cx="450000" cy="360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55" name="Groupe 12"/>
            <p:cNvGrpSpPr/>
            <p:nvPr/>
          </p:nvGrpSpPr>
          <p:grpSpPr>
            <a:xfrm>
              <a:off x="36360" y="3240000"/>
              <a:ext cx="1349280" cy="360360"/>
              <a:chOff x="36360" y="3240000"/>
              <a:chExt cx="1349280" cy="360360"/>
            </a:xfrm>
          </p:grpSpPr>
          <p:pic>
            <p:nvPicPr>
              <p:cNvPr id="56" name="Picture 2" descr="http://www.linternaute.com/femmes/decoration/loisirs-creatifs/tutoriel-pratique/creer-un-plateau-en-mosaique/image/gabarit-dessin-345250.jpg"/>
              <p:cNvPicPr/>
              <p:nvPr/>
            </p:nvPicPr>
            <p:blipFill>
              <a:blip r:embed="rId4"/>
              <a:stretch/>
            </p:blipFill>
            <p:spPr>
              <a:xfrm>
                <a:off x="936000" y="3240000"/>
                <a:ext cx="449640" cy="360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7" name="Groupe 10"/>
              <p:cNvGrpSpPr/>
              <p:nvPr/>
            </p:nvGrpSpPr>
            <p:grpSpPr>
              <a:xfrm>
                <a:off x="36360" y="3240000"/>
                <a:ext cx="899280" cy="360360"/>
                <a:chOff x="36360" y="3240000"/>
                <a:chExt cx="899280" cy="360360"/>
              </a:xfrm>
            </p:grpSpPr>
            <p:pic>
              <p:nvPicPr>
                <p:cNvPr id="58" name="Picture 2" descr="http://www.linternaute.com/femmes/decoration/loisirs-creatifs/tutoriel-pratique/creer-un-plateau-en-mosaique/image/gabarit-dessin-345250.jpg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86000" y="3240000"/>
                  <a:ext cx="449640" cy="360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" name="Picture 2" descr="http://www.linternaute.com/femmes/decoration/loisirs-creatifs/tutoriel-pratique/creer-un-plateau-en-mosaique/image/gabarit-dessin-345250.jpg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36360" y="3240000"/>
                  <a:ext cx="449640" cy="360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60" name="Groupe 17"/>
            <p:cNvGrpSpPr/>
            <p:nvPr/>
          </p:nvGrpSpPr>
          <p:grpSpPr>
            <a:xfrm>
              <a:off x="1965240" y="0"/>
              <a:ext cx="1350720" cy="360360"/>
              <a:chOff x="1965240" y="0"/>
              <a:chExt cx="1350720" cy="360360"/>
            </a:xfrm>
          </p:grpSpPr>
          <p:pic>
            <p:nvPicPr>
              <p:cNvPr id="61" name="Picture 2" descr="http://www.linternaute.com/femmes/decoration/loisirs-creatifs/tutoriel-pratique/creer-un-plateau-en-mosaique/image/gabarit-dessin-345250.jpg"/>
              <p:cNvPicPr/>
              <p:nvPr/>
            </p:nvPicPr>
            <p:blipFill>
              <a:blip r:embed="rId7"/>
              <a:stretch/>
            </p:blipFill>
            <p:spPr>
              <a:xfrm>
                <a:off x="2865960" y="0"/>
                <a:ext cx="450000" cy="360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2" name="Groupe 10"/>
              <p:cNvGrpSpPr/>
              <p:nvPr/>
            </p:nvGrpSpPr>
            <p:grpSpPr>
              <a:xfrm>
                <a:off x="1965240" y="0"/>
                <a:ext cx="900000" cy="360360"/>
                <a:chOff x="1965240" y="0"/>
                <a:chExt cx="900000" cy="360360"/>
              </a:xfrm>
            </p:grpSpPr>
            <p:pic>
              <p:nvPicPr>
                <p:cNvPr id="63" name="Picture 2" descr="http://www.linternaute.com/femmes/decoration/loisirs-creatifs/tutoriel-pratique/creer-un-plateau-en-mosaique/image/gabarit-dessin-345250.jpg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2415240" y="0"/>
                  <a:ext cx="450000" cy="360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" name="Picture 2" descr="http://www.linternaute.com/femmes/decoration/loisirs-creatifs/tutoriel-pratique/creer-un-plateau-en-mosaique/image/gabarit-dessin-345250.jpg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965240" y="0"/>
                  <a:ext cx="450000" cy="360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65" name="Connecteur droit 23"/>
            <p:cNvSpPr/>
            <p:nvPr/>
          </p:nvSpPr>
          <p:spPr>
            <a:xfrm>
              <a:off x="690120" y="175716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e 18"/>
          <p:cNvGrpSpPr/>
          <p:nvPr/>
        </p:nvGrpSpPr>
        <p:grpSpPr>
          <a:xfrm>
            <a:off x="36360" y="0"/>
            <a:ext cx="5349960" cy="3600360"/>
            <a:chOff x="36360" y="0"/>
            <a:chExt cx="5349960" cy="3600360"/>
          </a:xfrm>
        </p:grpSpPr>
        <p:sp>
          <p:nvSpPr>
            <p:cNvPr id="67" name="Espace réservé du contenu 2"/>
            <p:cNvSpPr/>
            <p:nvPr/>
          </p:nvSpPr>
          <p:spPr>
            <a:xfrm>
              <a:off x="394920" y="403200"/>
              <a:ext cx="4681800" cy="30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noAutofit/>
            </a:bodyPr>
            <a:p>
              <a:pPr algn="ctr">
                <a:lnSpc>
                  <a:spcPct val="80000"/>
                </a:lnSpc>
                <a:spcBef>
                  <a:spcPts val="374"/>
                </a:spcBef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fr-CA" sz="1100" spc="-1" strike="noStrike">
                  <a:solidFill>
                    <a:srgbClr val="121307"/>
                  </a:solidFill>
                  <a:latin typeface="Calibri"/>
                </a:rPr>
                <a:t>	</a:t>
              </a:r>
              <a:r>
                <a:rPr b="1" lang="fr-CA" sz="1500" spc="-1" strike="noStrike">
                  <a:solidFill>
                    <a:srgbClr val="000000"/>
                  </a:solidFill>
                  <a:latin typeface="Calibri"/>
                </a:rPr>
                <a:t>Vous avez un membre de la famille ou un(e) ami(e)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374"/>
                </a:spcBef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fr-CA" sz="1500" spc="-1" strike="noStrike">
                  <a:solidFill>
                    <a:srgbClr val="000000"/>
                  </a:solidFill>
                  <a:latin typeface="Calibri"/>
                </a:rPr>
                <a:t>qui a choisi l’Islam ? 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fr-CA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fr-CA" sz="1200" spc="-1" strike="noStrike">
                  <a:solidFill>
                    <a:srgbClr val="000000"/>
                  </a:solidFill>
                  <a:latin typeface="Calibri"/>
                </a:rPr>
                <a:t>Vous désirez comprendre davantage ce qui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fr-CA" sz="1200" spc="-1" strike="noStrike">
                  <a:solidFill>
                    <a:srgbClr val="000000"/>
                  </a:solidFill>
                  <a:latin typeface="Calibri"/>
                </a:rPr>
                <a:t>a motivé son choix ?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fr-CA" sz="1200" spc="-1" strike="noStrike">
                  <a:solidFill>
                    <a:srgbClr val="000000"/>
                  </a:solidFill>
                  <a:latin typeface="Calibri"/>
                </a:rPr>
                <a:t>Vous êtes curieux de connaître un environnement musulman ouvert ?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75"/>
                </a:spcBef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75"/>
                </a:spcBef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fr-CA" sz="1100" spc="-1" strike="noStrike">
                  <a:solidFill>
                    <a:srgbClr val="000000"/>
                  </a:solidFill>
                  <a:latin typeface="Calibri"/>
                </a:rPr>
                <a:t>                                     </a:t>
              </a:r>
              <a:r>
                <a:rPr b="0" lang="fr-CA" sz="1100" spc="-1" strike="noStrike">
                  <a:solidFill>
                    <a:srgbClr val="000000"/>
                  </a:solidFill>
                  <a:latin typeface="Calibri"/>
                </a:rPr>
                <a:t>vous invite cordialement à un souper dédié aux convertis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75"/>
                </a:spcBef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fr-CA" sz="1100" spc="-1" strike="noStrike">
                  <a:solidFill>
                    <a:srgbClr val="000000"/>
                  </a:solidFill>
                  <a:latin typeface="Calibri"/>
                </a:rPr>
                <a:t>et leurs proches.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75"/>
                </a:spcBef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fr-CA" sz="1100" spc="-1" strike="noStrike">
                  <a:solidFill>
                    <a:srgbClr val="000000"/>
                  </a:solidFill>
                  <a:latin typeface="Calibri"/>
                </a:rPr>
                <a:t>Venez échanger dans un environnement respectueux et convivial!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fr-CA" sz="1000" spc="-1" strike="noStrike">
                  <a:solidFill>
                    <a:srgbClr val="000000"/>
                  </a:solidFill>
                  <a:latin typeface="Calibri"/>
                </a:rPr>
                <a:t>Le 16 octobre à 16h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fr-CA" sz="1000" spc="-1" strike="noStrike">
                  <a:solidFill>
                    <a:srgbClr val="000000"/>
                  </a:solidFill>
                  <a:latin typeface="Calibri"/>
                </a:rPr>
                <a:t>Au Centre Communautaire Laurentien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fr-CA" sz="1000" spc="-1" strike="noStrike">
                  <a:solidFill>
                    <a:srgbClr val="000000"/>
                  </a:solidFill>
                  <a:latin typeface="Calibri"/>
                </a:rPr>
                <a:t>12253 Boul. Laurentie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fr-CA" sz="1000" spc="-1" strike="noStrike">
                  <a:solidFill>
                    <a:srgbClr val="000000"/>
                  </a:solidFill>
                  <a:latin typeface="Calibri"/>
                </a:rPr>
                <a:t>Montréal, H4K 1N5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fr-CA" sz="800" spc="-1" strike="noStrike">
                  <a:solidFill>
                    <a:srgbClr val="000000"/>
                  </a:solidFill>
                  <a:latin typeface="Calibri"/>
                </a:rPr>
                <a:t>(Contribution symbolique de 5$ par invité, service de garderie à 5$, stationnement gratuit à l’arrièr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Groupe 11"/>
            <p:cNvGrpSpPr/>
            <p:nvPr/>
          </p:nvGrpSpPr>
          <p:grpSpPr>
            <a:xfrm>
              <a:off x="4035600" y="3240000"/>
              <a:ext cx="1350720" cy="360360"/>
              <a:chOff x="4035600" y="3240000"/>
              <a:chExt cx="1350720" cy="360360"/>
            </a:xfrm>
          </p:grpSpPr>
          <p:pic>
            <p:nvPicPr>
              <p:cNvPr id="69" name="Picture 2" descr="http://www.linternaute.com/femmes/decoration/loisirs-creatifs/tutoriel-pratique/creer-un-plateau-en-mosaique/image/gabarit-dessin-345250.jpg"/>
              <p:cNvPicPr/>
              <p:nvPr/>
            </p:nvPicPr>
            <p:blipFill>
              <a:blip r:embed="rId1"/>
              <a:stretch/>
            </p:blipFill>
            <p:spPr>
              <a:xfrm>
                <a:off x="4936320" y="3240000"/>
                <a:ext cx="450000" cy="360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0" name="Groupe 10"/>
              <p:cNvGrpSpPr/>
              <p:nvPr/>
            </p:nvGrpSpPr>
            <p:grpSpPr>
              <a:xfrm>
                <a:off x="4035600" y="3240000"/>
                <a:ext cx="900000" cy="360360"/>
                <a:chOff x="4035600" y="3240000"/>
                <a:chExt cx="900000" cy="360360"/>
              </a:xfrm>
            </p:grpSpPr>
            <p:pic>
              <p:nvPicPr>
                <p:cNvPr id="71" name="Picture 2" descr="http://www.linternaute.com/femmes/decoration/loisirs-creatifs/tutoriel-pratique/creer-un-plateau-en-mosaique/image/gabarit-dessin-345250.jpg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485600" y="3240000"/>
                  <a:ext cx="450000" cy="360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" name="Picture 2" descr="http://www.linternaute.com/femmes/decoration/loisirs-creatifs/tutoriel-pratique/creer-un-plateau-en-mosaique/image/gabarit-dessin-345250.jpg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035600" y="3240000"/>
                  <a:ext cx="450000" cy="360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73" name="Groupe 12"/>
            <p:cNvGrpSpPr/>
            <p:nvPr/>
          </p:nvGrpSpPr>
          <p:grpSpPr>
            <a:xfrm>
              <a:off x="36360" y="3240000"/>
              <a:ext cx="1349280" cy="360360"/>
              <a:chOff x="36360" y="3240000"/>
              <a:chExt cx="1349280" cy="360360"/>
            </a:xfrm>
          </p:grpSpPr>
          <p:pic>
            <p:nvPicPr>
              <p:cNvPr id="74" name="Picture 2" descr="http://www.linternaute.com/femmes/decoration/loisirs-creatifs/tutoriel-pratique/creer-un-plateau-en-mosaique/image/gabarit-dessin-345250.jpg"/>
              <p:cNvPicPr/>
              <p:nvPr/>
            </p:nvPicPr>
            <p:blipFill>
              <a:blip r:embed="rId4"/>
              <a:stretch/>
            </p:blipFill>
            <p:spPr>
              <a:xfrm>
                <a:off x="936000" y="3240000"/>
                <a:ext cx="449640" cy="360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5" name="Groupe 10"/>
              <p:cNvGrpSpPr/>
              <p:nvPr/>
            </p:nvGrpSpPr>
            <p:grpSpPr>
              <a:xfrm>
                <a:off x="36360" y="3240000"/>
                <a:ext cx="899280" cy="360360"/>
                <a:chOff x="36360" y="3240000"/>
                <a:chExt cx="899280" cy="360360"/>
              </a:xfrm>
            </p:grpSpPr>
            <p:pic>
              <p:nvPicPr>
                <p:cNvPr id="76" name="Picture 2" descr="http://www.linternaute.com/femmes/decoration/loisirs-creatifs/tutoriel-pratique/creer-un-plateau-en-mosaique/image/gabarit-dessin-345250.jpg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86000" y="3240000"/>
                  <a:ext cx="449640" cy="360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" name="Picture 2" descr="http://www.linternaute.com/femmes/decoration/loisirs-creatifs/tutoriel-pratique/creer-un-plateau-en-mosaique/image/gabarit-dessin-345250.jpg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36360" y="3240000"/>
                  <a:ext cx="449640" cy="360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78" name="Groupe 17"/>
            <p:cNvGrpSpPr/>
            <p:nvPr/>
          </p:nvGrpSpPr>
          <p:grpSpPr>
            <a:xfrm>
              <a:off x="1965240" y="0"/>
              <a:ext cx="1350720" cy="360360"/>
              <a:chOff x="1965240" y="0"/>
              <a:chExt cx="1350720" cy="360360"/>
            </a:xfrm>
          </p:grpSpPr>
          <p:pic>
            <p:nvPicPr>
              <p:cNvPr id="79" name="Picture 2" descr="http://www.linternaute.com/femmes/decoration/loisirs-creatifs/tutoriel-pratique/creer-un-plateau-en-mosaique/image/gabarit-dessin-345250.jpg"/>
              <p:cNvPicPr/>
              <p:nvPr/>
            </p:nvPicPr>
            <p:blipFill>
              <a:blip r:embed="rId7"/>
              <a:stretch/>
            </p:blipFill>
            <p:spPr>
              <a:xfrm>
                <a:off x="2865960" y="0"/>
                <a:ext cx="450000" cy="360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0" name="Groupe 10"/>
              <p:cNvGrpSpPr/>
              <p:nvPr/>
            </p:nvGrpSpPr>
            <p:grpSpPr>
              <a:xfrm>
                <a:off x="1965240" y="0"/>
                <a:ext cx="900000" cy="360360"/>
                <a:chOff x="1965240" y="0"/>
                <a:chExt cx="900000" cy="360360"/>
              </a:xfrm>
            </p:grpSpPr>
            <p:pic>
              <p:nvPicPr>
                <p:cNvPr id="81" name="Picture 2" descr="http://www.linternaute.com/femmes/decoration/loisirs-creatifs/tutoriel-pratique/creer-un-plateau-en-mosaique/image/gabarit-dessin-345250.jpg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2415240" y="0"/>
                  <a:ext cx="450000" cy="360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" name="Picture 2" descr="http://www.linternaute.com/femmes/decoration/loisirs-creatifs/tutoriel-pratique/creer-un-plateau-en-mosaique/image/gabarit-dessin-345250.jpg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965240" y="0"/>
                  <a:ext cx="450000" cy="360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83" name="Connecteur droit 23"/>
            <p:cNvSpPr/>
            <p:nvPr/>
          </p:nvSpPr>
          <p:spPr>
            <a:xfrm>
              <a:off x="690120" y="175716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30T04:21:46Z</dcterms:created>
  <dc:creator>myriam jean</dc:creator>
  <dc:description/>
  <dc:language>en-US</dc:language>
  <cp:lastModifiedBy>myriam jean</cp:lastModifiedBy>
  <dcterms:modified xsi:type="dcterms:W3CDTF">2010-10-01T02:33:23Z</dcterms:modified>
  <cp:revision>14</cp:revision>
  <dc:subject/>
  <dc:title>Diapositive 1</dc:title>
</cp:coreProperties>
</file>