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A20-322A-406D-ADF4-0F6E02B6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8F8-2C9C-4C7A-800B-EED50DB3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B2D-B425-4B60-A3F8-DA7DAA00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794-9D17-4D4F-968B-E708B0A2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84D4-D075-421E-A3EA-CA7E3924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B5C8-52E0-477F-9EBC-918EB891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33F4-330E-4ACC-8D10-3FF26AB7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54F3-D7D7-4D6F-8696-23DC97D2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2229-4784-45FA-A3D7-2A425D51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B091-D829-4E8C-9EC9-01972376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F958-D965-4A4A-BF71-61D9D9B8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FB8-B921-4BE6-B44E-1A1D5F2D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FD25-A1E3-4013-9A68-908CC22A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195C-D7DE-4446-84D0-A8E1FDBD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968B-9217-4CEC-8F5C-9F4A8EB7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7DC7-085E-45EF-B37D-E28E05DD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B298-FD74-44C4-86D7-D5550F94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8D6F93-5D0B-4FCE-AA22-BBAAB129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FEFA9A-874A-48FE-8CCF-E62EFC9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D8ADCF-4621-47B1-A7AE-E362D951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153956-2E37-40FF-B191-29EE5BE2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8507FF-4F35-47DF-A3AF-C05CF9F9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562-B305-40D4-976D-E3ABADCE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2CB3A5-DCD5-4FF1-919B-420EA5F0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3B50E-D4A1-4749-8017-B873EFA1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21895-D455-44B4-892F-7566199D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E2E657-A72A-40FA-8477-A11A1A4F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531829-B77D-485E-8A38-3C72F1AE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BE2324-CDE6-4CC0-A1AF-DC655CB2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CB423-2F66-436E-87FB-B36D5C66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B3B-601C-48AE-8935-8F8848D5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88B-8AFA-4F83-BEAE-C3CC626D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2D3-D9D7-4952-AFFC-43282ADD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6BD-BD4C-4C80-B38F-2EE46E3C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901-9C8F-4F1D-A9E8-8A6977F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A45-2BF9-417C-81DF-63B7805B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ac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efac9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fefac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DE86-7FBA-408E-AB2B-837379F94A95}" type="slidenum">
              <a:rPr b="0" lang="fr-CA" sz="1600" spc="-1" strike="noStrike">
                <a:solidFill>
                  <a:srgbClr val="fefac9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ac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efac9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fefac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E713-8CBC-4655-9506-C90FA4103D78}" type="slidenum">
              <a:rPr b="0" lang="fr-CA" sz="1600" spc="-1" strike="noStrike">
                <a:solidFill>
                  <a:srgbClr val="fefac9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fefac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0143-7750-4B77-AADF-7F63B010049F}" type="slidenum">
              <a:rPr b="0" lang="fr-CA" sz="1600" spc="-1" strike="noStrike">
                <a:solidFill>
                  <a:srgbClr val="fefac9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ac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efac9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le-a3p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468360" y="1916280"/>
            <a:ext cx="8064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efac9"/>
                </a:solidFill>
                <a:latin typeface="Rockwell"/>
              </a:rPr>
              <a:t>Muhammed</a:t>
            </a:r>
            <a:r>
              <a:rPr b="1" lang="fr-CA" sz="4400" spc="-1" strike="noStrike">
                <a:solidFill>
                  <a:srgbClr val="fefac9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efac9"/>
                </a:solidFill>
                <a:latin typeface="Rockwell"/>
              </a:rPr>
              <a:t>[pbsl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ffffff"/>
                </a:solidFill>
                <a:latin typeface="Rockwell"/>
                <a:ea typeface="Arial"/>
              </a:rPr>
              <a:t>Vie &amp; Enseignements du Prophè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Content Placeholder 1"/>
          <p:cNvSpPr/>
          <p:nvPr/>
        </p:nvSpPr>
        <p:spPr>
          <a:xfrm>
            <a:off x="452520" y="38257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6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5300640"/>
            <a:ext cx="8064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efac9"/>
                </a:solidFill>
                <a:latin typeface="Rockwell"/>
              </a:rPr>
              <a:t>Préparé par : Fr. Sey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efac9"/>
                </a:solidFill>
                <a:latin typeface="Rockwell"/>
              </a:rPr>
              <a:t>Vérifié par: Dr. M. A. Chraib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 u="sng">
                <a:solidFill>
                  <a:srgbClr val="8e58b6"/>
                </a:solidFill>
                <a:uFillTx/>
                <a:latin typeface="Rockwell"/>
                <a:hlinkClick r:id="rId2"/>
              </a:rPr>
              <a:t>www.ecole-a3p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efac9"/>
                </a:solidFill>
                <a:latin typeface="Rockwell"/>
              </a:rPr>
              <a:t>info@ecole-a3p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84360" y="4724280"/>
            <a:ext cx="80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700" spc="-1" strike="noStrike">
                <a:solidFill>
                  <a:srgbClr val="fefac9"/>
                </a:solidFill>
                <a:latin typeface="Rockwell"/>
              </a:rPr>
              <a:t>Cours 2: Jeunesse du Prophète [pbsl]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84360" y="350028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‘’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 effet, vous avez dans le Messager d'Allah un excellent modèle [à suivre], pour quiconque espère en Allah et au Jour dernier et invoque Allah fréquemment’’ [Ch.33-V.21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355680" y="114480"/>
            <a:ext cx="29923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ontent Placeholder 1"/>
          <p:cNvSpPr/>
          <p:nvPr/>
        </p:nvSpPr>
        <p:spPr>
          <a:xfrm>
            <a:off x="665280" y="4428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Qui va subvenir aux besoins du foyer? ... Le prophète [psl], malgré qu’il habitait chez elle, mais c’est lui qui prend en charge les besoins du fo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e mariage du prophète et Khadija [rd] a donc réussi parce qu’il réuni ces cond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Même rang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Maturité du prophète [psl] malgré l’écart d’â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c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e prophète [psl] se charger des besoins du fo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d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Khadija [rd] s’était bien assurée qu’il ne cherchait pas juste à l’épouser parce qu’elle est riche, mais c’est quelqu’un qui voulait construire une famill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3040" indent="-20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1"/>
          <p:cNvSpPr/>
          <p:nvPr/>
        </p:nvSpPr>
        <p:spPr>
          <a:xfrm>
            <a:off x="673200" y="-2700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Ils ont eu 6 enfa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- Les filles: Zeinab, Rouqaya, Oum Kaltou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et Fat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- Les garçons: Al-Kacim et Abdullah [qui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meurent a 3 et 4 an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Content Placeholder 1"/>
          <p:cNvSpPr/>
          <p:nvPr/>
        </p:nvSpPr>
        <p:spPr>
          <a:xfrm>
            <a:off x="673200" y="227808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307080" indent="-307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Zeyd et l’humanité du prophète [psl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Content Placeholder 1"/>
          <p:cNvSpPr/>
          <p:nvPr/>
        </p:nvSpPr>
        <p:spPr>
          <a:xfrm>
            <a:off x="6634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207720" indent="-207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a reconstruction de la Kabaa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Jusqu’à présent le prophète [psl]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A surmonté tous les épreu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A réussi son mét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c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Avait acquis la connaissance d’autres peup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d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Était pleine d’humanit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e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Était un père exemplaire de fami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Content Placeholder 1"/>
          <p:cNvSpPr/>
          <p:nvPr/>
        </p:nvSpPr>
        <p:spPr>
          <a:xfrm>
            <a:off x="673200" y="-2700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Que manque-t-il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Content Placeholder 1"/>
          <p:cNvSpPr/>
          <p:nvPr/>
        </p:nvSpPr>
        <p:spPr>
          <a:xfrm>
            <a:off x="684360" y="155736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37600" indent="-23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3000" spc="-1" strike="noStrike">
                <a:solidFill>
                  <a:srgbClr val="f3a447"/>
                </a:solidFill>
                <a:latin typeface="Rockwell"/>
              </a:rPr>
              <a:t>C-</a:t>
            </a:r>
            <a:r>
              <a:rPr b="1" lang="fr-CA" sz="3000" spc="-1" strike="noStrike">
                <a:solidFill>
                  <a:srgbClr val="ffffff"/>
                </a:solidFill>
                <a:latin typeface="Rockwell"/>
              </a:rPr>
              <a:t> Conclus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’importance du contact avec les g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’importance du trav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c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Non à l’isolement vis-à-vis de la sociét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d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a miséricorde envers toute l’humanit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e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’importance du bon choix de l’époux ou de l’épo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Content Placeholder 1"/>
          <p:cNvSpPr/>
          <p:nvPr/>
        </p:nvSpPr>
        <p:spPr>
          <a:xfrm>
            <a:off x="684360" y="907920"/>
            <a:ext cx="8229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27520" indent="-227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e témoignage de la toute la Mecque de la grandeur de cet homme [histoire de la reconstruction de la Kabaa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tent Placeholder 1"/>
          <p:cNvSpPr/>
          <p:nvPr/>
        </p:nvSpPr>
        <p:spPr>
          <a:xfrm>
            <a:off x="457200" y="189000"/>
            <a:ext cx="8229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06080" indent="-406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3a447"/>
                </a:solidFill>
                <a:latin typeface="Rockwell"/>
              </a:rPr>
              <a:t>Plan de cour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Rappel sur l’identité du prophète [pbsl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1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Ses par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2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Sa rési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3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Son trav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4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Sa situation financiè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5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Son rôle dans la sociét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6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Son édu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Parfaire la préparation du prophète [pbsl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1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e prophète, le Commerç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2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e prophète, le Mar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3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Zeyd et l’humanité du prophè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4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a reconstruction de la Kaba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C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Concl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-1004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3a447"/>
                </a:solidFill>
                <a:latin typeface="Rockwell"/>
              </a:rPr>
              <a:t>A- </a:t>
            </a:r>
            <a:r>
              <a:rPr b="1" lang="fr-CA" sz="3000" spc="-1" strike="noStrike">
                <a:solidFill>
                  <a:srgbClr val="ffffff"/>
                </a:solidFill>
                <a:latin typeface="Rockwell"/>
              </a:rPr>
              <a:t>Rappel sur l’identité du prophète [pbsl]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Content Placeholder 1"/>
          <p:cNvSpPr/>
          <p:nvPr/>
        </p:nvSpPr>
        <p:spPr>
          <a:xfrm>
            <a:off x="673200" y="620640"/>
            <a:ext cx="82296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143640" indent="-143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3640" indent="-1436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Ses par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3640" indent="-143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3640" indent="-143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Orphelin des deux par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3640" indent="-143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Fils unique sans frère ni sœu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3640" indent="-143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3640" indent="-143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Enseignent: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Cette situation lui apprend que la vie est courte et éphémè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Content Placeholder 1"/>
          <p:cNvSpPr/>
          <p:nvPr/>
        </p:nvSpPr>
        <p:spPr>
          <a:xfrm>
            <a:off x="735120" y="3500280"/>
            <a:ext cx="8157960" cy="32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Sa réside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5 foyers différents, celui de : sa mère, Halima [désert], sa mère, son grand père, son onc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Enseignent: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Il apprend: Le sérieux, le sens de la responsabilité, la flexibilité et la capacité d’adap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ontent Placeholder 1"/>
          <p:cNvSpPr/>
          <p:nvPr/>
        </p:nvSpPr>
        <p:spPr>
          <a:xfrm>
            <a:off x="673200" y="-2700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71520" indent="-371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Son travai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8 @ 15 ans comme ber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Il apprend: La patience, La clémence et La capacité de réunir les g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15 @ 40 ans comme commerç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Enseignement: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Il apprend a connaître la nature humaine et a comprendre les caractères des g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ontent Placeholder 1"/>
          <p:cNvSpPr/>
          <p:nvPr/>
        </p:nvSpPr>
        <p:spPr>
          <a:xfrm>
            <a:off x="654120" y="3718080"/>
            <a:ext cx="82296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Sa situation financiè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Pauvre mais provenait d’une famille noble très respectée au seins des tribus arab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Enseignement: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Il était proche aussi bien des riches que des pauv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ontent Placeholder 1"/>
          <p:cNvSpPr/>
          <p:nvPr/>
        </p:nvSpPr>
        <p:spPr>
          <a:xfrm>
            <a:off x="673200" y="-2700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Son rôle dans la sociét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Il participe activement dans la sociét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Il n’était pas renfermé sur lui-mê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Exemple :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e pacte de Al-Foudoul [Les Vertueux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Content Placeholder 1"/>
          <p:cNvSpPr/>
          <p:nvPr/>
        </p:nvSpPr>
        <p:spPr>
          <a:xfrm>
            <a:off x="665280" y="242100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4164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640" indent="-3416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Son édu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64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64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Il ne sait ni lire ni écrire, c’est le mira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64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Il puise son expérience dans les activités politiques et so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64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64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Enseignent: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Ne jamais s’isoler et participer aux champs social et politique, et soyez engagé, de cette façon on aura une jeunesse forte, expérimentée et effic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64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-316080"/>
            <a:ext cx="8578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3000" spc="-1" strike="noStrike">
                <a:solidFill>
                  <a:srgbClr val="ffffff"/>
                </a:solidFill>
                <a:latin typeface="Rockwell"/>
              </a:rPr>
              <a:t> Parfaire la préparation du prophète [pbsl]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Content Placeholder 1"/>
          <p:cNvSpPr/>
          <p:nvPr/>
        </p:nvSpPr>
        <p:spPr>
          <a:xfrm>
            <a:off x="673200" y="54936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01040" indent="-401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Question: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Jusqu’à l’âge de 25 ans le prophète avait accumulé beaucoup d’expérience, pouvait-t-il recevoir la révélation à cet âge ? Si non, que manque-t-il pour parfaire son expérienc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Réponse: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e voyage [Découvrir le mond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            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e mariag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Content Placeholder 1"/>
          <p:cNvSpPr/>
          <p:nvPr/>
        </p:nvSpPr>
        <p:spPr>
          <a:xfrm>
            <a:off x="673200" y="314172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81240" indent="-381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e prophète, le Commerça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Suite à la proposition de son oncle, il travaille chez Khadija [elle a 40 ans, veuve, riche, très douée dans les affaires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Elle le teste avec des petits  lots de marchandise et envoie avec lui son serviteur Mayssara pour l’accompagner et l’obser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ontent Placeholder 1"/>
          <p:cNvSpPr/>
          <p:nvPr/>
        </p:nvSpPr>
        <p:spPr>
          <a:xfrm>
            <a:off x="673200" y="-17136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Mayssara revient avec les nouvelles et dit a Khadija [rd] : Je n’ai jamais vue quelqu’un comme lui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             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Son Sérieux &amp; honnêtet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              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Son Dévou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             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c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Sa Confiance au trav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Tout comme Khadija, le prophète [psl]a prouvé qu’il travaille sérieusement, et Mayssara rapporte que le prophète [psl]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Rockwell"/>
              </a:rPr>
              <a:t>n’adore pas les statuettes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[histoire de la négociation] …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Rockwell"/>
              </a:rPr>
              <a:t>ce qui va accroitre l’admiration de Khadija pour lui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Il apprend le voyage à l’extérieur de la péninsule arabi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Syrie: connaissance de la puissance de l’empire Byzant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Yémen: connaissance de l’empire P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8000" indent="-19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Content Placeholder 1"/>
          <p:cNvSpPr/>
          <p:nvPr/>
        </p:nvSpPr>
        <p:spPr>
          <a:xfrm>
            <a:off x="665280" y="4428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277200" indent="-27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Enseignem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e voyage donne beaucoup de maturité en fréquentant d’autres cultures et en vivant d’autres expéri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’importance du travail, la persévérance et la réussite professionne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c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e succès du prophète s’est fait graduellement et souligne l’importance de fournir un effort continu pour atteindre ses objectif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Content Placeholder 1"/>
          <p:cNvSpPr/>
          <p:nvPr/>
        </p:nvSpPr>
        <p:spPr>
          <a:xfrm>
            <a:off x="673200" y="-10008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e prophète, le Mar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’initiative est venu de Khadija [rd], après qu’elle l’a teste et voir son succès dans les affaires et surtout son caractère facile et clé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Nafissa l’amie de khadija [rd] intercède entre les 2, le prophète [psl] accepte et le mariage est accomp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e prophète [psl] avait 25 ans et khadija [rd] 40ans, malgré la différence d’âge mais ce mariage a duré 25ans, pourquoi ? ... Le prophète [psl] était quelqu’un de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Rockwell"/>
              </a:rPr>
              <a:t>très mature grâce aux différentes épreuves et expériences qu’il a véc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a différence des moyens financiers pouvait-t-elle influencer ce mariage ? … le prophète [psl] malgré qu’il était pauvre mais il vient de la plus noble famille de la Mec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3:24:37Z</dcterms:created>
  <dc:creator>Nawal</dc:creator>
  <dc:description/>
  <dc:language>en-US</dc:language>
  <cp:lastModifiedBy>Genivar</cp:lastModifiedBy>
  <dcterms:modified xsi:type="dcterms:W3CDTF">2009-10-22T18:16:51Z</dcterms:modified>
  <cp:revision>92</cp:revision>
  <dc:subject/>
  <dc:title>Muhammad</dc:title>
</cp:coreProperties>
</file>