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7D0-4F8D-4B46-B460-908C658F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47F-96F1-4452-AF1C-E41FB0F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7C3-443E-4716-8307-C1CAFE18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E20-3C60-4B2B-AA4D-A0136C53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EA34-7938-4BD1-A091-C3B2B3D7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65C-A657-430F-9B0A-F69C18D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F84E-CCDE-4A98-A668-522DA878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CA14-BDE1-46C9-9FED-C29CDB0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D0FE-0AC1-4211-9D0F-DC91D78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21C9-B79D-431A-BEAA-650FA51B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0212-745B-419B-9EC0-77B50A5E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1E9-BFED-40FD-98A6-8D0F785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517-AD93-4C6C-B940-752D3C9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8516-93DE-46B1-9062-B1F4702A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7BE-BF68-4090-8A56-0639458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16BE-4DD6-4407-8F92-2DDB5C60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72D7-8454-4CB7-B6ED-6CD3099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F84AE-38F9-4281-9360-E778BDD0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D6AC1-6920-43AC-8D98-2ADDAE8E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AD050-D872-49C8-A88E-2E02D819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CAFCD-8B2B-4A44-BE76-9D6DA86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9F7D1-B85B-4B55-9B6C-6D0C1D2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4B7-C19E-40AB-89C0-F805CB3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EE9AA-C69B-4BEA-9029-EF0DCC6A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E55DD-7351-427C-8BA8-8B13761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81E19-0BA7-473E-981B-CCA56DC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3A3B5-2D27-4F74-95BB-AFEE362E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BF64B-5543-4362-9DFD-31510FD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66572-909F-4221-838E-E60859C3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B13FA-1F8A-44D4-BCD7-115C33A4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D7B-5925-43F7-891D-8C5B2C7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2B7-8A6D-440C-A2F4-903960E0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C0E-4AE6-4EF1-A370-3C064B3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50A-486F-48FF-9197-B29DDFD0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C75-95B9-4EA2-A9E6-C85D71C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B9C-38D8-4008-9392-FB21F014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ac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EA07-CFEE-4EC0-AC2A-3451E13A9582}" type="slidenum">
              <a:rPr b="0" lang="fr-CA" sz="1600" spc="-1" strike="noStrike">
                <a:solidFill>
                  <a:srgbClr val="fefac9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ac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138-BC32-470C-B792-344A829CAB3A}" type="slidenum">
              <a:rPr b="0" lang="fr-CA" sz="1600" spc="-1" strike="noStrike">
                <a:solidFill>
                  <a:srgbClr val="fefac9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B99-A847-4CF5-ABD6-FAE378F717F2}" type="slidenum">
              <a:rPr b="0" lang="fr-CA" sz="1600" spc="-1" strike="noStrike">
                <a:solidFill>
                  <a:srgbClr val="fefac9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ac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ac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le-a3p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68360" y="1916280"/>
            <a:ext cx="8064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efac9"/>
                </a:solidFill>
                <a:latin typeface="Rockwell"/>
              </a:rPr>
              <a:t>Muhammed</a:t>
            </a:r>
            <a:r>
              <a:rPr b="1" lang="fr-CA" sz="4400" spc="-1" strike="noStrike">
                <a:solidFill>
                  <a:srgbClr val="fefac9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efac9"/>
                </a:solidFill>
                <a:latin typeface="Rockwell"/>
              </a:rPr>
              <a:t>[pbs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Rockwell"/>
                <a:ea typeface="Arial"/>
              </a:rPr>
              <a:t>Vie &amp; Enseignements du Prophè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ontent Placeholder 1"/>
          <p:cNvSpPr/>
          <p:nvPr/>
        </p:nvSpPr>
        <p:spPr>
          <a:xfrm>
            <a:off x="452520" y="38257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5300640"/>
            <a:ext cx="8064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efac9"/>
                </a:solidFill>
                <a:latin typeface="Rockwell"/>
              </a:rPr>
              <a:t>Préparé par : Fr. Sey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efac9"/>
                </a:solidFill>
                <a:latin typeface="Rockwell"/>
              </a:rPr>
              <a:t>Vérifié par: Dr. M. A. Chraib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 u="sng">
                <a:solidFill>
                  <a:srgbClr val="8e58b6"/>
                </a:solidFill>
                <a:uFillTx/>
                <a:latin typeface="Rockwell"/>
                <a:hlinkClick r:id="rId2"/>
              </a:rPr>
              <a:t>www.ecole-a3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efac9"/>
                </a:solidFill>
                <a:latin typeface="Rockwell"/>
              </a:rPr>
              <a:t>info@ecole-a3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84360" y="4724280"/>
            <a:ext cx="80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efac9"/>
                </a:solidFill>
                <a:latin typeface="Rockwell"/>
              </a:rPr>
              <a:t>Cours 4:  Début du Quran &amp; la Da’wa [l’invitation à l’Islam]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84360" y="35002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‘’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 effet, vous avez dans le Messager d'Allah un excellent modèle [à suivre], pour quiconque espère en Allah et au Jour dernier et invoque Allah fréquemment’’ [Ch.33-V.21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355680" y="114480"/>
            <a:ext cx="29923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ntent Placeholder 1"/>
          <p:cNvSpPr/>
          <p:nvPr/>
        </p:nvSpPr>
        <p:spPr>
          <a:xfrm>
            <a:off x="611280" y="44280"/>
            <a:ext cx="829152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’histoire de Sa’d ibn Waqqass et le ¼ de l’Isl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Enseignement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Ne jamais manquer d’occasion de faire le bien ou de s’unir à ceux qui en fon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Conclusion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Après 3 ans, 100 personnes des meilleures se sont converties à l’Islam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b-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Quraish ne savaient rien, mais ils ressentaient qu’il y avait quelque chos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c-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Le plan du prophète [psl] a parfaitement réussi sans aucunes confrontati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ontent Placeholder 1"/>
          <p:cNvSpPr/>
          <p:nvPr/>
        </p:nvSpPr>
        <p:spPr>
          <a:xfrm>
            <a:off x="611280" y="141120"/>
            <a:ext cx="829152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En publiqu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2 versets ordonnent le prophète [psl] d’annoncer l’Islam en publique: Sourate El-Hijr &amp; Les Poè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 [psl] a établi un plan par </a:t>
            </a:r>
            <a:r>
              <a:rPr b="1" lang="fr-CA" sz="2400" spc="-1" strike="noStrike" u="sng">
                <a:solidFill>
                  <a:srgbClr val="f3a447"/>
                </a:solidFill>
                <a:uFillTx/>
                <a:latin typeface="Rockwell"/>
              </a:rPr>
              <a:t>lui-même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et surtout, le réalisait graduellement: étape par éta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Quelle était la stratégie du prophète [psl]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Réunir 45 membres de sa famille [mécréants]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un sou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Avant de parler de son message, son oncle Abou Lahab l’empêcha, lui disant qu’ils ne peuvent pas le défend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ontent Placeholder 1"/>
          <p:cNvSpPr/>
          <p:nvPr/>
        </p:nvSpPr>
        <p:spPr>
          <a:xfrm>
            <a:off x="611280" y="212760"/>
            <a:ext cx="829152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 [psl] ne réagissait pas, mais invitât sa famille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dispos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ourquoi Son oncle réagissait de cette façon ? N’aimait-t-il pas son neve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Son oncle était inquiet pour ses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Rockwell"/>
              </a:rPr>
              <a:t>intérêts économiques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Est-ce que le prophète [psl] a désespéré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 [psl] les a réinvité de nouveau, et réussi de parler de son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ersonne ne l’a soutenu si ce n’est son oncle Abu Talib et un adolescent, A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t Placeholder 1"/>
          <p:cNvSpPr/>
          <p:nvPr/>
        </p:nvSpPr>
        <p:spPr>
          <a:xfrm>
            <a:off x="611280" y="836640"/>
            <a:ext cx="829152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attitude douce du prophète [psl] pour inviter les gens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Islam. Il ne s’est pas mis en colère malgré le rej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Malgré qu’on est soutenu par Allah, mais ça n’empêche pas de chercher des alli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Ne jamais négliger l’engagement des adolescents et des jeunes et des fem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ontent Placeholder 1"/>
          <p:cNvSpPr/>
          <p:nvPr/>
        </p:nvSpPr>
        <p:spPr>
          <a:xfrm>
            <a:off x="611280" y="644400"/>
            <a:ext cx="829152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’annonce publique sur le mont de Safa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ersonne n’a cru, ils se sont tous dispersés, en plus, son Oncle Abou Lahab l’a attaqué verba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partir de ce moment, la compagne contre le prophète [psl] a commenc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Scepticisme autour de son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Moqu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Attaques physiques et psycholog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ontent Placeholder 1"/>
          <p:cNvSpPr/>
          <p:nvPr/>
        </p:nvSpPr>
        <p:spPr>
          <a:xfrm>
            <a:off x="395280" y="620640"/>
            <a:ext cx="8497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E- </a:t>
            </a:r>
            <a:r>
              <a:rPr b="1" lang="fr-CA" sz="3000" spc="-1" strike="noStrike">
                <a:solidFill>
                  <a:srgbClr val="ffffff"/>
                </a:solidFill>
                <a:latin typeface="Rockwell"/>
              </a:rPr>
              <a:t>Conclusion &amp; Enseignements générales.</a:t>
            </a: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’importance d’observer sa priè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a réussite ne s’accomplie que par la planification gradue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attitude douce envers les gens quand il s’agit de parler de l’Isl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d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a persévérance pour atteindre ses objecti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1"/>
          <p:cNvSpPr/>
          <p:nvPr/>
        </p:nvSpPr>
        <p:spPr>
          <a:xfrm>
            <a:off x="457200" y="189000"/>
            <a:ext cx="8229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65480" indent="-4654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Plan de cou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Première semaine de la révé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1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Petit rappel sur la grotte de H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2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Révélation du Qu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Début de la Da’wa [Invitation à l’Islam]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1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En secr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2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En publ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Concl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480" indent="-4654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ntent Placeholder 1"/>
          <p:cNvSpPr/>
          <p:nvPr/>
        </p:nvSpPr>
        <p:spPr>
          <a:xfrm>
            <a:off x="611280" y="44280"/>
            <a:ext cx="829152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A-</a:t>
            </a:r>
            <a:r>
              <a:rPr b="1" lang="fr-CA" sz="3000" spc="-1" strike="noStrike">
                <a:solidFill>
                  <a:srgbClr val="ffffff"/>
                </a:solidFill>
                <a:latin typeface="Rockwell"/>
              </a:rPr>
              <a:t> Première semaine de la révélation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1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Petit rappel sur la grotte de Hir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Qu’elle était l’ordre des événements agencés par Allah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Une rencontre puissante avec l’Ange Gabri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Discussion avec un humain [Waraqa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c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Une période de réflexion et de médi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d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’ange Gabriel lui annonce qu’il était Prophè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ontent Placeholder 1"/>
          <p:cNvSpPr/>
          <p:nvPr/>
        </p:nvSpPr>
        <p:spPr>
          <a:xfrm>
            <a:off x="611280" y="212760"/>
            <a:ext cx="829152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1.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La révélation du Quran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Qu’elles étaient les 2 premières leçons que l’Ange Gabriel a enseigné au prophète [psl]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Répon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s abl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a prière [2 Rakaa le soir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Remar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Avec l’ascension le nombre de prières a augmenté à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Après l’immigration à Medine, la structure de la prière est devenue telle qu’on la connaît aujourd’hu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ontent Placeholder 1"/>
          <p:cNvSpPr/>
          <p:nvPr/>
        </p:nvSpPr>
        <p:spPr>
          <a:xfrm>
            <a:off x="395280" y="162864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Enseign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’importance de l’apprentissage par la prat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L’importance de la prière, le prophète [psl] dit: ’’La prière est la colonne vertébrale de la religion’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0240" indent="-48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ontent Placeholder 1"/>
          <p:cNvSpPr/>
          <p:nvPr/>
        </p:nvSpPr>
        <p:spPr>
          <a:xfrm>
            <a:off x="611280" y="212760"/>
            <a:ext cx="829152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1.2.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 Premières Sourates révélée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Quelles étaient les premières Sourates révélées au prophètes [psl] et pourquoi 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‘’L’enveloppé’’, pourquoi 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ç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a parle de la prière de nuit … donner la charge spirituell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b-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‘’Le revêtu d’un manteau’’, pourquoi 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Incitant le prophète [psl]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 bouger et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 commencer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à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 parler de l’Islam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‘’Al-Fatiha’’, pourquoi 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Résume les grandes lignes de l’Islam 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et indispensable pour la validation des prières</a:t>
            </a: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t Placeholder 1"/>
          <p:cNvSpPr/>
          <p:nvPr/>
        </p:nvSpPr>
        <p:spPr>
          <a:xfrm>
            <a:off x="395280" y="26028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nterruption de la révélation pendant 6 mois … Pourquoi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aisser le temps au prophète [psl] de choisir la méthode à suivre pour la Da’w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Beaucoup de souffrance du prophète [psl] pensant que Allah l’a délaissé faute d’une erreur qu’il a</a:t>
            </a:r>
            <a:r>
              <a:rPr b="1" lang="fr-CA" sz="2600" spc="-1" strike="noStrike">
                <a:solidFill>
                  <a:srgbClr val="ffffff"/>
                </a:solidFill>
                <a:latin typeface="Rockwell"/>
              </a:rPr>
              <a:t>urait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a comm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Révélation des 3 versets de Surate [Le jour mentant] </a:t>
            </a:r>
            <a:r>
              <a:rPr b="1" i="1" lang="fr-CA" sz="2400" spc="-1" strike="noStrike">
                <a:solidFill>
                  <a:srgbClr val="ffffff"/>
                </a:solidFill>
                <a:latin typeface="Rockwell"/>
              </a:rPr>
              <a:t>‘’Ne t’a-t-il pas trouve orphelin, alors Il t’a accueilli…’’,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 pourquoi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…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our réconforter le prophète [psl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ontent Placeholder 1"/>
          <p:cNvSpPr/>
          <p:nvPr/>
        </p:nvSpPr>
        <p:spPr>
          <a:xfrm>
            <a:off x="611280" y="44280"/>
            <a:ext cx="829152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3a447"/>
                </a:solidFill>
                <a:latin typeface="Rockwell"/>
              </a:rPr>
              <a:t>B-</a:t>
            </a:r>
            <a:r>
              <a:rPr b="1" lang="fr-CA" sz="3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fr-CA" sz="2900" spc="-1" strike="noStrike">
                <a:solidFill>
                  <a:srgbClr val="ffffff"/>
                </a:solidFill>
                <a:latin typeface="Rockwell"/>
              </a:rPr>
              <a:t>Début de la Da’wa [Invitation à L’Islam]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Le prophète [psl] n’a jamais eu une attitude agressive ou provoc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n’avait pas commencé par casser les  statuts sur la Ka’ba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Donc c’était quoi sa stratégi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a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Former un noyeau d’hommes et de fem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b-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Choisit-t-il n’importe quelle personn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NON … les personnes étaient: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Énergiques, Positifs et de Bonne Morali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ontent Placeholder 1"/>
          <p:cNvSpPr/>
          <p:nvPr/>
        </p:nvSpPr>
        <p:spPr>
          <a:xfrm>
            <a:off x="611280" y="141120"/>
            <a:ext cx="829152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En secret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500" spc="-1" strike="noStrike">
                <a:solidFill>
                  <a:srgbClr val="ffffff"/>
                </a:solidFill>
                <a:latin typeface="Rockwell"/>
              </a:rPr>
              <a:t>Quelles étaient les 1ères personnes qui ont acceptés l’Islam ?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Khadija [rd] [l’importance de la femm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  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Ali [rd] [un adolescent exceptionnel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Zeyd [l’esclave affranchi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3a447"/>
                </a:solidFill>
                <a:latin typeface="Wingdings"/>
                <a:ea typeface="Wingdings"/>
              </a:rPr>
              <a:t>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  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Abu Bakr [son ami intim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En 6 mo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27 hommes et 18 femmes se sont conver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Moyenne d’âge 25 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y’en avait des personnes de chaque trib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ourquoi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Pour s’infiltrer dans toute la socié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Il y’en avait des riches et des pauvres … le critère de choix était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la bonne moralité </a:t>
            </a:r>
            <a:r>
              <a:rPr b="1" lang="fr-CA" sz="2400" spc="-1" strike="noStrike">
                <a:solidFill>
                  <a:srgbClr val="ffffff"/>
                </a:solidFill>
                <a:latin typeface="Rockwell"/>
              </a:rPr>
              <a:t>et </a:t>
            </a:r>
            <a:r>
              <a:rPr b="1" lang="fr-CA" sz="2400" spc="-1" strike="noStrike">
                <a:solidFill>
                  <a:srgbClr val="f3a447"/>
                </a:solidFill>
                <a:latin typeface="Rockwell"/>
              </a:rPr>
              <a:t>la positivi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3:24:37Z</dcterms:created>
  <dc:creator>Nawal</dc:creator>
  <dc:description/>
  <dc:language>en-US</dc:language>
  <cp:lastModifiedBy>Genivar</cp:lastModifiedBy>
  <dcterms:modified xsi:type="dcterms:W3CDTF">2009-11-04T17:19:37Z</dcterms:modified>
  <cp:revision>231</cp:revision>
  <dc:subject/>
  <dc:title>Muhammad</dc:title>
</cp:coreProperties>
</file>