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92B-1ADC-4428-9744-DCA68C79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71F-DABC-48F3-A02A-F16BA122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4D4-F406-4E86-819D-E0F2E73D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73A-098D-4C5C-87D2-784E153B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46D-C481-4E10-B06B-FC85E85F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B44-6F05-4FFB-819C-2ED547EC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930-9A42-4565-B422-688691C1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C09-D705-4E19-A880-229C3497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155-474D-4894-ADE8-63B7569E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945-D2FD-4585-9B8F-6B42529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462-A51E-4A1F-9921-C884638E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890-48C7-48D4-90D3-F652AE2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42DF-5E2D-4CB0-9AC8-F4E539CA88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فئة موفق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43000"/>
            <a:ext cx="845820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جوههم مسفر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جباههم مشرق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أوقاتهم مبا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فإن كنت منهم </a:t>
            </a:r>
            <a:br>
              <a:rPr sz="3200"/>
            </a:b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فاحمد الله على فضل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إن لم تكن جملت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فدعواتي لك أن تلحق بركب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أتدري من هم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7920" y="609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يا أهل الفج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58760"/>
            <a:ext cx="8381880" cy="58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كفاكم شرفاً شهادةُ ملائكة الرحمن ل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قال صلى الله عليه وسل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يتعاقبون فيكم ملائكة بالليل وملائكة بالنه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ويجتمعون في صلاة الفجر وصلاة العص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ثم يعرج الذين باتوا فيك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فيسألهم ربهم - وهو أعلم بهم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كيف تركتم عبادي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فيقولون: تركناهم وهم يصلو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وأتيناهم وهم يصلو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متفق علي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يا أهل الفج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14400"/>
            <a:ext cx="8381880" cy="58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قال صلى الله عليه وسلم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ألا أدلكم على ما يمحو الله به الخطاي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ويرفع به الدرجات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قالوا: بلى يا رسول ال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قال: إسباغ الوضوء على المكار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وكثرة الخطا إلى المساج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وانتظار الصلاة بعد الصلا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فذلكم الربا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فذلكم الرباط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أخرجه مسل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أولئك هم الرِّجال حقا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62120"/>
            <a:ext cx="8381880" cy="59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المؤمنون صدقا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قال ربُّنا جلَّ وعلا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فِي بُيُوتٍ أَذِنَ اللهُ أن تُرفعَ ويُذكرَ فيها اسمه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يسبحُ لهُ فيها بالغُدُوِّ والآص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رِجَالٌ لا تلهيهم تجارةٌ أو بيعٌ عن ذكر ال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وإقام صلاة وإيتاء الزكاة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يخافونَ يوماً تتقلَّبُ فيهِ القلوب والأبصار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ليجزيهُمُ الله أحسنَ ما عَمِلُو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ويزيدهُم مِّن فضلِه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واللَّهُ يرزُقُ من يشاء بغير حساب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ffffcc"/>
                </a:solidFill>
                <a:latin typeface="Times New Roman"/>
              </a:rPr>
              <a:t> سورة النو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20574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أمَّا مَن ضيَّعوا الصلاة وتهانوا به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2743200"/>
            <a:ext cx="838224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أخَّروها عن وقت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فيا ليت شعري لو يعلمون ماذا تحمَّلوا من الوِزر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ماذا فاتهم من الأجر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قال تعالى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فويل للمص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الذين هُم عن صلاتهم ساهو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سورة الماعو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335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قال تعالى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9320"/>
            <a:ext cx="8381880" cy="64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فخلفَ من بعدِهِمْ خلفٌ أضاعوا الصلاة واتبعوا الشهو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فسوف يلقون غي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إلا من تاب وآمن وعمل صالح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فأولئك يدخلون الجنَّة ولا يظلمون شيئ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سورة مري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قال صلى الله عليه وسلم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إنَّ أوَّل ما يُحاسبُ به العبدُ يومَ القيامة مِن عملهِ صلاتُه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فإن صلُحت فقد أفلحَ ونَجَ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وإن فسدت خابَ وخَسِرَ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...." </a:t>
            </a:r>
            <a:br>
              <a:rPr sz="1800"/>
            </a:b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الحديث رواه الترمذي وقال حديث حس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48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ألا فالْحق بأهل الفجـ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133720"/>
            <a:ext cx="838188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لكي تكون في ذمة الل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لتُكتب في ديوان الأبر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تحصل لك السعادة والنو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تمحى من صحيفة النفاق</a:t>
            </a: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يقول النبي صلى الله عليه وسلم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ليس صلاةٌ أثقل على المنافقين من صلاةِ الفجرِ والعشاء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ولو يعلمون ما فيهما لأتوهما ولو حبو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99"/>
                </a:solidFill>
                <a:latin typeface="Times New Roman"/>
              </a:rPr>
              <a:t>أخرجه البخاري ومسل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45720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900" spc="-1" strike="noStrike">
                <a:solidFill>
                  <a:srgbClr val="000000"/>
                </a:solidFill>
                <a:latin typeface="Times New Roman"/>
              </a:rPr>
              <a:t>أنشرها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cc"/>
                </a:solidFill>
                <a:latin typeface="Times New Roman"/>
              </a:rPr>
              <a:t>وقد تكون بإرسال هذه الرسالة لغير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cc"/>
                </a:solidFill>
                <a:latin typeface="Times New Roman"/>
              </a:rPr>
              <a:t>قد بلغت آي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cc"/>
                </a:solidFill>
                <a:latin typeface="Times New Roman"/>
              </a:rPr>
              <a:t>تقف لك شفيعة يوم القيام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08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</a:rPr>
              <a:t>إنهم أهل الفجر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60" y="1371600"/>
            <a:ext cx="8305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قوم يحرصون على أداء هذه الفريض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يعتنون بهذه الشعير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يستقبل بها أحدهم يومه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يستفتح بها نهار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القائمون بها تشهد لهم الملائك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من أداها مع الجم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فكأنما صلى الليل كل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إنها صلاة الفج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90720"/>
            <a:ext cx="845820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التي سماها الله قرآنا فقال جل وعز: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وقرآن الفجر إن قرآن الفجر كان مشهوداً</a:t>
            </a:r>
            <a:r>
              <a:rPr b="0" lang="ar-BH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ar-BH" sz="1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سورة الإسراء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المحافظة عليها من أسباب دخول الجن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الوضوء لها كم فيه من درج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المشي إليها كم فيه من حسن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الوقت بعدها تنزل فيه الب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قال النبي صلى الله عليه وسلم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اللهم بارك لأمتي في بُكورهَا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أخرجه أحمد وأبو داود والترمذي وابن ماجة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أهل الفج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6680"/>
            <a:ext cx="8458200" cy="61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الذين أجابوا داعي الله وهو يناد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Times New Roman"/>
              </a:rPr>
              <a:t>حي على الصل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Times New Roman"/>
              </a:rPr>
              <a:t>حي على الفل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فسلام على هـؤلاء القو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حـين استلهمو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صلاة خير من الن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استشعروا معاني العبود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فاستقبلتهم سعادة الأيام تبشرهم وتثبت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قال صلى الله عليه وسلم: </a:t>
            </a:r>
            <a:br>
              <a:rPr sz="3200"/>
            </a:b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بشر المشائين في الظلم إلى المسجد بالنور التام يوم القيا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أخرجه الترمذي وأبو داو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85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لقد فزتم بعظيم الأج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71600"/>
            <a:ext cx="8458200" cy="54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فلا تغبطوا أهل الشهوات والحظوظ العاج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فما عندهم - والله - ما يغتبطون عل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بل بفضله وبرحمته فاغتبطو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إياه على إعانتكم فاشكرو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إياه  فتوجهو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يقول رسول الله صلى الله عليه وسل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من صلى العشاء في جماعة فكأنما قام نصف اللي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ومن صلى الصبح في جماعة فكأنما صلى الليل ك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أخرجه مسل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85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يا أهل الفج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523880"/>
            <a:ext cx="8458200" cy="62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هنيئاً لكم أن تتمتعوا بالنظر إلى وجه الله الكريم في الجن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قال صلى الله عليه وسلم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إنِّكم سترون ربَّكم كمَا ترون هذا القَمرَ لا تُضامونَ في رؤيت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فإن استطعتم أن لا تُغلبوا على صلاةٍ قبل طلوع الشَّمس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وقبلَ غروبها فافعلُو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ثم قرأ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وسبح بحمد ربك قبل طلوع الشمس وقبل الغر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أخرجه البخاري ومسل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2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يا أهل الفج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62120"/>
            <a:ext cx="8991720" cy="63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ألا ترضون أن يذهب الناس بالأموال والزوج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ترجعون أنتم بالبركة في الأوقات والنشا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طيب النفس وأنواع الهداي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دخول الجنات ونزول الرح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قال صلى الله عليه وسل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من صلى البُردين دَخل الجن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أخرجه البخاري ومسلم - والبردان: صلاة الفجر وصلاة العص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قال صلى الله عليه وسلم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لن يلج النار أحدٌ صلى قبل طلوع الشمس وقبل غروب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أخرجه مسلم - والمراد بهذا صلاة الفجر وصلاة العصر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05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يا أهل الفج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048120"/>
            <a:ext cx="8229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تم محفوظون بحفظ ال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أنفسكم طي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أجسادكم نشيط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يقول صلى الله عليه وسل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99"/>
                </a:solidFill>
                <a:latin typeface="Times New Roman"/>
              </a:rPr>
              <a:t>من صلَّى الصبح فهو في ذمة الله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ar-SA" sz="1800" spc="-1" strike="noStrike">
                <a:solidFill>
                  <a:srgbClr val="ffffcc"/>
                </a:solidFill>
                <a:latin typeface="Times New Roman"/>
              </a:rPr>
              <a:t>أخرجه مس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094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وقال صلى الله عليه وسلم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71600"/>
            <a:ext cx="8229600" cy="59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عقدَ الشيطان على قافية رأسِ أحد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ذا هو نام ثلاث عق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يضرب على مكان كل عقدة عليك ليل طويل فارق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إن استيقظ وذكر الله انحلت عقد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إن توضأ انحلت عقد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إن صلى إن حلت عق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أصبح نشيطاً طيب النف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إلا أصبح خبيث النفس كسل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متفق علي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0:21:19Z</dcterms:created>
  <dc:creator>Quran</dc:creator>
  <dc:description/>
  <dc:language>en-US</dc:language>
  <cp:lastModifiedBy>Guest</cp:lastModifiedBy>
  <dcterms:modified xsi:type="dcterms:W3CDTF">2008-01-09T20:37:14Z</dcterms:modified>
  <cp:revision>8</cp:revision>
  <dc:subject/>
  <dc:title>PowerPoint Presentation</dc:title>
</cp:coreProperties>
</file>