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73F2-F73A-4548-A77B-0262AACA3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02A0-9F09-463D-8AB5-998CD4004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50A0-E7A0-4F47-832E-CCCE311B4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198D-D07B-4955-B997-8109A26D0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61F-831A-4890-B3DB-56E8D60B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873-409E-4DFF-B759-3632FBF7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A75-7A74-45B3-89E9-95B8284A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635-DC48-41D8-847D-9508FC2E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47D-9E6C-4F16-8533-5246CE54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9FA-A6B3-4146-9814-9AF874B2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D29-B645-48CA-B750-0A4CCA1B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DFF-ADAA-47EB-8910-B6124814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DB2-6795-4863-8127-20EDF69D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CA9-C755-439B-8DB7-96A8CE8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2AD-1EFD-405A-9B0A-16A2D3A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D6C-0D06-46C7-B87A-AE5C8645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8DD-26E7-4868-A058-C1409301D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CC60-0A10-4538-A747-7B0136071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1f497d"/>
                </a:solidFill>
                <a:latin typeface="Cambria"/>
              </a:rPr>
              <a:t>Bill Gates’ House</a:t>
            </a:r>
            <a:endParaRPr b="0" lang="en-US" sz="88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49" name="Ange2921.wav" descr=""/>
          <p:cNvPicPr/>
          <p:nvPr/>
        </p:nvPicPr>
        <p:blipFill>
          <a:blip r:embed="rId1"/>
          <a:stretch/>
        </p:blipFill>
        <p:spPr>
          <a:xfrm>
            <a:off x="10666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285840" y="504720"/>
            <a:ext cx="8572320" cy="5848560"/>
          </a:xfrm>
          <a:prstGeom prst="rect">
            <a:avLst/>
          </a:prstGeom>
          <a:ln w="0">
            <a:noFill/>
          </a:ln>
        </p:spPr>
      </p:pic>
      <p:sp>
        <p:nvSpPr>
          <p:cNvPr id="67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9C5D-D004-4DB6-B4D6-A07BC3545709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85840" y="681120"/>
            <a:ext cx="8572320" cy="549576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8FF1-50E2-4B59-B40B-D17CBB384E97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285840" y="852480"/>
            <a:ext cx="8572320" cy="5153040"/>
          </a:xfrm>
          <a:prstGeom prst="rect">
            <a:avLst/>
          </a:prstGeom>
          <a:ln w="0">
            <a:noFill/>
          </a:ln>
        </p:spPr>
      </p:pic>
      <p:sp>
        <p:nvSpPr>
          <p:cNvPr id="71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9A0C-6B30-45C8-A4EB-30787941E9B4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474840" y="457200"/>
            <a:ext cx="8135640" cy="594828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43A1-19EC-4CDE-B77C-57EB08381D8D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289240" y="0"/>
            <a:ext cx="45655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79CA-0972-4865-B04A-2CA8B876AA47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457200" y="485640"/>
            <a:ext cx="8190000" cy="5915160"/>
          </a:xfrm>
          <a:prstGeom prst="rect">
            <a:avLst/>
          </a:prstGeom>
          <a:ln w="0">
            <a:noFill/>
          </a:ln>
        </p:spPr>
      </p:pic>
      <p:sp>
        <p:nvSpPr>
          <p:cNvPr id="77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3AD2-DCFC-4570-8C7A-B32DF17EEBC7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85840" y="685800"/>
            <a:ext cx="8572320" cy="54864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8410-5C7E-49DD-AA2D-E42222F58804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85840" y="581040"/>
            <a:ext cx="8572320" cy="569592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24B1-DE77-409D-BA8F-547AEBA94E9B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09480" y="449280"/>
            <a:ext cx="7909200" cy="602784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DDCC-4305-449F-B5AC-BF298B81BECF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85840" y="757080"/>
            <a:ext cx="8572320" cy="534384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BF80-729E-459C-8332-753FE5502CE7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1981080" y="0"/>
            <a:ext cx="51818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1"/>
          <p:cNvSpPr/>
          <p:nvPr/>
        </p:nvSpPr>
        <p:spPr>
          <a:xfrm>
            <a:off x="8594640" y="6335640"/>
            <a:ext cx="320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741A-FC96-4DF8-A15A-03F829BE4AEB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85840" y="662040"/>
            <a:ext cx="8572320" cy="553392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3760-D96C-42C6-B3E4-835D34ADA371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285840" y="662040"/>
            <a:ext cx="8572320" cy="5533920"/>
          </a:xfrm>
          <a:prstGeom prst="rect">
            <a:avLst/>
          </a:prstGeom>
          <a:ln w="0">
            <a:noFill/>
          </a:ln>
        </p:spPr>
      </p:pic>
      <p:sp>
        <p:nvSpPr>
          <p:cNvPr id="89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966D-E17C-4AE0-B07A-92B2AA08EC19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85840" y="547560"/>
            <a:ext cx="8572320" cy="576288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3936-D264-47A0-BAE4-69D41FD721C2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85840" y="533520"/>
            <a:ext cx="8572320" cy="579096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DA39-E71A-4C38-BAE2-DCBB7B13D140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85840" y="738360"/>
            <a:ext cx="8572320" cy="538128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57AC-61B6-44D4-B233-5CD8DCE60E52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  <p:sp>
        <p:nvSpPr>
          <p:cNvPr id="97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9E87-1EED-4496-9636-8C99189C3E73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85840" y="581040"/>
            <a:ext cx="8572320" cy="569592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3406-8674-4B96-94D9-EF5F5A026CC9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285840" y="557280"/>
            <a:ext cx="8572320" cy="57434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4801-AE6D-4023-90B0-22A4EDC7EB8F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4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85840" y="614520"/>
            <a:ext cx="8572320" cy="562896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157B-A5E0-452E-BEA3-792DA70B51D8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85840" y="476280"/>
            <a:ext cx="8572320" cy="590544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C4F8-76DF-4AE5-9FC6-9E8175BFB756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457200" y="514440"/>
            <a:ext cx="8229600" cy="573408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1"/>
          <p:cNvSpPr/>
          <p:nvPr/>
        </p:nvSpPr>
        <p:spPr>
          <a:xfrm>
            <a:off x="8594640" y="6335640"/>
            <a:ext cx="320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EE39-904A-419E-9903-D35C0662571F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85840" y="604800"/>
            <a:ext cx="8572320" cy="564840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C126-82ED-475D-87F2-5BE17958CB63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285840" y="1195560"/>
            <a:ext cx="8572320" cy="4466880"/>
          </a:xfrm>
          <a:prstGeom prst="rect">
            <a:avLst/>
          </a:prstGeom>
          <a:ln w="0">
            <a:noFill/>
          </a:ln>
        </p:spPr>
      </p:pic>
      <p:sp>
        <p:nvSpPr>
          <p:cNvPr id="109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DD2E-4F26-4348-829A-146BE1B181E8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85840" y="457200"/>
            <a:ext cx="857232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F414-8746-4E22-B129-0533C8B7E882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285840" y="581040"/>
            <a:ext cx="8572320" cy="569592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A4CD-BF44-4C0F-9534-27336321A2EC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85840" y="433440"/>
            <a:ext cx="8572320" cy="59911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17B3-7900-4750-A201-1D264156A38C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85840" y="614520"/>
            <a:ext cx="8572320" cy="562896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E4BC-0E05-4D4C-A7A5-7CE709AF2F69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72360" cy="594828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0866-AA70-43A4-95A8-6BD5A3013F38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572320" cy="557208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11FB-A6C4-44AE-B8A7-29A68EDAA55D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717560" y="0"/>
            <a:ext cx="57088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70A4-758C-4578-9BF9-53FD4828BEA9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20080" cy="613116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1480-9572-4FA3-8F43-06F533ABD521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61800" y="611280"/>
            <a:ext cx="8401320" cy="571320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1"/>
          <p:cNvSpPr/>
          <p:nvPr/>
        </p:nvSpPr>
        <p:spPr>
          <a:xfrm>
            <a:off x="8594640" y="6335640"/>
            <a:ext cx="320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5C22-F606-432A-8676-20117EEFC2D2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4000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285840" y="485640"/>
            <a:ext cx="8572320" cy="588672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F376-EB47-4EFE-80D4-7D03787783E8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85840" y="547560"/>
            <a:ext cx="8572320" cy="576288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8149-E819-42FF-B163-9A54EE62A985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285840" y="495360"/>
            <a:ext cx="857232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B7B6-2186-4A81-9261-D6FCD3110A1D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400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85840" y="576360"/>
            <a:ext cx="8572320" cy="570528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5390-EC4D-4C6F-98DE-EF6951D66569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72320" cy="514368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EB86-731E-4BBA-ADAF-CA25E321D433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96040" cy="597384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DB98-4917-482B-A69F-ACC84782F975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8572320" cy="542952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FBE4-FA1C-4439-BB8A-35EE0E9C825A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77280" cy="596268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EDC4-3FB5-4B68-BC44-22E3133D872B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514440" y="431640"/>
            <a:ext cx="8096040" cy="596916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9F90-2C3C-4499-A8E9-7161E7E9E305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ll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285840" y="490680"/>
            <a:ext cx="8572320" cy="587664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B502-7C98-4CFB-84A3-AF8C732C0CE3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85840" y="861840"/>
            <a:ext cx="8572320" cy="513432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1"/>
          <p:cNvSpPr/>
          <p:nvPr/>
        </p:nvSpPr>
        <p:spPr>
          <a:xfrm>
            <a:off x="8594640" y="6335640"/>
            <a:ext cx="320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A19C-0C56-41CD-AEDC-AC68B5C916B9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push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72320" cy="514368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9408-2582-4979-9D6C-6EEA217520C6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201924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F7EC-E959-4A13-ADB0-EF75B870BB1B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4800600"/>
            <a:ext cx="1752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Monotype Corsiva"/>
              </a:rPr>
              <a:t>Created by the best neighbors of Bill, who have only Apple computer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561960" y="380880"/>
            <a:ext cx="7972560" cy="6094440"/>
          </a:xfrm>
          <a:prstGeom prst="rect">
            <a:avLst/>
          </a:prstGeom>
          <a:ln w="0">
            <a:noFill/>
          </a:ln>
        </p:spPr>
      </p:pic>
      <p:sp>
        <p:nvSpPr>
          <p:cNvPr id="59" name="Slide Number Placeholder 1"/>
          <p:cNvSpPr/>
          <p:nvPr/>
        </p:nvSpPr>
        <p:spPr>
          <a:xfrm>
            <a:off x="8594640" y="6335640"/>
            <a:ext cx="320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34B0-2079-4D02-8AC9-4654B266410F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85840" y="561960"/>
            <a:ext cx="8572320" cy="573408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1"/>
          <p:cNvSpPr/>
          <p:nvPr/>
        </p:nvSpPr>
        <p:spPr>
          <a:xfrm>
            <a:off x="8594640" y="6335640"/>
            <a:ext cx="320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A9C9-7872-41BF-81D8-D5CE5EFEC5D1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85840" y="685800"/>
            <a:ext cx="8572320" cy="548640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F0B-B9D8-482D-A4DE-73B212B1BC0A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85840" y="681120"/>
            <a:ext cx="8572320" cy="549576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1"/>
          <p:cNvSpPr/>
          <p:nvPr/>
        </p:nvSpPr>
        <p:spPr>
          <a:xfrm>
            <a:off x="8458200" y="6335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EA4B-9F81-4440-93C4-0409673DC429}" type="slidenum">
              <a:rPr b="1" lang="en-US" sz="20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2:25:22Z</dcterms:created>
  <dc:creator>Gabor Palfalvi</dc:creator>
  <dc:description/>
  <dc:language>en-US</dc:language>
  <cp:lastModifiedBy>Yee Family</cp:lastModifiedBy>
  <dcterms:modified xsi:type="dcterms:W3CDTF">2011-09-06T19:29:02Z</dcterms:modified>
  <cp:revision>60</cp:revision>
  <dc:subject/>
  <dc:title>Bill Gates’ House</dc:title>
</cp:coreProperties>
</file>