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2C1-2396-4BCA-A9C5-717241F5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108-7974-4E1E-8672-4C98A0EF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0CA-14BD-40A9-9665-4E7E5E4A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A5D-E6E6-4F39-A6FB-C5B71EE2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983-71E7-449D-AEE7-012D5EE1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325-1207-44E5-961C-E2942EA4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77E-4F46-4BD5-BB47-F87202BE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AFA-B960-4A7F-B074-81574B1F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6C8-742A-421C-99D6-4C47C963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E88-B9DB-44B0-9DCC-F1817668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C26-F93D-4D2E-BCD7-6A09885D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832-75AC-46B8-8E5F-24D08A30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CCA0-6209-46B9-9529-507B427BC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42:03Z</dcterms:created>
  <dc:creator>rosario</dc:creator>
  <dc:description/>
  <dc:language>en-US</dc:language>
  <cp:lastModifiedBy>rosario</cp:lastModifiedBy>
  <dcterms:modified xsi:type="dcterms:W3CDTF">2009-03-23T18:40:21Z</dcterms:modified>
  <cp:revision>6</cp:revision>
  <dc:subject/>
  <dc:title>Slide 1</dc:title>
</cp:coreProperties>
</file>