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0C4-C361-4B8E-A4E7-37FDD366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C8D-3ACF-4863-BED3-1D7611BB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C89-808B-4142-8520-FB596269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6BB-1B10-4FD2-95A2-D2BA2778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D43-0BB4-455C-B739-7889C5AC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3C8-B125-4E8F-8B83-E640EC0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BE9-FF6E-4E00-9E83-7B9E54B8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E71-0941-4431-A1C9-0A479FFD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8C7-20F4-4E79-9319-DCF53E5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A91-0A63-46A5-B791-EE124AC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1B9-96D9-4C2B-8546-3028CCB5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F6D-A581-43E6-B792-B9937639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EF89-A88E-4EC5-B9B5-093CF2555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cc"/>
                </a:solidFill>
                <a:latin typeface="Arial"/>
              </a:rPr>
              <a:t>SAINDO DO FORNO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99ffcc"/>
                </a:solidFill>
                <a:latin typeface="Arial"/>
              </a:rPr>
              <a:t>PAULA AGUI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a_Aguiar_09" descr=""/>
          <p:cNvPicPr/>
          <p:nvPr/>
        </p:nvPicPr>
        <p:blipFill>
          <a:blip r:embed="rId1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aula_Aguiar_10" descr=""/>
          <p:cNvPicPr/>
          <p:nvPr/>
        </p:nvPicPr>
        <p:blipFill>
          <a:blip r:embed="rId1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cc"/>
                </a:solidFill>
                <a:latin typeface="Arial"/>
              </a:rPr>
              <a:t>ATÉ A PRÓXIMA FORNADA..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aula_Aguiar_01" descr=""/>
          <p:cNvPicPr/>
          <p:nvPr/>
        </p:nvPicPr>
        <p:blipFill>
          <a:blip r:embed="rId1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ula_Aguiar_02" descr=""/>
          <p:cNvPicPr/>
          <p:nvPr/>
        </p:nvPicPr>
        <p:blipFill>
          <a:blip r:embed="rId1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aula_Aguiar_03" descr=""/>
          <p:cNvPicPr/>
          <p:nvPr/>
        </p:nvPicPr>
        <p:blipFill>
          <a:blip r:embed="rId1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aula_Aguiar_04" descr=""/>
          <p:cNvPicPr/>
          <p:nvPr/>
        </p:nvPicPr>
        <p:blipFill>
          <a:blip r:embed="rId1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aula_Aguiar_05" descr=""/>
          <p:cNvPicPr/>
          <p:nvPr/>
        </p:nvPicPr>
        <p:blipFill>
          <a:blip r:embed="rId1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aula_Aguiar_06" descr=""/>
          <p:cNvPicPr/>
          <p:nvPr/>
        </p:nvPicPr>
        <p:blipFill>
          <a:blip r:embed="rId1"/>
          <a:stretch/>
        </p:blipFill>
        <p:spPr>
          <a:xfrm>
            <a:off x="307800" y="588960"/>
            <a:ext cx="8526600" cy="5680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a_Aguiar_07" descr=""/>
          <p:cNvPicPr/>
          <p:nvPr/>
        </p:nvPicPr>
        <p:blipFill>
          <a:blip r:embed="rId1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aula_Aguiar_08" descr=""/>
          <p:cNvPicPr/>
          <p:nvPr/>
        </p:nvPicPr>
        <p:blipFill>
          <a:blip r:embed="rId1"/>
          <a:stretch/>
        </p:blipFill>
        <p:spPr>
          <a:xfrm>
            <a:off x="307800" y="588960"/>
            <a:ext cx="8526600" cy="5680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2:00:29Z</dcterms:created>
  <dc:creator>almaia</dc:creator>
  <dc:description/>
  <dc:language>en-US</dc:language>
  <cp:lastModifiedBy>almaia</cp:lastModifiedBy>
  <dcterms:modified xsi:type="dcterms:W3CDTF">2008-02-01T12:00:47Z</dcterms:modified>
  <cp:revision>1</cp:revision>
  <dc:subject/>
  <dc:title>SAINDO DO FORNO  PAULA AGUIAR</dc:title>
</cp:coreProperties>
</file>