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446-AB91-4935-83DD-B40119DB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553-3FA1-4BB0-A3E6-5D1D6F50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563-9AA9-412B-AB4A-E4736539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CF4-230F-4FE6-8B78-92353AE4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3E9-8E98-4984-9849-CA239AAA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BDE-1FB3-4178-B9B2-443C3B3C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C07-B0DB-4D5E-8B55-0D78C070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898-31A4-4EA2-98CB-16C3D11E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ABD-8402-40D5-B59D-E7DC67CE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3FA-F167-46D2-9854-F5E7DBAF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657-0FD7-4653-AA24-2E17897C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807-EEF5-4BF3-9A24-7620B72A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7869-3A62-4DC8-814D-180A37878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844640"/>
            <a:ext cx="7775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6600ff"/>
                </a:solidFill>
                <a:latin typeface="Mistral"/>
              </a:rPr>
              <a:t>LEMONS AND MEL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4959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6594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2768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783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818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986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0814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905440" cy="7905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104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486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694400" cy="7174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198960" y="0"/>
            <a:ext cx="2369880" cy="7605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27600" cy="7101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3444840" cy="7101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44840" y="0"/>
            <a:ext cx="3441600" cy="7245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908600" cy="7245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37000" y="0"/>
            <a:ext cx="2938320" cy="7174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0418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95640" y="-47520"/>
            <a:ext cx="4979880" cy="7221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392720" cy="7174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681800" cy="2697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16360" y="4869000"/>
            <a:ext cx="26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0066"/>
                </a:solidFill>
                <a:latin typeface="Mistral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8229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818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11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675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9T14:52:57Z</dcterms:created>
  <dc:creator>--</dc:creator>
  <dc:description/>
  <dc:language>en-US</dc:language>
  <cp:lastModifiedBy>--</cp:lastModifiedBy>
  <dcterms:modified xsi:type="dcterms:W3CDTF">2014-08-29T15:19:25Z</dcterms:modified>
  <cp:revision>4</cp:revision>
  <dc:subject/>
  <dc:title>LEMONS &amp; MELONS</dc:title>
</cp:coreProperties>
</file>