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F3E-0E57-47A8-9BBD-A62CDDD3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E0D-7D95-45CA-BFD7-C6F910D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745-545F-47D8-AAFE-A359F8DE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E21-6489-4DFE-95E7-4D847D66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423-CBD7-405B-9B32-2D19FCB4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0B2-2777-4E30-AC00-CAD8395E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1CF-3197-4B43-B0AE-0479D610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671-7004-4959-98BD-D59B6E13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2F5-0DB3-4D53-8632-20382BB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670-18A4-46A8-837C-8FF22C1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04A-6D0A-4692-B1F6-A6A4D78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1F4-B414-4436-A750-A51D0A8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19D-B719-476A-A3DA-0EF4FE7921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795760"/>
            <a:ext cx="6667200" cy="12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shton White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9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0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2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4" descr=""/>
          <p:cNvPicPr/>
          <p:nvPr/>
        </p:nvPicPr>
        <p:blipFill>
          <a:blip r:embed="rId1"/>
          <a:stretch/>
        </p:blipFill>
        <p:spPr>
          <a:xfrm>
            <a:off x="2305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620120" y="6067440"/>
            <a:ext cx="761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1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2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3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4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5" descr=""/>
          <p:cNvPicPr/>
          <p:nvPr/>
        </p:nvPicPr>
        <p:blipFill>
          <a:blip r:embed="rId1"/>
          <a:stretch/>
        </p:blipFill>
        <p:spPr>
          <a:xfrm>
            <a:off x="230508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6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7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8" descr=""/>
          <p:cNvPicPr/>
          <p:nvPr/>
        </p:nvPicPr>
        <p:blipFill>
          <a:blip r:embed="rId1"/>
          <a:stretch/>
        </p:blipFill>
        <p:spPr>
          <a:xfrm>
            <a:off x="230652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G</dc:creator>
  <dc:description>Julio 31 de 2005</dc:description>
  <dc:language>en-US</dc:language>
  <cp:lastModifiedBy>usuario</cp:lastModifiedBy>
  <dcterms:modified xsi:type="dcterms:W3CDTF">2005-07-31T20:59:04Z</dcterms:modified>
  <cp:revision>3</cp:revision>
  <dc:subject/>
  <dc:title>Ashton White</dc:title>
</cp:coreProperties>
</file>