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4.gif" ContentType="image/gif"/>
  <Override PartName="/ppt/media/image33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8.jpeg" ContentType="image/jpeg"/>
  <Override PartName="/ppt/media/image51.jpeg" ContentType="image/jpeg"/>
  <Override PartName="/ppt/media/Iliza%20gomara%20saia.wav" ContentType="audio/x-wav"/>
  <Override PartName="/ppt/media/image1.png" ContentType="image/pn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14.jpeg" ContentType="image/jpeg"/>
  <Override PartName="/ppt/media/image41.jpeg" ContentType="image/jpeg"/>
  <Override PartName="/ppt/media/image54.png" ContentType="image/png"/>
  <Override PartName="/ppt/media/image8.png" ContentType="image/png"/>
  <Override PartName="/ppt/media/image39.jpeg" ContentType="image/jpeg"/>
  <Override PartName="/ppt/media/image13.png" ContentType="image/png"/>
  <Override PartName="/ppt/media/image5.png" ContentType="image/png"/>
  <Override PartName="/ppt/media/image43.jpeg" ContentType="image/jpeg"/>
  <Override PartName="/ppt/media/image36.jpeg" ContentType="image/jpeg"/>
  <Override PartName="/ppt/media/image37.jpeg" ContentType="image/jpeg"/>
  <Override PartName="/ppt/media/image50.jpeg" ContentType="image/jpeg"/>
  <Override PartName="/ppt/media/image40.jpeg" ContentType="image/jpeg"/>
  <Override PartName="/ppt/media/image44.jpeg" ContentType="image/jpeg"/>
  <Override PartName="/ppt/media/image38.jpeg" ContentType="image/jpeg"/>
  <Override PartName="/ppt/media/image46.jpeg" ContentType="image/jpeg"/>
  <Override PartName="/ppt/media/image47.jpeg" ContentType="image/jpeg"/>
  <Override PartName="/ppt/media/image49.jpeg" ContentType="image/jpeg"/>
  <Override PartName="/ppt/media/image20.jpeg" ContentType="image/jpeg"/>
  <Override PartName="/ppt/media/image55.png" ContentType="image/png"/>
  <Override PartName="/ppt/media/image45.jpeg" ContentType="image/jpeg"/>
  <Override PartName="/ppt/media/image48.jpeg" ContentType="image/jpeg"/>
  <Override PartName="/ppt/media/image5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52.jpeg" ContentType="image/jpeg"/>
  <Override PartName="/ppt/media/image29.jpeg" ContentType="image/jpe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42.jpeg" ContentType="image/jpeg"/>
  <Override PartName="/ppt/media/image6.png" ContentType="image/png"/>
  <Override PartName="/ppt/media/image35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dt" idx="3"/>
          </p:nvPr>
        </p:nvSpPr>
        <p:spPr>
          <a:xfrm>
            <a:off x="388476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PT" sz="12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PT" sz="12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FC0E2B-9062-4E35-81A4-8CE4B3ABE12A}" type="slidenum">
              <a:rPr b="0" lang="pt-PT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10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E25FA6-3F92-464F-9D40-98B53610746B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13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DB90C7-7D0C-4CE7-9249-2E9E675F275B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13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5D0D7C-2AFC-4C0B-AC6C-52D1DF44D97A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14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722B56-6B42-45C1-AD82-62C906115DC3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14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2C28E3-5D1B-416C-B6ED-50C9948492B9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14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74C320-A421-49FE-BE3E-1E400520110D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15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3F8AD6-021A-49EF-9BF7-91C45FBEDA5E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15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511FDE-FD15-4A05-B44D-30C8DD841F59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15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9357FB-5BD0-40CC-961F-5F828CB61810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16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0F61CB-0F2C-43CB-B71C-22C6A82F8114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16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642576-AFF7-4C13-A216-87BCFE9B7B1F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11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93A699-6398-49DE-A1F8-295A46D92687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16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D0F58F-4460-4005-9592-F18694B76C3B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16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03C6A2-3801-440D-BEB2-7DF13C66BE30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17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ADF5D7-7F48-499F-87F4-072A957B5903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17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336E16-47E8-4A40-8FD4-905478CFEF9A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17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D23988-1EE3-42E4-B08C-1DED37914B7E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18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7788C4-2CCF-4594-AE8B-8C341EC4A50D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18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58E296-B5A7-438D-B5B4-ED2264723117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18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48FB22-4E1D-4EFF-9B51-09589FCD3AC8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19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F1A74E-341E-4F27-A60B-C3D8E1AC942F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19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9FFA9E-64FC-496A-8140-C28F67082574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11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2FB94A-2AB9-43AE-8708-518ACFFCAEC6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19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D4806E-0E1A-4249-A812-BEE90A12899E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19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2DB2A8-2824-480B-905B-3C92E01D8A13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20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D6997A-9DFC-4247-A4F3-75035654EEB3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20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9C52B8-4FA1-4F40-B761-E735559CE5C8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20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AB68A3-3C56-4FD4-98C1-0D3FDDE551FA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21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58E32C-F1E3-431D-A4D9-790816DBC808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21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4DDB1D-5A96-40E4-8AB9-FE950632C500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21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46A6FF-AB92-4493-84A4-2B627B3DA811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22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70F281-2D60-4ECE-95D9-2B2B2C4C09EF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22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A2C44D-0635-4200-95AB-7762D3C16587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11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B88685-EF9C-4295-B0A7-EBD6B66E3971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22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1AB508-46E3-4D66-8C87-88FAFB20260B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22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D99B90-A38C-4CB9-9517-1945C99EF3A2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2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FF37B1-3D33-4B05-A321-CA873D28C25C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2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1EA541-4928-4441-A681-1593BC18C13F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12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8AD31F-3C58-490E-A2C4-8A7B962CCA49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12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805D09-527E-4EA4-B1CF-4CEDB0FFD575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12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917259-8008-46B1-8B83-8D3B756FC767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13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59F87A-72BB-4E21-A3A9-619B20BFAC69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13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861558-1CDA-4CD3-8A52-742E8433AF9D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FCEE6-344A-4F77-AF09-1DAEBB94FD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A5413-C612-4269-8254-C48834F62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FDE18-93AE-4507-AA98-C2FFEA8E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648F2-43FA-4318-B668-A945A096C7E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FA8DA-B2B1-42DC-B478-AB075EFAB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D97BC-5CEB-4EE3-8540-CA70AF466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D2DC6-3F0B-4F71-8FB0-FF7FDEB5E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3E3BF-E438-40F1-8B09-E74129EDB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96595-CA60-4DBB-8F33-0DF66CC18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90552-3CF7-41E5-8DE7-070B5A9E8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DFAB8-75B4-49E8-A70D-86B0E9ABB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7DDC6-45E3-4A3F-BF6A-263FD23FD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3280"/>
            <a:ext cx="21304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P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304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P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548C47-EDB9-464C-A6C0-3417DAF8A82D}" type="slidenum">
              <a:rPr b="0" lang="pt-PT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1.png"/><Relationship Id="rId11" Type="http://schemas.openxmlformats.org/officeDocument/2006/relationships/image" Target="../media/image13.png"/><Relationship Id="rId12" Type="http://schemas.openxmlformats.org/officeDocument/2006/relationships/audio" Target="../media/Iliza%20gomara%20saia.wav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4.png"/><Relationship Id="rId3" Type="http://schemas.openxmlformats.org/officeDocument/2006/relationships/image" Target="../media/image12.png"/><Relationship Id="rId4" Type="http://schemas.openxmlformats.org/officeDocument/2006/relationships/image" Target="../media/image5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16000" y="692280"/>
            <a:ext cx="482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PT" sz="6000" spc="-1" strike="noStrike">
                <a:solidFill>
                  <a:srgbClr val="4f6228"/>
                </a:solidFill>
                <a:latin typeface="comic"/>
              </a:rPr>
              <a:t>Produçõ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380360" y="4797360"/>
            <a:ext cx="890640" cy="1187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164280" y="4805280"/>
            <a:ext cx="901800" cy="1187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3086280" y="2328840"/>
            <a:ext cx="2971800" cy="22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rcRect l="0" t="0" r="0" b="11150"/>
          <a:stretch/>
        </p:blipFill>
        <p:spPr>
          <a:xfrm>
            <a:off x="1996920" y="0"/>
            <a:ext cx="5150160" cy="687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rcRect l="0" t="0" r="0" b="11150"/>
          <a:stretch/>
        </p:blipFill>
        <p:spPr>
          <a:xfrm>
            <a:off x="2030400" y="0"/>
            <a:ext cx="5083200" cy="687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rcRect l="0" t="0" r="0" b="11150"/>
          <a:stretch/>
        </p:blipFill>
        <p:spPr>
          <a:xfrm>
            <a:off x="2004840" y="0"/>
            <a:ext cx="5134320" cy="687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rcRect l="0" t="0" r="0" b="5902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26836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rcRect l="5274" t="0" r="5920" b="3802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rcRect l="0" t="0" r="0" b="3420"/>
          <a:stretch/>
        </p:blipFill>
        <p:spPr>
          <a:xfrm>
            <a:off x="2206800" y="0"/>
            <a:ext cx="47322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2124000" y="0"/>
            <a:ext cx="45752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979640" y="0"/>
            <a:ext cx="5148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rcRect l="0" t="0" r="0" b="5900"/>
          <a:stretch/>
        </p:blipFill>
        <p:spPr>
          <a:xfrm>
            <a:off x="2136600" y="0"/>
            <a:ext cx="4870800" cy="687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39640" y="2637000"/>
            <a:ext cx="622440" cy="900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979640" y="2637000"/>
            <a:ext cx="668160" cy="900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3635280" y="2637000"/>
            <a:ext cx="765360" cy="900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5076720" y="2637000"/>
            <a:ext cx="735120" cy="900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5867280" y="2637000"/>
            <a:ext cx="750960" cy="900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6659640" y="2637000"/>
            <a:ext cx="646200" cy="900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8"/>
          <a:stretch/>
        </p:blipFill>
        <p:spPr>
          <a:xfrm>
            <a:off x="1258920" y="2637000"/>
            <a:ext cx="638280" cy="900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9"/>
          <a:stretch/>
        </p:blipFill>
        <p:spPr>
          <a:xfrm>
            <a:off x="4500720" y="2637000"/>
            <a:ext cx="501480" cy="900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0"/>
          <a:stretch/>
        </p:blipFill>
        <p:spPr>
          <a:xfrm>
            <a:off x="7380360" y="2637000"/>
            <a:ext cx="638280" cy="900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1"/>
          <a:stretch/>
        </p:blipFill>
        <p:spPr>
          <a:xfrm>
            <a:off x="2700360" y="2637000"/>
            <a:ext cx="876240" cy="90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rcRect l="11111" t="0" r="0" b="10100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rcRect l="0" t="0" r="0" b="2751"/>
          <a:stretch/>
        </p:blipFill>
        <p:spPr>
          <a:xfrm>
            <a:off x="1986120" y="0"/>
            <a:ext cx="5171760" cy="687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rcRect l="0" t="0" r="0" b="275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95640" y="0"/>
            <a:ext cx="45748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rcRect l="0" t="0" r="0" b="2438"/>
          <a:stretch/>
        </p:blipFill>
        <p:spPr>
          <a:xfrm>
            <a:off x="2050920" y="0"/>
            <a:ext cx="46929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979640" y="0"/>
            <a:ext cx="5143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124000" y="0"/>
            <a:ext cx="4751640" cy="688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195640" y="0"/>
            <a:ext cx="46828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908000" y="0"/>
            <a:ext cx="5148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rcRect l="0" t="0" r="0" b="6595"/>
          <a:stretch/>
        </p:blipFill>
        <p:spPr>
          <a:xfrm>
            <a:off x="1835280" y="0"/>
            <a:ext cx="5329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835280" y="0"/>
            <a:ext cx="52164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835280" y="0"/>
            <a:ext cx="54687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rcRect l="0" t="0" r="0" b="3420"/>
          <a:stretch/>
        </p:blipFill>
        <p:spPr>
          <a:xfrm>
            <a:off x="2195640" y="0"/>
            <a:ext cx="4716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rcRect l="0" t="0" r="0" b="6633"/>
          <a:stretch/>
        </p:blipFill>
        <p:spPr>
          <a:xfrm>
            <a:off x="2124000" y="0"/>
            <a:ext cx="4896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rcRect l="0" t="3532" r="0" b="0"/>
          <a:stretch/>
        </p:blipFill>
        <p:spPr>
          <a:xfrm>
            <a:off x="0" y="488880"/>
            <a:ext cx="9144000" cy="588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rcRect l="0" t="0" r="0" b="5900"/>
          <a:stretch/>
        </p:blipFill>
        <p:spPr>
          <a:xfrm>
            <a:off x="2136600" y="0"/>
            <a:ext cx="4870800" cy="687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rcRect l="0" t="0" r="0" b="3420"/>
          <a:stretch/>
        </p:blipFill>
        <p:spPr>
          <a:xfrm>
            <a:off x="2195640" y="0"/>
            <a:ext cx="46879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rcRect l="3999" t="0" r="0" b="400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rcRect l="3999" t="0" r="0" b="400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rcRect l="0" t="0" r="0" b="275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346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195640" y="0"/>
            <a:ext cx="45748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rcRect l="3104" t="0" r="9203" b="17493"/>
          <a:stretch/>
        </p:blipFill>
        <p:spPr>
          <a:xfrm>
            <a:off x="0" y="0"/>
            <a:ext cx="9145440" cy="687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rcRect l="3537" t="0" r="0" b="10100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rcRect l="9055" t="0" r="2332" b="1115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627280" y="2666880"/>
            <a:ext cx="1054080" cy="15242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146480" y="2666880"/>
            <a:ext cx="851040" cy="15242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5435640" y="2666880"/>
            <a:ext cx="1320840" cy="15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124000" y="0"/>
            <a:ext cx="4834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195640" y="0"/>
            <a:ext cx="4635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268360" y="0"/>
            <a:ext cx="4570560" cy="688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-573120" y="0"/>
            <a:ext cx="103266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rcRect l="0" t="0" r="0" b="3801"/>
          <a:stretch/>
        </p:blipFill>
        <p:spPr>
          <a:xfrm>
            <a:off x="2173320" y="0"/>
            <a:ext cx="4797360" cy="6875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4T23:46:31Z</dcterms:created>
  <dc:creator/>
  <dc:description/>
  <dc:language>en-US</dc:language>
  <cp:lastModifiedBy/>
  <dcterms:modified xsi:type="dcterms:W3CDTF">2011-08-24T23:47:24Z</dcterms:modified>
  <cp:revision>1</cp:revision>
  <dc:subject/>
  <dc:title/>
</cp:coreProperties>
</file>