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EF72-416F-443A-B2F4-DC42AC73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F465-95A7-4021-A040-F03F3FAF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AB7-E1C5-4D16-B32D-3D892B54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FACE-A585-42DB-A230-2E5A0B62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BDD3-A38F-4133-BD40-30DCCDD3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6B3F-1396-48B3-9FBE-6C096A4D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768D-8BF9-477F-AF9C-8E6FA9FD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FE6C-E10C-4A2A-9F11-D6BF58D8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F7D7-4B95-4074-A143-881BFBB5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D316-BF30-4A7C-95CA-D94973BC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E6D7-A5AB-4DED-A896-0ACD2485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D1BA-7E3D-435F-B165-BAAB9210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B04B-E4FA-47F2-826D-19E09598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CBDB-DA11-44F6-A308-D21363CD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A45C-E267-4D85-856D-E16EE075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1D68-73AC-4989-90BF-E031019D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9888-C682-4E08-A0E1-F8C14FCE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CC3C-4186-4EE7-AF62-6354C34B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FE96-563D-452C-AC70-8898B514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8229-31A8-414A-9C76-8BEC3474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ED48-E222-4869-A5E3-D6B3F99C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E795-9E24-4211-BDDB-70A7D1E3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182B-F5ED-4147-A08F-60E46ECE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D0B6-87F4-4E34-A51B-93AF1863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3D53-5617-474E-8C2B-33AE3C62CAB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WordArt 8"/>
          <p:cNvSpPr txBox="1"/>
          <p:nvPr/>
        </p:nvSpPr>
        <p:spPr>
          <a:xfrm>
            <a:off x="8028000" y="0"/>
            <a:ext cx="1116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MISTER N</a:t>
            </a:r>
            <a:endParaRPr b="1" i="1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" name="WordArt 9"/>
          <p:cNvSpPr txBox="1"/>
          <p:nvPr/>
        </p:nvSpPr>
        <p:spPr>
          <a:xfrm>
            <a:off x="0" y="6669000"/>
            <a:ext cx="1908000" cy="2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MISTER N @ Produções.com</a:t>
            </a:r>
            <a:endParaRPr b="1" lang="en-US" sz="12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CEF7-9E35-4D4F-956D-D756B87CE84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WordArt 10"/>
          <p:cNvSpPr txBox="1"/>
          <p:nvPr/>
        </p:nvSpPr>
        <p:spPr>
          <a:xfrm>
            <a:off x="8028000" y="0"/>
            <a:ext cx="1116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MISTER N</a:t>
            </a:r>
            <a:endParaRPr b="1" i="1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9" name="WordArt 11"/>
          <p:cNvSpPr txBox="1"/>
          <p:nvPr/>
        </p:nvSpPr>
        <p:spPr>
          <a:xfrm>
            <a:off x="0" y="6669000"/>
            <a:ext cx="1908000" cy="2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MISTER N @ Produções.com</a:t>
            </a:r>
            <a:endParaRPr b="1" lang="en-US" sz="12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m 1" descr="clube-da-bolinha-segunda-rima-com-bund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m 1" descr="clube-da-bolinha-segunda-rima-com-bunda-10.jpg"/>
          <p:cNvPicPr/>
          <p:nvPr/>
        </p:nvPicPr>
        <p:blipFill>
          <a:blip r:embed="rId1"/>
          <a:stretch/>
        </p:blipFill>
        <p:spPr>
          <a:xfrm>
            <a:off x="2185920" y="0"/>
            <a:ext cx="47721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magem 1" descr="clube-da-bolinha-segunda-rima-com-bunda-11.jpg"/>
          <p:cNvPicPr/>
          <p:nvPr/>
        </p:nvPicPr>
        <p:blipFill>
          <a:blip r:embed="rId1"/>
          <a:stretch/>
        </p:blipFill>
        <p:spPr>
          <a:xfrm>
            <a:off x="2273400" y="0"/>
            <a:ext cx="45972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m 1" descr="clube-da-bolinha-segunda-rima-com-bunda-12.jpg"/>
          <p:cNvPicPr/>
          <p:nvPr/>
        </p:nvPicPr>
        <p:blipFill>
          <a:blip r:embed="rId1"/>
          <a:stretch/>
        </p:blipFill>
        <p:spPr>
          <a:xfrm>
            <a:off x="2193840" y="0"/>
            <a:ext cx="47563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m 1" descr="clube-da-bolinha-segunda-rima-com-bunda-13.jpg"/>
          <p:cNvPicPr/>
          <p:nvPr/>
        </p:nvPicPr>
        <p:blipFill>
          <a:blip r:embed="rId1"/>
          <a:stretch/>
        </p:blipFill>
        <p:spPr>
          <a:xfrm>
            <a:off x="2000160" y="0"/>
            <a:ext cx="51418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magem 1" descr="clube-da-bolinha-segunda-rima-com-bunda-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m 1" descr="clube-da-bolinha-segunda-rima-com-bunda-15.jpg"/>
          <p:cNvPicPr/>
          <p:nvPr/>
        </p:nvPicPr>
        <p:blipFill>
          <a:blip r:embed="rId1"/>
          <a:stretch/>
        </p:blipFill>
        <p:spPr>
          <a:xfrm>
            <a:off x="1486080" y="0"/>
            <a:ext cx="61704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Imagem 1" descr="clube-da-bolinha-segunda-rima-com-bunda-16.jpg"/>
          <p:cNvPicPr/>
          <p:nvPr/>
        </p:nvPicPr>
        <p:blipFill>
          <a:blip r:embed="rId1"/>
          <a:stretch/>
        </p:blipFill>
        <p:spPr>
          <a:xfrm>
            <a:off x="2000160" y="0"/>
            <a:ext cx="51418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m 1" descr="clube-da-bolinha-segunda-rima-com-bunda-17.jpg"/>
          <p:cNvPicPr/>
          <p:nvPr/>
        </p:nvPicPr>
        <p:blipFill>
          <a:blip r:embed="rId1"/>
          <a:stretch/>
        </p:blipFill>
        <p:spPr>
          <a:xfrm>
            <a:off x="0" y="390600"/>
            <a:ext cx="9144000" cy="60768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magem 1" descr="clube-da-bolinha-segunda-rima-com-bunda-18.jpg"/>
          <p:cNvPicPr/>
          <p:nvPr/>
        </p:nvPicPr>
        <p:blipFill>
          <a:blip r:embed="rId1"/>
          <a:stretch/>
        </p:blipFill>
        <p:spPr>
          <a:xfrm>
            <a:off x="2287440" y="0"/>
            <a:ext cx="45673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magem 1" descr="clube-da-bolinha-segunda-rima-com-bunda-19.jpg"/>
          <p:cNvPicPr/>
          <p:nvPr/>
        </p:nvPicPr>
        <p:blipFill>
          <a:blip r:embed="rId1"/>
          <a:stretch/>
        </p:blipFill>
        <p:spPr>
          <a:xfrm>
            <a:off x="0" y="398520"/>
            <a:ext cx="9144000" cy="60609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m 1" descr="clube-da-bolinha-segunda-rima-com-bunda-1.jpg"/>
          <p:cNvPicPr/>
          <p:nvPr/>
        </p:nvPicPr>
        <p:blipFill>
          <a:blip r:embed="rId1"/>
          <a:stretch/>
        </p:blipFill>
        <p:spPr>
          <a:xfrm>
            <a:off x="199692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magem 1" descr="clube-da-bolinha-segunda-rima-com-bunda-20.jpg"/>
          <p:cNvPicPr/>
          <p:nvPr/>
        </p:nvPicPr>
        <p:blipFill>
          <a:blip r:embed="rId1"/>
          <a:stretch/>
        </p:blipFill>
        <p:spPr>
          <a:xfrm>
            <a:off x="2000160" y="0"/>
            <a:ext cx="51418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m 1" descr="clube-da-bolinha-segunda-rima-com-bunda-21.jpg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12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agem 1" descr="clube-da-bolinha-segunda-rima-com-bunda-22.jpg"/>
          <p:cNvPicPr/>
          <p:nvPr/>
        </p:nvPicPr>
        <p:blipFill>
          <a:blip r:embed="rId1"/>
          <a:stretch/>
        </p:blipFill>
        <p:spPr>
          <a:xfrm>
            <a:off x="762120" y="0"/>
            <a:ext cx="76197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m 1" descr="clube-da-bolinha-segunda-rima-com-bunda-23.jpg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Imagem 1" descr="clube-da-bolinha-segunda-rima-com-bunda-24.jpg"/>
          <p:cNvPicPr/>
          <p:nvPr/>
        </p:nvPicPr>
        <p:blipFill>
          <a:blip r:embed="rId1"/>
          <a:stretch/>
        </p:blipFill>
        <p:spPr>
          <a:xfrm>
            <a:off x="2287440" y="0"/>
            <a:ext cx="45673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Imagem 1" descr="clube-da-bolinha-segunda-rima-com-bunda-25.jpg"/>
          <p:cNvPicPr/>
          <p:nvPr/>
        </p:nvPicPr>
        <p:blipFill>
          <a:blip r:embed="rId1"/>
          <a:stretch/>
        </p:blipFill>
        <p:spPr>
          <a:xfrm>
            <a:off x="2000160" y="0"/>
            <a:ext cx="51418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Imagem 1" descr="clube-da-bolinha-segunda-rima-com-bunda-27.jpg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12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magem 1" descr="clube-da-bolinha-segunda-rima-com-bunda-28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agem 1" descr="clube-da-bolinha-segunda-rima-com-bunda-29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Imagem 1" descr="clube-da-bolinha-segunda-rima-com-bunda-30.jpg"/>
          <p:cNvPicPr/>
          <p:nvPr/>
        </p:nvPicPr>
        <p:blipFill>
          <a:blip r:embed="rId1"/>
          <a:stretch/>
        </p:blipFill>
        <p:spPr>
          <a:xfrm>
            <a:off x="2292480" y="0"/>
            <a:ext cx="45576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m 1" descr="clube-da-bolinha-segunda-rima-com-bunda-3.jpg"/>
          <p:cNvPicPr/>
          <p:nvPr/>
        </p:nvPicPr>
        <p:blipFill>
          <a:blip r:embed="rId1"/>
          <a:stretch/>
        </p:blipFill>
        <p:spPr>
          <a:xfrm>
            <a:off x="2276640" y="0"/>
            <a:ext cx="45907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m 1" descr="clube-da-bolinha-segunda-rima-com-bunda-31.jpg"/>
          <p:cNvPicPr/>
          <p:nvPr/>
        </p:nvPicPr>
        <p:blipFill>
          <a:blip r:embed="rId1"/>
          <a:stretch/>
        </p:blipFill>
        <p:spPr>
          <a:xfrm>
            <a:off x="199692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m 1" descr="clube-da-bolinha-segunda-rima-com-bunda-4.jpg"/>
          <p:cNvPicPr/>
          <p:nvPr/>
        </p:nvPicPr>
        <p:blipFill>
          <a:blip r:embed="rId1"/>
          <a:stretch/>
        </p:blipFill>
        <p:spPr>
          <a:xfrm>
            <a:off x="0" y="360360"/>
            <a:ext cx="9144000" cy="61358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m 1" descr="clube-da-bolinha-segunda-rima-com-bunda-5.jpg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12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agem 1" descr="clube-da-bolinha-segunda-rima-com-bunda-6.jpg"/>
          <p:cNvPicPr/>
          <p:nvPr/>
        </p:nvPicPr>
        <p:blipFill>
          <a:blip r:embed="rId1"/>
          <a:stretch/>
        </p:blipFill>
        <p:spPr>
          <a:xfrm>
            <a:off x="2425680" y="0"/>
            <a:ext cx="42912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m 1" descr="clube-da-bolinha-segunda-rima-com-bunda-7.jpg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12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agem 1" descr="clube-da-bolinha-segunda-rima-com-bunda-8.jpg"/>
          <p:cNvPicPr/>
          <p:nvPr/>
        </p:nvPicPr>
        <p:blipFill>
          <a:blip r:embed="rId1"/>
          <a:stretch/>
        </p:blipFill>
        <p:spPr>
          <a:xfrm>
            <a:off x="0" y="574560"/>
            <a:ext cx="9144000" cy="57070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agem 1" descr="clube-da-bolinha-segunda-rima-com-bunda-9.jpg"/>
          <p:cNvPicPr/>
          <p:nvPr/>
        </p:nvPicPr>
        <p:blipFill>
          <a:blip r:embed="rId1"/>
          <a:stretch/>
        </p:blipFill>
        <p:spPr>
          <a:xfrm>
            <a:off x="0" y="574560"/>
            <a:ext cx="9144000" cy="57070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3T23:13:50Z</dcterms:created>
  <dc:creator>MISTER N</dc:creator>
  <dc:description>PODEM REPASSAR , MAS O FAÇAM SEM MODIFICAR OS SLIDES , GRATO . NUNES.</dc:description>
  <dc:language>en-US</dc:language>
  <cp:lastModifiedBy>Cesar</cp:lastModifiedBy>
  <dcterms:modified xsi:type="dcterms:W3CDTF">2018-05-11T00:15:46Z</dcterms:modified>
  <cp:revision>31</cp:revision>
  <dc:subject/>
  <dc:title>(N) IMAGEM DO JAPÃO_P</dc:title>
</cp:coreProperties>
</file>