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9B5-82C7-4333-84C2-8B9313A4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587-6525-48C5-AC0A-DCDAA3A5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1A6-593F-4358-B46C-41DDF9BE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1AB-D57A-441D-8F0B-F177E13E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F40-20C4-422B-853C-B319B6D0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464-FA17-4519-A332-BC920B3B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6CF-D85B-40F6-B61C-69CF75AD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446-4F93-4C80-9DEE-55F926D6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032-6A43-4CC7-B3F0-D9A6BED5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552-02A7-4ED8-9C42-24E65042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290-F463-4740-9B8F-2F865DD7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6AA-350F-4CD2-BE11-B3178119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CE07-EBD2-4186-9E5D-B5FC1FD84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0920" y="-243000"/>
            <a:ext cx="474984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95640" y="-243000"/>
            <a:ext cx="484812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50920" y="-171360"/>
            <a:ext cx="470232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95640" y="-171360"/>
            <a:ext cx="470376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79640" y="-128520"/>
            <a:ext cx="4675320" cy="6986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73240" y="-243000"/>
            <a:ext cx="475128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684360" y="-12600"/>
            <a:ext cx="10441080" cy="6929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50920" y="-819000"/>
            <a:ext cx="5137200" cy="7677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612720" y="-12600"/>
            <a:ext cx="10369440" cy="6881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51200" y="-603360"/>
            <a:ext cx="4992480" cy="7461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8000" y="-388800"/>
            <a:ext cx="4848480" cy="7246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50920" y="-631800"/>
            <a:ext cx="5011920" cy="7489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-171360"/>
            <a:ext cx="4807080" cy="7184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8000" y="371520"/>
            <a:ext cx="9036000" cy="6043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835280" y="-415800"/>
            <a:ext cx="4867200" cy="727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10298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73240" y="-458640"/>
            <a:ext cx="4894200" cy="7316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612720" y="-14400"/>
            <a:ext cx="10225080" cy="6872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8000" y="-387360"/>
            <a:ext cx="4962600" cy="7418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95640" y="-344520"/>
            <a:ext cx="4817880" cy="720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0920" y="-677880"/>
            <a:ext cx="5042160" cy="7535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5957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5:07:31Z</dcterms:created>
  <dc:creator/>
  <dc:description/>
  <dc:language>en-US</dc:language>
  <cp:lastModifiedBy>aescobar</cp:lastModifiedBy>
  <dcterms:modified xsi:type="dcterms:W3CDTF">2008-05-20T15:26:53Z</dcterms:modified>
  <cp:revision>4</cp:revision>
  <dc:subject/>
  <dc:title/>
</cp:coreProperties>
</file>