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E70-5D2B-478D-BD73-F7E71E63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5A3-2E6B-419D-83AF-04F75069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7CD-CB85-4973-8447-2F17DCC7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FF8-4148-4755-B678-42AC6151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9CB-9D8C-40AE-80EA-3C7DBEDD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44D-3D50-47F8-A4B9-BDD20581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3F7-C566-445D-9831-6A2C76D3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43D-8B5F-49A3-9617-72ACAF41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738-CC96-4021-9DF4-2C624436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B27-F734-421F-BE78-429FEA31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BDA-C31E-4FC0-8D9E-0AF0E80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358-FA9A-44E1-8CC8-833666DE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FD1-B8CC-4E58-965B-17E8DC0B5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96720" y="620640"/>
            <a:ext cx="9753480" cy="650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65440" y="-1681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Loi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609480" y="620640"/>
            <a:ext cx="975348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24000" y="549360"/>
            <a:ext cx="975384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24000" y="620640"/>
            <a:ext cx="975384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96720" y="620640"/>
            <a:ext cx="975348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58920" y="-1467000"/>
            <a:ext cx="6505560" cy="975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09480" y="549360"/>
            <a:ext cx="975348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00" y="549360"/>
            <a:ext cx="975384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609480" y="620640"/>
            <a:ext cx="975348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24000" y="692280"/>
            <a:ext cx="975384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24000" y="692280"/>
            <a:ext cx="975384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609480" y="620640"/>
            <a:ext cx="975348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24000" y="620640"/>
            <a:ext cx="975384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81080" y="692280"/>
            <a:ext cx="975384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00" y="692280"/>
            <a:ext cx="975384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96720" y="620640"/>
            <a:ext cx="975348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609480" y="620640"/>
            <a:ext cx="975348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96720" y="765000"/>
            <a:ext cx="9753480" cy="650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24000" y="549360"/>
            <a:ext cx="9753840" cy="650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21:43:01Z</dcterms:created>
  <dc:creator>Helder</dc:creator>
  <dc:description/>
  <dc:language>en-US</dc:language>
  <cp:lastModifiedBy>Arismar</cp:lastModifiedBy>
  <dcterms:modified xsi:type="dcterms:W3CDTF">2018-01-31T08:34:46Z</dcterms:modified>
  <cp:revision>4</cp:revision>
  <dc:subject/>
  <dc:title>Slide 1</dc:title>
</cp:coreProperties>
</file>