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460-AFA6-40DC-B9BA-2996A07A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EB4-6EBB-4AC2-91F1-B4071CBC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01E-2601-4DA6-A32B-D2ABCA9C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693-9191-4177-92EB-7B8CC117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D59-7C5D-447C-8811-AFDD4461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EC3-9948-48CC-8F7D-3E1C699F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572-FEC4-44A0-9031-9FDF4BE2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BCC-1F49-44FE-AE58-67A63B9F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D5A-FFD3-4326-86E6-DBBB081C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C82-B4F4-4095-9378-3DC2FE05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55F-75C7-4EEC-AF44-A719281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D54-6AAE-47A4-B2D6-ED152694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DC7B-D32B-4171-A65C-E69D26D16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701360"/>
            <a:ext cx="8207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600" spc="-1" strike="noStrike">
                <a:solidFill>
                  <a:srgbClr val="00ff00"/>
                </a:solidFill>
                <a:latin typeface="Arial"/>
              </a:rPr>
              <a:t>PERFECCIÓN</a:t>
            </a:r>
            <a:br>
              <a:rPr sz="9600"/>
            </a:br>
            <a:r>
              <a:rPr b="1" lang="es-MX" sz="9600" spc="-1" strike="noStrike">
                <a:solidFill>
                  <a:srgbClr val="00ff00"/>
                </a:solidFill>
                <a:latin typeface="Arial"/>
              </a:rPr>
              <a:t> ERÓTIC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72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37680" y="6021360"/>
            <a:ext cx="51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ff00"/>
                </a:solidFill>
                <a:latin typeface="Arial"/>
              </a:rPr>
              <a:t>Disfrútalo cambiando las imágenes muy d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79772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-125100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82821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83055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0"/>
            <a:ext cx="40384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Midnigh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Not a sound from the pavemen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Has the moon lost her memory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She is smiling alone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n the lampligh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The withered leaves collect at my fee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nd the wind begins to moa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Memory, all alone in the moonligh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 can dream of the old day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Life was beautiful the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 remember the time I knew what happiness wa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Let the memory live agai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Every street lamp seems to bea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 fatalistic warning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Someone mutters and the street lamp sputter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Soon it will be morning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Dayligh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 must wait for the sunrise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 must think of a new life and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 mustn't give i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When the dawn come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Tonight will be a memory too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nd a new day will begi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Burnt out ends of smoky day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The stale court smell of morning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 street lamp die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nother night is over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nother day is dawning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Touch me,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t is so easy to leave me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ll alone with the memory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Of my days in the su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f you'll touch me,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You'll understand what happiness i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Look, a new day has begu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1680" y="95400"/>
            <a:ext cx="4000320" cy="6667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10280" y="65530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Verdana"/>
              </a:rPr>
              <a:t>Press ‘ESC’ to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2:01:50Z</dcterms:created>
  <dc:creator> </dc:creator>
  <dc:description/>
  <dc:language>en-US</dc:language>
  <cp:lastModifiedBy>juan carlos</cp:lastModifiedBy>
  <dcterms:modified xsi:type="dcterms:W3CDTF">2007-05-03T10:10:37Z</dcterms:modified>
  <cp:revision>5</cp:revision>
  <dc:subject/>
  <dc:title>PERFECCIÓN  ERÓTICA</dc:title>
</cp:coreProperties>
</file>