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Strei3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6C0-9EBE-4B40-B043-54E8F05F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86F-4012-4310-ADD4-52DDE6F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7BA-322A-44A0-BD2B-B465F710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221-E11A-4F1B-930F-955B272B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7DE4-5802-46EA-9717-4E53A481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2F1C7-644F-461C-9145-2144C5F6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62CEA-672D-4416-8917-7D43DB7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DD6CD-849A-465D-B149-7C4A3262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3795E-FC6C-4A17-AF75-BA46F6E8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24CA4-9FB1-4C44-8F24-97F19328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61A72-9B57-4B1D-A748-76DED2A0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7A4-A082-4971-9E58-29C53959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7B716-5917-4F48-9251-C5F3B6F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8451A-974D-43E7-89A4-890AE10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69C4-7015-4341-9795-01DF27FF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333F-1A88-4534-AD5E-B4C91281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1DE0A-6146-40CB-B7D3-B1B59313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4D9-212D-4A44-B67D-4449C0A4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C31-1886-48DC-8461-E1D6BB49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56F-EBDB-442D-A724-EEBE1D22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929-3640-4973-AEAD-BF125440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E79-826E-47BD-AA76-E8774FA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718-77FA-4B6E-B87B-79277EB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E06-0B03-409D-A497-9136D7F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7D7F-F972-4915-BC2C-90E50256D96D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1C6-AC70-4483-9ACD-F70F87527864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trei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234936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ahoma"/>
              </a:rPr>
              <a:t>Η            ΑΓΟΥΡΟΞΥΠΝΗΜΕΝ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fade/>
    <p:sndAc>
      <p:stSnd>
        <p:snd r:embed="rId2" name="Strei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14400" y="-1447920"/>
            <a:ext cx="7315200" cy="975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-1447920"/>
            <a:ext cx="7315200" cy="975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55640" y="234936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ahoma"/>
              </a:rPr>
              <a:t>Τ Ε Λ Ο 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-1447920"/>
            <a:ext cx="7315200" cy="975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07:03Z</dcterms:created>
  <dc:creator>mkircali</dc:creator>
  <dc:description/>
  <dc:language>en-US</dc:language>
  <cp:lastModifiedBy>giannisk</cp:lastModifiedBy>
  <dcterms:modified xsi:type="dcterms:W3CDTF">2006-11-15T10:31:48Z</dcterms:modified>
  <cp:revision>13</cp:revision>
  <dc:subject/>
  <dc:title>Slide 1</dc:title>
</cp:coreProperties>
</file>