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2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72.jpeg" ContentType="image/jpeg"/>
  <Override PartName="/ppt/media/image19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ridimensionarta%20bellissima1.wav" ContentType="audio/x-wav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4E08-1EEE-41BD-807F-DE6BBB27D0D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BF4E-5D92-4169-8F78-B27234A5FF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F67-1AF5-4798-9984-A7D0730C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EB0-3CE2-4348-A81F-817003A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9A8-CE58-4D47-96D5-08792B87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06E-D591-4997-8E7C-E527E80D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2AB-5F7B-43DA-8F81-D99355CB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DA4-9618-499E-83DD-FADE32D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101-ADEA-4C4D-823A-B66E793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824-9195-4FB6-8084-63C56390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830-A5BE-4287-8AE5-A4B44EC6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4EA-BB8E-4538-8411-C72098C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843-E1CA-4306-8B58-B9DCC0C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448-808D-491D-8AA3-C825321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909-8ED5-4A29-8B42-7D40A9B2973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dimensionarta%20bellissima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aec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332000" y="1916280"/>
            <a:ext cx="5638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!! PARA QUEM GOSTA DE ARTE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08360" y="4581360"/>
            <a:ext cx="96192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0 slid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00560" y="3182760"/>
            <a:ext cx="234288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utomático - com so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8000">
    <p:fade/>
    <p:sndAc>
      <p:stSnd>
        <p:snd r:embed="rId1" name="ridimensionarta%20bellissima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andra\Desktop\Immagine26dd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andra\Desktop\Immagine26d.jpg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Sandra\Desktop\Immagine28cv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Sandra\Desktop\Immagine28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Rettangolo 3"/>
          <p:cNvSpPr/>
          <p:nvPr/>
        </p:nvSpPr>
        <p:spPr>
          <a:xfrm>
            <a:off x="1143000" y="57168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Sandra\Desktop\Immagine3ccccccccccccc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Sandra\Desktop\Immaginnnnnnnnnnnne3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Sandra\Desktop\w3f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andra\Desktop\w3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Sandra\Desktop\Immagine27d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Sandra\Desktop\Immagine27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andra\Desktop\Immagine34vv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Sandra\Desktop\Immagine34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Sandra\Desktop\Immagine30f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Sandra\Desktop\Immagine30v.jpg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Users\Sandra\Desktop\Immagine2nnnnnn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Sandra\Desktop\Immagine2.jpg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andra\Desktop\Immagine1d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andra\Desktop\Immagine1f.jpg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Sandra\Desktop\ww5vvvvvvvvvvvv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Sandra\Desktop\ww5hhhhhhhhhhhh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ttangolo 3"/>
          <p:cNvSpPr/>
          <p:nvPr/>
        </p:nvSpPr>
        <p:spPr>
          <a:xfrm>
            <a:off x="714240" y="142920"/>
            <a:ext cx="78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dentro i colori albeggiano nuove imbarcazioni ormeggi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Sandra\Desktop\Immagine35cx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Sandra\Desktop\Immagine35x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Sandra\Desktop\Immagine2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Sandra\Desktop\Immagine20zz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Sandra\Desktop\www2t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Sandra\Desktop\ww6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Sandra\Desktop\ww6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Sandra\Desktop\Immagine1nnnn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Sandra\Desktop\Immagine1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Sandra\Desktop\Immagine37ff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Sandra\Desktop\Immagine37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Sandra\Desktop\Immagine23s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Sandra\Desktop\Immagine23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andra\Desktop\Immagine38vvv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andra\Desktop\Immagine38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Sandra\Desktop\www5d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Sandra\Desktop\www5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8040" cy="7227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Sandra\Desktop\Immagine3nnn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Sandra\Desktop\Immagine3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ttangolo 3"/>
          <p:cNvSpPr/>
          <p:nvPr/>
        </p:nvSpPr>
        <p:spPr>
          <a:xfrm>
            <a:off x="0" y="2858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0861560" cy="723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Sandra\Desktop\www4g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andra\Desktop\www4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Sandra\Desktop\wwww1g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Sandra\Desktop\wwww1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8040" cy="7227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Sandra\Desktop\Immagine19cc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Sandra\Desktop\Immagine19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aec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086360" y="2797200"/>
            <a:ext cx="9712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M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Sandra\Desktop\Immagine36a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Sandra\Desktop\Immagine36aa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Sandra\Desktop\Immagine31x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Sandra\Desktop\Immagine31s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10861560" cy="723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5:22:45Z</dcterms:created>
  <dc:creator>Sandra</dc:creator>
  <dc:description/>
  <dc:language>en-US</dc:language>
  <cp:lastModifiedBy>Personal</cp:lastModifiedBy>
  <dcterms:modified xsi:type="dcterms:W3CDTF">2011-02-18T12:11:01Z</dcterms:modified>
  <cp:revision>38</cp:revision>
  <dc:subject/>
  <dc:title>Diapositiva 1</dc:title>
</cp:coreProperties>
</file>