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7E8-A781-4830-8716-9060F500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CAE-F011-4E3D-AEC7-56D28EA6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F795-7F0C-47CD-81F2-C6B46E17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7C7A-B4E4-47F1-983A-9037F405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11230-E574-47EB-B0AF-65601679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E5DD-71AB-422D-B4D6-6D767FB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4A3C6-7C91-4CAB-8567-0249D54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46C74-0507-45C7-995F-3950D62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AC732-8A3A-44F0-BF36-3012E66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8722-6A0D-428A-B12A-0A737CF4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35936-035B-4AA2-96F5-C186AE69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BF65B-7FBC-4CA5-83DA-CDDBE497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0AB-A5C0-491F-B8D7-CC9ECA14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742F7-227D-4E46-B9E2-9A4E88A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80ED-E166-4318-BD3A-EBCBBCC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392D3-F4A2-46F6-84E7-E823C58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DAB6-6334-4FF8-9A38-D8FDC61D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D3710-2C76-4AD1-A2A7-CEC2CDB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F3A84-3B24-4E0D-BC2D-469B82A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0D1E7-9E3D-469F-AE32-98BD724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29A3C-6570-419F-BD15-C21ED83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929A1-45EE-4A76-9238-BD498E8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F2D2B-E285-40BE-900D-1C12E93E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B5-03DB-412E-B2A5-CAC2BD43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21BC-3A91-469E-AB71-ED79F729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03189-6D5E-4682-884F-A8034B0E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B7F9-8313-4CDD-BCBE-BE4F138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F198C-0759-40ED-8D77-FAEE3A0C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02FF6-4AE6-4FE8-8A7E-AD89E4A1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FA4BA-CCF0-4153-942E-AC38F9C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EED2E-629A-4D81-9F65-2CB7191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B371-B52D-4990-A0EA-41F2A02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1E1EA-D3D6-4049-8221-0F8FF28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7B1C-195B-4673-9307-A25C073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45D-2B5F-4EB0-AA33-B54A279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8EA32-B6F6-4E74-BE90-DBD7D39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63161-094F-42AF-8CA8-7FA2EFA6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16C8A-CDC9-4C96-886E-4D7196C4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755E8-8A4A-402B-A97C-65FBF682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9E8B2-4708-44EA-B4B1-4700D26B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EE763-EA40-4960-B925-C8CC07D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057FC-D340-431C-9B6F-37C4C1DB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DBA54-CF72-416B-BB88-292074E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7CF1C-3A75-4F43-BF14-FC2D7BA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85571-12CB-4B8C-A554-F30CAE87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F859-9EFE-4046-B9F0-B3B8737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1F15-1991-4233-9824-09438F2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E7B30-27DE-418C-9323-D05B47D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EF482-B4A3-443E-A8AB-BAF9BBEB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52AD-C8E6-41CC-AC04-BFF86B9D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837F6-8F63-4429-97D5-0D83F2B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663D-B3E6-47FF-96A4-4EF8F4D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EFF-C252-4EB6-9FD7-05E1917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532-CBFA-461E-A98E-F0F7E9E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9CB-8E31-4D1F-984D-8992AE9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43D-2104-43BE-B5DB-C691C44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82E-C1E8-4DC5-86E2-5500465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8AA6-6227-437F-8E96-E9F72EC0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977-189D-46B5-A354-8FAD385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927B-5C53-415C-B8EA-030CE6C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CB5-8681-4C29-8112-86D5CCB2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DE4-CBF7-4859-9205-00D6D38A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5B3D-9E2C-4709-BAF1-2D6F7C00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74BA-33E0-4661-8FB0-6C9AD7D2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5D04-FD2B-49C5-A9F8-F298D4D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8F00-909C-486C-87E3-F189F07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E514-0B56-4D82-829D-16F2033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23D-A214-4C9C-A389-E191750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56EB-A998-4B71-921A-C2FA587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3A61-BE17-4790-8ADC-D74B02C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1D75-0989-41EE-86A5-2E626D9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58B6-2EEE-4D8F-B84C-F78D27D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D0FD-4AF8-4446-A896-80FC4F65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C588-4CFF-4251-A029-83C8B4AD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3195-867C-45D4-BDA1-58B5C485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0332-D234-4CE7-8257-0121EF0F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5F23-D194-4CBB-8BE7-EF3E8BD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7FEF-953B-47A2-A4DB-94336028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667-3272-4243-A144-C3683776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AF94-14C9-45F3-9549-4A96BE6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C65C-391A-4F24-BF46-17D8DF63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A8FA-1F50-4E9D-9B7B-0865F61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0CD8-69FB-4F16-A606-F71A246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64BA-9BA9-4ABB-9A69-E355281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7DCB-4560-4C9F-B8B9-6F865640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CA80-EC26-42F6-95B5-23FCEB0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FBB4-0D3F-4B97-9F76-26D282D1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C45F-8ED5-45AB-89EC-8B2B9593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69B4-F1FA-4561-9568-E4308DA7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6F9-51B0-466D-A37E-1EDE9F55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6999-CFB9-469A-B7AC-FEF3EE7F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3BD4C-4FBA-4A8F-8B1D-52096D91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BD3C-716C-47F4-AEF7-61A0F72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2D60-70CF-4564-A2CD-3A0722D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F18F-4575-4619-9B23-060BE6C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301E-4882-4424-AE9B-A25E122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EDA5-CBD7-4D3B-9435-C2F8EA4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F7EF6-78FE-4AD5-BFC2-727C50FA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385D-5E3F-43A3-8181-ABE735A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2D25-0EF3-4A12-A71F-A405EDE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A5F-A9AE-4CF4-87EF-A4156AA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9442-0B8F-41E6-98FF-C62C1B3B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153E-0EB9-4360-A624-6064232B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E06D-94D0-40FA-94E2-104F64B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6BA6-AA91-450B-8E4D-E8B4517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8C45-D653-4880-8187-789DAB2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4481-F30D-4578-9507-F62EDFE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2EDD-1624-4BEB-9110-076A1019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EE1C-18E1-4BF3-91D8-1FDEC02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CC77-2F73-4F9F-A864-DF48926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806C-783B-49B6-AEAB-9751CEB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FBD-1388-438F-9B3F-59631FF9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E63D-DCBE-4091-8816-7402C17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6D73-D3FD-49AC-A04C-16605A0E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EBA6-04C8-4029-B1C7-080E6170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FA5D-D3DA-4EEC-B5C7-B13C2F9E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CA51-B09A-4596-9FFE-B091468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184A-C2C5-4E0D-AC4C-A56B16B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79DF-0155-4321-8F50-7B7E5116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1054-13AC-482F-840F-287B817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0B4CF-5654-4BAC-85CF-EBB87285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4AEE-E97A-4F45-811C-133B77C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BEA-FA38-41A7-9AC7-18414A7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3F04-D77A-4F71-AE13-6EDBDC0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0CE4-740E-4559-9241-E47B505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76B9-DB59-4F54-8A89-E945B04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510E4-E487-4542-928F-21112FA0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1D3F3-F944-4743-95AF-A94E7528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44DC-F2CF-427A-A514-4AFB572C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2D21-B5AB-42C6-88B8-FF81CED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0D1A-2204-4B8A-899D-41D256B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444DF-54E5-4487-AA94-6AD6EE3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0FB7-8C96-4D1A-A1CF-D24FD6B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1D7-83F7-4DFD-BCA6-D1956AB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FEADB-96A0-4F9B-9BA6-A859286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1F61-D0A6-4611-A2A4-C3E1AB4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2B1E-EA31-447A-9EC3-9710EDC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9869-D6EB-42C1-923E-9BF5F64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887E-8F53-4322-B517-D091769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21FD-3C82-49B6-8760-790DD868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30DD-9FCF-47DA-9269-A27C962A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B285-761D-44F9-AC34-D4593AAF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C453-6A17-469C-9652-90BC76B0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FDFB-E1C9-4A11-BF77-7FE6896F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851-9AC1-48CC-B504-E39D994C6E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fondo azu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55A-CF23-4D6C-A733-D5697E4D9C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BE1-AA33-41D3-9873-6AF0570AFD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69E-25A2-4060-9BAC-5A1E8C9C6A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436A-A219-420E-81F5-02D197EAE8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06E-5FD0-4E2D-BC93-247DD9C050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8FF-887D-4FBE-90AB-215E5F6E6C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B463-D543-4DAF-9897-8149788DA7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E3A-47B2-4B5B-940D-1F2FDB1833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5F3C-2BCE-42FC-8F7B-867FFCF991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5CF-0045-45C8-AC1D-EDE0E4D361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658B-BE93-4BC7-A8B3-61340CCA7E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161549"/>
          <p:cNvPicPr/>
          <p:nvPr/>
        </p:nvPicPr>
        <p:blipFill>
          <a:blip r:embed="rId1"/>
          <a:stretch/>
        </p:blipFill>
        <p:spPr>
          <a:xfrm>
            <a:off x="169236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Oval 5"/>
          <p:cNvSpPr/>
          <p:nvPr/>
        </p:nvSpPr>
        <p:spPr>
          <a:xfrm>
            <a:off x="3479760" y="1523880"/>
            <a:ext cx="21589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5"/>
          <p:cNvSpPr/>
          <p:nvPr/>
        </p:nvSpPr>
        <p:spPr>
          <a:xfrm>
            <a:off x="1763640" y="260280"/>
            <a:ext cx="53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AMOSA PATA DE CAMELO NAS MUL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6"/>
          <p:cNvSpPr/>
          <p:nvPr/>
        </p:nvSpPr>
        <p:spPr>
          <a:xfrm>
            <a:off x="4716360" y="558972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Aprenda o que é “Pata de Camelo” nas mulhere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A Globalplayer® en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ba_spin_480"/>
          <p:cNvPicPr/>
          <p:nvPr/>
        </p:nvPicPr>
        <p:blipFill>
          <a:blip r:embed="rId1"/>
          <a:stretch/>
        </p:blipFill>
        <p:spPr>
          <a:xfrm>
            <a:off x="0" y="98280"/>
            <a:ext cx="5197320" cy="6661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cba_spin_480"/>
          <p:cNvPicPr/>
          <p:nvPr/>
        </p:nvPicPr>
        <p:blipFill>
          <a:blip r:embed="rId2"/>
          <a:srcRect l="24943" t="50408" r="26566" b="19322"/>
          <a:stretch/>
        </p:blipFill>
        <p:spPr>
          <a:xfrm>
            <a:off x="4599000" y="1611360"/>
            <a:ext cx="4545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234"/>
          <p:cNvPicPr/>
          <p:nvPr/>
        </p:nvPicPr>
        <p:blipFill>
          <a:blip r:embed="rId1"/>
          <a:stretch/>
        </p:blipFill>
        <p:spPr>
          <a:xfrm>
            <a:off x="198108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755"/>
          <p:cNvPicPr/>
          <p:nvPr/>
        </p:nvPicPr>
        <p:blipFill>
          <a:blip r:embed="rId1"/>
          <a:stretch/>
        </p:blipFill>
        <p:spPr>
          <a:xfrm>
            <a:off x="2239920" y="-76320"/>
            <a:ext cx="460368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330"/>
          <p:cNvPicPr/>
          <p:nvPr/>
        </p:nvPicPr>
        <p:blipFill>
          <a:blip r:embed="rId1"/>
          <a:stretch/>
        </p:blipFill>
        <p:spPr>
          <a:xfrm>
            <a:off x="219564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9809"/>
          <p:cNvPicPr/>
          <p:nvPr/>
        </p:nvPicPr>
        <p:blipFill>
          <a:blip r:embed="rId1"/>
          <a:stretch/>
        </p:blipFill>
        <p:spPr>
          <a:xfrm>
            <a:off x="0" y="544680"/>
            <a:ext cx="91440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CaixaDeTexto 2"/>
          <p:cNvSpPr/>
          <p:nvPr/>
        </p:nvSpPr>
        <p:spPr>
          <a:xfrm>
            <a:off x="1763640" y="213372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Exiba você também com orgulho s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Pata de Camel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... mas se vc não tiv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398"/>
          <p:cNvPicPr/>
          <p:nvPr/>
        </p:nvPicPr>
        <p:blipFill>
          <a:blip r:embed="rId1"/>
          <a:stretch/>
        </p:blipFill>
        <p:spPr>
          <a:xfrm>
            <a:off x="457200" y="0"/>
            <a:ext cx="83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Holidayphotos"/>
          <p:cNvPicPr/>
          <p:nvPr/>
        </p:nvPicPr>
        <p:blipFill>
          <a:blip r:embed="rId1"/>
          <a:stretch/>
        </p:blipFill>
        <p:spPr>
          <a:xfrm>
            <a:off x="152280" y="4680"/>
            <a:ext cx="8686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I:\Copiar a DVD\70-DVD-Descargas\6\1-Imagenes\U1345P28T3D1791685F326DT20071114144537.jpg"/>
          <p:cNvPicPr/>
          <p:nvPr/>
        </p:nvPicPr>
        <p:blipFill>
          <a:blip r:embed="rId1"/>
          <a:stretch/>
        </p:blipFill>
        <p:spPr>
          <a:xfrm>
            <a:off x="2521080" y="0"/>
            <a:ext cx="410184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08160" y="7621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I:\Copiar a DVD\70-DVD-Descargas\6\1-Imagenes\Coco-cameltoepu8.jpg"/>
          <p:cNvPicPr/>
          <p:nvPr/>
        </p:nvPicPr>
        <p:blipFill>
          <a:blip r:embed="rId1"/>
          <a:stretch/>
        </p:blipFill>
        <p:spPr>
          <a:xfrm>
            <a:off x="296064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527400" y="504720"/>
            <a:ext cx="221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famo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se l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co y ens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upo 3"/>
          <p:cNvGrpSpPr/>
          <p:nvPr/>
        </p:nvGrpSpPr>
        <p:grpSpPr>
          <a:xfrm>
            <a:off x="90360" y="426960"/>
            <a:ext cx="8963280" cy="6004080"/>
            <a:chOff x="90360" y="426960"/>
            <a:chExt cx="8963280" cy="6004080"/>
          </a:xfrm>
        </p:grpSpPr>
        <p:pic>
          <p:nvPicPr>
            <p:cNvPr id="498" name="Picture 4" descr="9048"/>
            <p:cNvPicPr/>
            <p:nvPr/>
          </p:nvPicPr>
          <p:blipFill>
            <a:blip r:embed="rId1"/>
            <a:srcRect l="12943" t="0" r="0" b="0"/>
            <a:stretch/>
          </p:blipFill>
          <p:spPr>
            <a:xfrm>
              <a:off x="90360" y="426960"/>
              <a:ext cx="5013720" cy="60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" descr="1507"/>
            <p:cNvPicPr/>
            <p:nvPr/>
          </p:nvPicPr>
          <p:blipFill>
            <a:blip r:embed="rId2"/>
            <a:stretch/>
          </p:blipFill>
          <p:spPr>
            <a:xfrm>
              <a:off x="4298400" y="426960"/>
              <a:ext cx="4755240" cy="600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1fa82e86428b922730f68991822f8ff4"/>
          <p:cNvPicPr/>
          <p:nvPr/>
        </p:nvPicPr>
        <p:blipFill>
          <a:blip r:embed="rId1"/>
          <a:srcRect l="30001" t="11130" r="16664" b="5513"/>
          <a:stretch/>
        </p:blipFill>
        <p:spPr>
          <a:xfrm>
            <a:off x="2195640" y="0"/>
            <a:ext cx="4608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I:\Copiar a DVD\70-DVD-Descargas\6\1-Imagenes\cameltoe_02.jpg"/>
          <p:cNvPicPr/>
          <p:nvPr/>
        </p:nvPicPr>
        <p:blipFill>
          <a:blip r:embed="rId1"/>
          <a:stretch/>
        </p:blipFill>
        <p:spPr>
          <a:xfrm>
            <a:off x="2000160" y="-9360"/>
            <a:ext cx="514368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camiseta"/>
          <p:cNvPicPr/>
          <p:nvPr/>
        </p:nvPicPr>
        <p:blipFill>
          <a:blip r:embed="rId1"/>
          <a:stretch/>
        </p:blipFill>
        <p:spPr>
          <a:xfrm>
            <a:off x="684360" y="1111320"/>
            <a:ext cx="7704000" cy="5746680"/>
          </a:xfrm>
          <a:prstGeom prst="rect">
            <a:avLst/>
          </a:prstGeom>
          <a:ln w="0">
            <a:noFill/>
          </a:ln>
        </p:spPr>
      </p:pic>
      <p:sp>
        <p:nvSpPr>
          <p:cNvPr id="524" name="CaixaDeTexto 2"/>
          <p:cNvSpPr/>
          <p:nvPr/>
        </p:nvSpPr>
        <p:spPr>
          <a:xfrm>
            <a:off x="468360" y="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ticipe do nosso concur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mande já a foto de sua “Pata de Came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CaixaDeTexto 2"/>
          <p:cNvSpPr/>
          <p:nvPr/>
        </p:nvSpPr>
        <p:spPr>
          <a:xfrm>
            <a:off x="0" y="692280"/>
            <a:ext cx="30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tic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o nosso concur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ô nessa -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Imagem 3" descr="anaivanovic_efe  olha a minha musa, aí....jpg"/>
          <p:cNvPicPr/>
          <p:nvPr/>
        </p:nvPicPr>
        <p:blipFill>
          <a:blip r:embed="rId1"/>
          <a:srcRect l="17081" t="0" r="15862" b="0"/>
          <a:stretch/>
        </p:blipFill>
        <p:spPr>
          <a:xfrm>
            <a:off x="3411360" y="189000"/>
            <a:ext cx="5732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CaixaDeTexto 2"/>
          <p:cNvSpPr/>
          <p:nvPr/>
        </p:nvSpPr>
        <p:spPr>
          <a:xfrm>
            <a:off x="0" y="69228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Imagem 4" descr="20080623-71361-1.jpg"/>
          <p:cNvPicPr/>
          <p:nvPr/>
        </p:nvPicPr>
        <p:blipFill>
          <a:blip r:embed="rId1"/>
          <a:stretch/>
        </p:blipFill>
        <p:spPr>
          <a:xfrm>
            <a:off x="2075040" y="98280"/>
            <a:ext cx="499392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Imagem 5" descr="image003.jpg"/>
          <p:cNvPicPr/>
          <p:nvPr/>
        </p:nvPicPr>
        <p:blipFill>
          <a:blip r:embed="rId1"/>
          <a:stretch/>
        </p:blipFill>
        <p:spPr>
          <a:xfrm>
            <a:off x="2000160" y="98280"/>
            <a:ext cx="49942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Imagem 2" descr="maravilhosa....jpg"/>
          <p:cNvPicPr/>
          <p:nvPr/>
        </p:nvPicPr>
        <p:blipFill>
          <a:blip r:embed="rId1"/>
          <a:srcRect l="14631" t="30804" r="0" b="0"/>
          <a:stretch/>
        </p:blipFill>
        <p:spPr>
          <a:xfrm>
            <a:off x="1901880" y="189000"/>
            <a:ext cx="53402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Imagem 3" descr="24.jpg"/>
          <p:cNvPicPr/>
          <p:nvPr/>
        </p:nvPicPr>
        <p:blipFill>
          <a:blip r:embed="rId1"/>
          <a:srcRect l="0" t="34471" r="0" b="0"/>
          <a:stretch/>
        </p:blipFill>
        <p:spPr>
          <a:xfrm>
            <a:off x="1565280" y="441360"/>
            <a:ext cx="6013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Imagem 1" descr="03.jpg"/>
          <p:cNvPicPr/>
          <p:nvPr/>
        </p:nvPicPr>
        <p:blipFill>
          <a:blip r:embed="rId1"/>
          <a:srcRect l="6687" t="0" r="19288" b="29884"/>
          <a:stretch/>
        </p:blipFill>
        <p:spPr>
          <a:xfrm>
            <a:off x="146160" y="639720"/>
            <a:ext cx="8851680" cy="5578560"/>
          </a:xfrm>
          <a:prstGeom prst="rect">
            <a:avLst/>
          </a:prstGeom>
          <a:ln w="0">
            <a:noFill/>
          </a:ln>
        </p:spPr>
      </p:pic>
      <p:sp>
        <p:nvSpPr>
          <p:cNvPr id="533" name="CaixaDeTexto 2"/>
          <p:cNvSpPr/>
          <p:nvPr/>
        </p:nvSpPr>
        <p:spPr>
          <a:xfrm>
            <a:off x="4788000" y="638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Eras Bold ITC"/>
              </a:rPr>
              <a:t>Abraços.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14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I:\Copiar a DVD\70-DVD-Descargas\6\1-Imagenes\Perfect Cameltoe Shot Short Hotpants.jpg"/>
          <p:cNvPicPr/>
          <p:nvPr/>
        </p:nvPicPr>
        <p:blipFill>
          <a:blip r:embed="rId1"/>
          <a:stretch/>
        </p:blipFill>
        <p:spPr>
          <a:xfrm>
            <a:off x="1328760" y="0"/>
            <a:ext cx="64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miss_cameltoe_canada"/>
          <p:cNvPicPr/>
          <p:nvPr/>
        </p:nvPicPr>
        <p:blipFill>
          <a:blip r:embed="rId1"/>
          <a:stretch/>
        </p:blipFill>
        <p:spPr>
          <a:xfrm>
            <a:off x="2590920" y="0"/>
            <a:ext cx="416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89480"/>
          <p:cNvPicPr/>
          <p:nvPr/>
        </p:nvPicPr>
        <p:blipFill>
          <a:blip r:embed="rId1"/>
          <a:srcRect l="0" t="0" r="0" b="6541"/>
          <a:stretch/>
        </p:blipFill>
        <p:spPr>
          <a:xfrm>
            <a:off x="212400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CaixaDeTexto 2"/>
          <p:cNvSpPr/>
          <p:nvPr/>
        </p:nvSpPr>
        <p:spPr>
          <a:xfrm>
            <a:off x="900000" y="213372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As mulheres mais gostosas e excitantes são as que têm mais protuber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S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Patas de Camel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3-6"/>
          <p:cNvPicPr/>
          <p:nvPr/>
        </p:nvPicPr>
        <p:blipFill>
          <a:blip r:embed="rId1"/>
          <a:stretch/>
        </p:blipFill>
        <p:spPr>
          <a:xfrm>
            <a:off x="114480" y="368280"/>
            <a:ext cx="8915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Maria Sharapova camel toe pics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Maria Sharapova camel toe pics"/>
          <p:cNvPicPr/>
          <p:nvPr/>
        </p:nvPicPr>
        <p:blipFill>
          <a:blip r:embed="rId2"/>
          <a:srcRect l="24715" t="60080" r="26055" b="0"/>
          <a:stretch/>
        </p:blipFill>
        <p:spPr>
          <a:xfrm>
            <a:off x="4587840" y="368280"/>
            <a:ext cx="4556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2:11:21Z</dcterms:created>
  <dc:creator>carlos</dc:creator>
  <dc:description/>
  <dc:language>en-US</dc:language>
  <cp:lastModifiedBy>Euro</cp:lastModifiedBy>
  <dcterms:modified xsi:type="dcterms:W3CDTF">2012-10-25T21:47:00Z</dcterms:modified>
  <cp:revision>19</cp:revision>
  <dc:subject/>
  <dc:title>Diapositiva 1</dc:title>
</cp:coreProperties>
</file>