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45E-BF2B-4816-AC5E-7E683DB8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076-8127-463A-A22C-08BFA23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741-55B5-455C-8440-0D1040B4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3DA-D9BB-4BC4-A1C2-539E8F87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544-6A5F-497E-A1A7-7FFF248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9DD-6B57-4CBD-839F-3D4852B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684-3D46-4AA8-ADDF-398A2B4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4D2-084D-4C00-A887-AFA21E4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3CB-320C-49EE-BB3E-4F899745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A71-2E2C-4A0F-8A2A-C431CEF4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DAD-A575-4E6B-AB2C-450BC4CD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C9D-20B9-448E-B33F-2041FE6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E3BC-98F1-4090-A766-6A1603EA84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8800" spc="-1" strike="noStrike">
                <a:solidFill>
                  <a:srgbClr val="99cc00"/>
                </a:solidFill>
                <a:latin typeface="Arial"/>
              </a:rPr>
              <a:t>NO A TED ZAČNI MAK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-1028880"/>
            <a:ext cx="5943600" cy="89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44936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7:30:56Z</dcterms:created>
  <dc:creator>1</dc:creator>
  <dc:description/>
  <dc:language>en-US</dc:language>
  <cp:lastModifiedBy>1</cp:lastModifiedBy>
  <dcterms:modified xsi:type="dcterms:W3CDTF">2011-07-18T07:33:30Z</dcterms:modified>
  <cp:revision>3</cp:revision>
  <dc:subject/>
  <dc:title>Snímek 1</dc:title>
</cp:coreProperties>
</file>