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6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Ricky%20Nelson%20-%20HELLO%20MARY%20LOU.wav" ContentType="audio/x-wav"/>
  <Override PartName="/ppt/media/image34.jpeg" ContentType="image/jpeg"/>
  <Override PartName="/ppt/media/image19.jpeg" ContentType="image/jpeg"/>
  <Override PartName="/ppt/media/image42.jpeg" ContentType="image/jpeg"/>
  <Override PartName="/ppt/media/image3.gif" ContentType="image/gif"/>
  <Override PartName="/ppt/media/image59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05F-44A8-4029-9F17-7E395088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DE6-593E-4B6A-A046-3BFA822A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0F7-EB3D-43C4-AB16-AB7CA4FF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4D2-9CF0-4037-BD62-6867E215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454-2870-4584-A3C2-C60DE42D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F83-BB81-4BE5-AC38-E4E4306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966-679B-46F3-AD3D-AC730DAB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E01D-E788-413C-BEAF-FD86D9A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B68-EF8B-43BB-A81D-427217FA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2D8-71AC-4579-AC27-29C2867E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D20-E895-490A-99A0-42CD5878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B59-CB99-44EE-8485-0C85454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A61B-5B29-4890-9E8F-962221A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2DC3-8D0E-47BB-9275-5F6E6FE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F345-9C57-4584-ACFC-0E0386D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75F9-C1CA-4BB2-98FB-5CFFAE5B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E27-47FA-430D-9F75-C5632C4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789-3DBD-4650-83FF-8704E30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DCA-1BFC-4173-9015-9B51832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015-F6A0-4265-BDB5-65412E16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F8B-7E78-48B6-8FA7-AE7D64CF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58E-51DE-4803-B2D8-6ED60CF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78E-152D-47CA-8414-2543E59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4D0-5304-4824-BD87-1750A81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9C56-B735-47EA-9837-A9F5763A24E1}" type="datetime">
              <a:rPr b="0" lang="fr-CA" sz="1200" spc="-1" strike="noStrike">
                <a:solidFill>
                  <a:srgbClr val="bcbcbc"/>
                </a:solidFill>
                <a:latin typeface="Georg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DDCB-43A8-430E-8121-F3E574721DA8}" type="slidenum">
              <a:rPr b="0" lang="fr-CA" sz="1200" spc="-1" strike="noStrike">
                <a:solidFill>
                  <a:srgbClr val="bcbcb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FB6-9F91-4D0B-B100-E26AF1A458E3}" type="datetime">
              <a:rPr b="0" lang="fr-CA" sz="1200" spc="-1" strike="noStrike">
                <a:solidFill>
                  <a:srgbClr val="bcbcbc"/>
                </a:solidFill>
                <a:latin typeface="Georg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EFA-F165-4D20-91E4-8315176830D3}" type="slidenum">
              <a:rPr b="0" lang="fr-CA" sz="1200" spc="-1" strike="noStrike">
                <a:solidFill>
                  <a:srgbClr val="bcbcb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Ricky%20Nelson%20-%20HELLO%20MARY%20LOU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"/>
          <p:cNvPicPr/>
          <p:nvPr/>
        </p:nvPicPr>
        <p:blipFill>
          <a:blip r:embed="rId1"/>
          <a:stretch/>
        </p:blipFill>
        <p:spPr>
          <a:xfrm>
            <a:off x="3343320" y="3195720"/>
            <a:ext cx="24573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 Imagen" descr="slide0023_image014.jpg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2 Imagen" descr="slide0039_image057.jpg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slide0092_image192.jpg"/>
          <p:cNvPicPr/>
          <p:nvPr/>
        </p:nvPicPr>
        <p:blipFill>
          <a:blip r:embed="rId1"/>
          <a:stretch/>
        </p:blipFill>
        <p:spPr>
          <a:xfrm>
            <a:off x="-160200" y="0"/>
            <a:ext cx="5018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2 Imagen" descr="slide0132_image272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 Imagen" descr="slide0139_image289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2 Imagen" descr="slide0154_image324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 Imagen" descr="slide0161_image342.jpg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1 Imagen" descr="slide0160_image341.jpg"/>
          <p:cNvPicPr/>
          <p:nvPr/>
        </p:nvPicPr>
        <p:blipFill>
          <a:blip r:embed="rId2"/>
          <a:stretch/>
        </p:blipFill>
        <p:spPr>
          <a:xfrm>
            <a:off x="4654440" y="0"/>
            <a:ext cx="44895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 Imagen" descr="slide0175_image371.jpg"/>
          <p:cNvPicPr/>
          <p:nvPr/>
        </p:nvPicPr>
        <p:blipFill>
          <a:blip r:embed="rId1"/>
          <a:stretch/>
        </p:blipFill>
        <p:spPr>
          <a:xfrm>
            <a:off x="0" y="0"/>
            <a:ext cx="45482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1 Imagen" descr="slide0169_image359.jpg"/>
          <p:cNvPicPr/>
          <p:nvPr/>
        </p:nvPicPr>
        <p:blipFill>
          <a:blip r:embed="rId2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slide0206_image43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2 Imagen" descr="slide0207_image436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slide0248_image496.jpg"/>
          <p:cNvPicPr/>
          <p:nvPr/>
        </p:nvPicPr>
        <p:blipFill>
          <a:blip r:embed="rId1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2 Imagen" descr="slide0253_image510.jpg"/>
          <p:cNvPicPr/>
          <p:nvPr/>
        </p:nvPicPr>
        <p:blipFill>
          <a:blip r:embed="rId2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 Imagen" descr="slide0270_image561.jpg"/>
          <p:cNvPicPr/>
          <p:nvPr/>
        </p:nvPicPr>
        <p:blipFill>
          <a:blip r:embed="rId1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1 Imagen" descr="slide0267_image549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Imagen" descr="slide0223_image459.jpg"/>
          <p:cNvPicPr/>
          <p:nvPr/>
        </p:nvPicPr>
        <p:blipFill>
          <a:blip r:embed="rId1"/>
          <a:stretch/>
        </p:blipFill>
        <p:spPr>
          <a:xfrm>
            <a:off x="-100008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2 Imagen" descr="slide0224_image460.jpg"/>
          <p:cNvPicPr/>
          <p:nvPr/>
        </p:nvPicPr>
        <p:blipFill>
          <a:blip r:embed="rId2"/>
          <a:stretch/>
        </p:blipFill>
        <p:spPr>
          <a:xfrm>
            <a:off x="4286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 Imagen" descr="slide0242_image48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2 Imagen" descr="slide0281_image597.jpg"/>
          <p:cNvPicPr/>
          <p:nvPr/>
        </p:nvPicPr>
        <p:blipFill>
          <a:blip r:embed="rId2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eck 3"/>
          <p:cNvSpPr/>
          <p:nvPr/>
        </p:nvSpPr>
        <p:spPr>
          <a:xfrm>
            <a:off x="324000" y="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0000"/>
                </a:solidFill>
                <a:latin typeface="Alpha Silouettes 3"/>
                <a:ea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0000"/>
                </a:solidFill>
                <a:latin typeface="Alpha Silouettes 3"/>
                <a:ea typeface="Times New Roman"/>
              </a:rPr>
              <a:t>EDICIÓN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0000"/>
                </a:solidFill>
                <a:latin typeface="Alpha Silouettes 3"/>
                <a:ea typeface="Times New Roman"/>
              </a:rPr>
              <a:t>ESPECIA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Grafik 8" descr="A (2).gif"/>
          <p:cNvPicPr/>
          <p:nvPr/>
        </p:nvPicPr>
        <p:blipFill>
          <a:blip r:embed="rId1"/>
          <a:stretch/>
        </p:blipFill>
        <p:spPr>
          <a:xfrm>
            <a:off x="7878600" y="5661000"/>
            <a:ext cx="1265400" cy="12128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10" descr="M (30).png"/>
          <p:cNvPicPr/>
          <p:nvPr/>
        </p:nvPicPr>
        <p:blipFill>
          <a:blip r:embed="rId2"/>
          <a:stretch/>
        </p:blipFill>
        <p:spPr>
          <a:xfrm>
            <a:off x="3995640" y="5516640"/>
            <a:ext cx="1341360" cy="1341360"/>
          </a:xfrm>
          <a:prstGeom prst="rect">
            <a:avLst/>
          </a:prstGeom>
          <a:ln w="0">
            <a:noFill/>
          </a:ln>
        </p:spPr>
      </p:pic>
      <p:pic>
        <p:nvPicPr>
          <p:cNvPr id="86" name="Grafik 11" descr="M (36).gif"/>
          <p:cNvPicPr/>
          <p:nvPr/>
        </p:nvPicPr>
        <p:blipFill>
          <a:blip r:embed="rId3"/>
          <a:stretch/>
        </p:blipFill>
        <p:spPr>
          <a:xfrm>
            <a:off x="3708360" y="5805360"/>
            <a:ext cx="1185840" cy="57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Ricky%20Nelson%20-%20HELLO%20MARY%20LOU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 Imagen" descr="slide0283_image606.jpg"/>
          <p:cNvPicPr/>
          <p:nvPr/>
        </p:nvPicPr>
        <p:blipFill>
          <a:blip r:embed="rId1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2 Imagen" descr="slide0305_image667.jpg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Imagen" descr="slide0334_image723.jpg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1 Imagen" descr="slide0333_image721.jpg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 Imagen" descr="slide0335_image725.jpg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2 Imagen" descr="slide0337_image729.jpg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Imagen" descr="slide0338_image731.jpg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2 Imagen" descr="slide0342_image739.jpg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 Imagen" descr="slide0360_image779.jpg"/>
          <p:cNvPicPr/>
          <p:nvPr/>
        </p:nvPicPr>
        <p:blipFill>
          <a:blip r:embed="rId1"/>
          <a:stretch/>
        </p:blipFill>
        <p:spPr>
          <a:xfrm>
            <a:off x="0" y="0"/>
            <a:ext cx="45324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1 Imagen" descr="slide0343_image741.jpg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slide0362_image789.jpg"/>
          <p:cNvPicPr/>
          <p:nvPr/>
        </p:nvPicPr>
        <p:blipFill>
          <a:blip r:embed="rId1"/>
          <a:stretch/>
        </p:blipFill>
        <p:spPr>
          <a:xfrm>
            <a:off x="0" y="0"/>
            <a:ext cx="45324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1 Imagen" descr="slide0361_image783.jpg"/>
          <p:cNvPicPr/>
          <p:nvPr/>
        </p:nvPicPr>
        <p:blipFill>
          <a:blip r:embed="rId2"/>
          <a:stretch/>
        </p:blipFill>
        <p:spPr>
          <a:xfrm>
            <a:off x="4611600" y="0"/>
            <a:ext cx="453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Imagen" descr="slide0396_image879.jpg"/>
          <p:cNvPicPr/>
          <p:nvPr/>
        </p:nvPicPr>
        <p:blipFill>
          <a:blip r:embed="rId1"/>
          <a:stretch/>
        </p:blipFill>
        <p:spPr>
          <a:xfrm>
            <a:off x="243000" y="0"/>
            <a:ext cx="45432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2 Imagen" descr="slide0399_image888.jpg"/>
          <p:cNvPicPr/>
          <p:nvPr/>
        </p:nvPicPr>
        <p:blipFill>
          <a:blip r:embed="rId2"/>
          <a:stretch/>
        </p:blipFill>
        <p:spPr>
          <a:xfrm>
            <a:off x="5143680" y="0"/>
            <a:ext cx="3803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 Imagen" descr="slide0406_image908.jpg"/>
          <p:cNvPicPr/>
          <p:nvPr/>
        </p:nvPicPr>
        <p:blipFill>
          <a:blip r:embed="rId1"/>
          <a:stretch/>
        </p:blipFill>
        <p:spPr>
          <a:xfrm>
            <a:off x="0" y="0"/>
            <a:ext cx="4545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2 Imagen" descr="slide0452_image1003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95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2 Imagen" descr="slide0471_image1039.jpg"/>
          <p:cNvPicPr/>
          <p:nvPr/>
        </p:nvPicPr>
        <p:blipFill>
          <a:blip r:embed="rId1"/>
          <a:stretch/>
        </p:blipFill>
        <p:spPr>
          <a:xfrm>
            <a:off x="-71280" y="0"/>
            <a:ext cx="5072040" cy="6899400"/>
          </a:xfrm>
          <a:prstGeom prst="rect">
            <a:avLst/>
          </a:prstGeom>
          <a:ln w="0">
            <a:noFill/>
          </a:ln>
        </p:spPr>
      </p:pic>
      <p:pic>
        <p:nvPicPr>
          <p:cNvPr id="138" name="1 Imagen" descr="slide0459_image1015.jpg"/>
          <p:cNvPicPr/>
          <p:nvPr/>
        </p:nvPicPr>
        <p:blipFill>
          <a:blip r:embed="rId2"/>
          <a:stretch/>
        </p:blipFill>
        <p:spPr>
          <a:xfrm>
            <a:off x="4257720" y="0"/>
            <a:ext cx="48862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 Imagen" descr="slide0479_image1058.jpg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2 Imagen" descr="slide0480_image1060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1 Imagen" descr=""/>
          <p:cNvPicPr/>
          <p:nvPr/>
        </p:nvPicPr>
        <p:blipFill>
          <a:blip r:embed="rId3"/>
          <a:stretch/>
        </p:blipFill>
        <p:spPr>
          <a:xfrm>
            <a:off x="3324240" y="6391440"/>
            <a:ext cx="2457360" cy="46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9036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5"/>
          <p:cNvPicPr/>
          <p:nvPr/>
        </p:nvPicPr>
        <p:blipFill>
          <a:blip r:embed="rId2"/>
          <a:stretch/>
        </p:blipFill>
        <p:spPr>
          <a:xfrm>
            <a:off x="45007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3 Imagen" descr="as (15).jpg"/>
          <p:cNvPicPr/>
          <p:nvPr/>
        </p:nvPicPr>
        <p:blipFill>
          <a:blip r:embed="rId2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 Imagen" descr="as (82)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3 Imagen" descr="as (84)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 Imagen" descr="as (158).jpg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2 Imagen" descr="as (160).jpg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Imagen" descr="as (161).jpg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2 Imagen" descr="as (163).jpg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 Imagen" descr="slide0011_image083.jpg"/>
          <p:cNvPicPr/>
          <p:nvPr/>
        </p:nvPicPr>
        <p:blipFill>
          <a:blip r:embed="rId1"/>
          <a:stretch/>
        </p:blipFill>
        <p:spPr>
          <a:xfrm>
            <a:off x="144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2 Imagen" descr="slide0017_image095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 Imagen" descr="slide0067_image135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2 Imagen" descr="slide0070_image140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04:07:07Z</dcterms:created>
  <dc:creator>MikeRT_scifi 2016</dc:creator>
  <dc:description/>
  <dc:language>en-US</dc:language>
  <cp:lastModifiedBy>jorge</cp:lastModifiedBy>
  <dcterms:modified xsi:type="dcterms:W3CDTF">2017-08-30T22:06:28Z</dcterms:modified>
  <cp:revision>7</cp:revision>
  <dc:subject/>
  <dc:title>Playboy Girls</dc:title>
</cp:coreProperties>
</file>