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CC2-EBCB-4F31-9D64-89180E05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CDB-6A91-48F4-A108-5D5D0733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6C8-2D8D-403F-8EC6-803D3DB5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60F-1B40-404B-854F-577F4479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9C6-0DEC-4D26-9BAA-ABB9279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08B-24B0-47DA-A924-0FD35C1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35D-0D90-4E93-BB3D-D5943F7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EB7-8B39-4742-862B-CB81CF5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0AE-DD7D-426F-B41F-7E56679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077-AB6C-47A5-BD7D-C5B1114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279-8F1B-402F-AB28-3F7F4E7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E35-E69E-4299-9A04-4B67B43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44B-FAFB-40EC-AE9C-27C69893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0600" y="1600200"/>
            <a:ext cx="4762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357120"/>
            <a:ext cx="4762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85960" y="1095480"/>
            <a:ext cx="37720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24200" y="809640"/>
            <a:ext cx="3495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0600" y="619200"/>
            <a:ext cx="4762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52600" y="95400"/>
            <a:ext cx="44388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442800"/>
            <a:ext cx="47628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060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0600" y="452520"/>
            <a:ext cx="4762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90600" y="114480"/>
            <a:ext cx="4762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0600" y="1519200"/>
            <a:ext cx="4762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0600" y="252360"/>
            <a:ext cx="4762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0600" y="1676520"/>
            <a:ext cx="4762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0600" y="847800"/>
            <a:ext cx="4762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95400"/>
            <a:ext cx="44193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0600" y="285840"/>
            <a:ext cx="47628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9200" y="476280"/>
            <a:ext cx="43056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4520" y="95400"/>
            <a:ext cx="43149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0600" y="461880"/>
            <a:ext cx="47628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90680" y="95400"/>
            <a:ext cx="4562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28760" y="95400"/>
            <a:ext cx="4686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14720" y="95400"/>
            <a:ext cx="47145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1776240"/>
            <a:ext cx="381024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0600" y="1771560"/>
            <a:ext cx="4762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0600" y="2090880"/>
            <a:ext cx="47628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0600" y="324000"/>
            <a:ext cx="47628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6920" y="95400"/>
            <a:ext cx="4610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47840" y="333360"/>
            <a:ext cx="4648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90600" y="1547640"/>
            <a:ext cx="47628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57280" y="147600"/>
            <a:ext cx="442944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66880" y="2048040"/>
            <a:ext cx="381024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376360" y="95400"/>
            <a:ext cx="43912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0600" y="2133720"/>
            <a:ext cx="4762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28920" y="824040"/>
            <a:ext cx="42861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05080" y="95400"/>
            <a:ext cx="453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90600" y="1514520"/>
            <a:ext cx="47628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90600" y="1042920"/>
            <a:ext cx="47628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66880" y="595440"/>
            <a:ext cx="38102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90600" y="1795320"/>
            <a:ext cx="4762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90600" y="1547640"/>
            <a:ext cx="47628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414520" y="209520"/>
            <a:ext cx="431496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928960" y="1281240"/>
            <a:ext cx="32860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0600" y="376200"/>
            <a:ext cx="47628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43160" y="95400"/>
            <a:ext cx="46576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428920" y="95400"/>
            <a:ext cx="4286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9060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0600" y="133200"/>
            <a:ext cx="47628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66880" y="885960"/>
            <a:ext cx="38102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00320" y="95400"/>
            <a:ext cx="47433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1728720"/>
            <a:ext cx="381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666880" y="1757520"/>
            <a:ext cx="38102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90600" y="1028880"/>
            <a:ext cx="4762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14720" y="809640"/>
            <a:ext cx="471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90600" y="1023840"/>
            <a:ext cx="47628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060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28920" y="219240"/>
            <a:ext cx="42861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190600" y="433440"/>
            <a:ext cx="47628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190600" y="1023840"/>
            <a:ext cx="47628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0600" y="1814400"/>
            <a:ext cx="47628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90680" y="95400"/>
            <a:ext cx="4562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0:04:18Z</dcterms:created>
  <dc:creator>Norbert</dc:creator>
  <dc:description/>
  <dc:language>en-US</dc:language>
  <cp:lastModifiedBy>Norbert</cp:lastModifiedBy>
  <dcterms:modified xsi:type="dcterms:W3CDTF">2011-09-25T10:21:15Z</dcterms:modified>
  <cp:revision>2</cp:revision>
  <dc:subject/>
  <dc:title>Diapositive 1</dc:title>
</cp:coreProperties>
</file>