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55E0-EC2D-489D-93AB-530302BB548C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DC7B-07F5-4401-A647-32EE30F3DAD0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A630-C21C-4D80-81AB-99682C49E45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6A5-0CC4-4FD7-8523-1BC221F5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6F7-1979-4BDA-A32F-533C51B3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99F74-BA8F-42B1-BE11-C30D2418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12356-57D9-4B23-9FD5-3AFE6835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A5F07-C1CB-42B9-BF99-48C7809A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BB77A-BD6D-4C44-A167-7569BB99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94287-11E4-4854-A5AF-6D563C7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CF73A-67C3-42F0-84F5-07185DC6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7BAE1-EFE0-4CCB-8662-D23C1DDE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EE153-1E17-49E9-A1B2-9BB3E76F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9B23C-10F1-4A3B-AC99-284AE5AA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C5FDF-C265-451A-ADC2-0D4CB324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959-26C2-49B1-A01C-B288B51E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8E084-219F-43D6-B33B-47A8973D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E737B-9E75-4F62-BF15-1ECD205E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22732-3D65-4DB5-931E-30299790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8D735-81F5-4E02-818B-A95BE46D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2D9D4-0037-4C29-B62E-0020E614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DF4DF-ECBB-4C91-A8B4-140269E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87928-E412-420F-8491-A54BCA6E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E34EF-0835-4616-AB70-B793639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CD4C9-BA69-4169-BD3E-7D9E46BA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BE4EA-CEAC-4C87-A236-A74CB4CC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A8E-4D44-4CE4-A156-D0326387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9DD85-789A-4C3F-8533-1168BC99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FB71F-FEF1-492F-87BC-7E4F996E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DF329-13DA-4E1D-ABF8-FD5ABED0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0A6E1-4318-41AB-901D-0D789800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F8C90-BEF4-485C-8005-FC40AC57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6168E-9E3B-4118-9218-D869CFA8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22EF8-1CB1-462A-90CC-C44DBCCA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EFEB1-8D7B-410F-8096-F86336C6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3DA34-EDB7-4069-BBD0-532CD5D6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6350F-CAA3-46FB-9750-9BE5F0C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F90C-A6EF-4FD2-89B3-68B5B3A6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EE3E2-5080-4A2A-BED8-D2FD697B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951FD-6BB1-43D7-94BF-7C6A5345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BE6C4-D7E5-4917-A115-05B449AF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23BE8-759E-4747-9E18-2D687E5E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707F7-DAA2-48E7-A10D-11777FC8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131D8-5275-406F-9EBB-4496EA6C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A6C5A-0FCB-404F-9714-4FA17A08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25425-AC07-4000-B0C1-8D9AE031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4060B-9F9E-4EE6-A9DD-94DA7442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12285-503F-4A79-B391-6987D010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EACF-BA57-4D28-8FB4-4423EA02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25167-13CF-4ECA-BDB8-667DF8F9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4310A-98B4-4EB1-80BD-67433F17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C4C93-0270-4966-B214-D5357940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DBEA7-50FA-44AE-8689-E9BE545A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55BA4-44AD-4216-AB97-4C3E4265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7858-352E-4B49-ABE7-ED7076C0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A024-942A-4FC1-BDA2-FF5CD625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3F38-9456-4C7C-BA98-557D70AD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39F5-EF83-4173-B01E-BD60DC2C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6FB3-6757-46C8-8AC3-CF5DE8FD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8E0-25C1-4CF4-A8FF-6404957E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7042-7354-4450-9DD5-A64856F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F93F-B78B-431C-94C6-BA11823D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C6BD-74A1-4019-8956-C7E02F9D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AE15-0CA1-46CD-8DDF-1ABA7A38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8769-0C3F-4030-B843-0BF87EE0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85AF-B10F-478F-ABD7-0A248232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EC1EA-8B51-4C63-9DFF-EC40C53B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D6C5-5910-4A3E-9990-501D692F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4DD3-FAEA-41DA-8306-203D80B8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E3AE-5C2C-47D7-8D96-CD5E7DA2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E24-01B5-4972-B803-91BF373B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F235-C81A-4895-967C-EEA0B3DA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EAF4-B0DA-4442-B1A3-98FAA203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B0F7-65DD-4F7B-8D31-5339A038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FA74-AA46-4606-B2B0-B91A12AB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0033D-0634-4F9B-A4B8-57411565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3D91D-9CF6-4440-9BE5-91505AB0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C4EA-AF3B-4D88-AA51-1CBB890D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915DB-303F-4DCE-9A02-A046A2FC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8C5A-CB2E-436A-B50B-AED833D1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2BE8-73D5-4F80-9830-1A0BC979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CF4-4DD1-4729-ACCE-A5331B0D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44AD-4C50-49C6-8F27-1655AFF4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C165-52C5-4391-87D7-3A7EBC31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3C2BA-6749-4BED-B773-483C68E5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7AF81-98C4-4525-8EC1-9B18DE4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AD91-F909-4817-B299-9EAD7745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694C1-B8E7-4AE1-9FB5-082E8217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86A9-1C0D-4BBF-B0E5-60F175A4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B89C4-6EB0-442C-8B2E-BFCF3FE4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E9198-D526-4920-8CA9-C5AA69D3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DD31C-7318-4761-B40F-02073C1E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276-4252-438E-9689-1152F37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FEF8C-0BD9-4104-8E40-CFDA890E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C2F84-64F7-48CC-AD14-31D26DD0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8EC2-E2C5-40D9-AB03-E31EAA12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B0B52-F0A8-4EB8-9410-E242B6B5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055E5-EFDB-4F61-93DC-EF72B59D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68247-7426-463F-94C3-4AA4EDA0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9B9E2-3C85-4174-803D-B8CE49F4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FAFF-DA87-421F-902D-1706352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05DE4-2273-4E26-9B6B-555D6FE7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C0109-4259-4D11-959E-A18BCC9D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CB3-1A65-47C8-B277-B6887464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6980F-1A5A-4ED0-ACC5-B0DBEA38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9650-5F8A-4914-94C9-4E215096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BC23-260D-46BF-9F49-0886A79F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2508B-F4D5-416E-92F4-12F76F64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C3A2D-3B6D-4004-A0A8-FD50D3F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469AA-D6F2-4F30-80DC-574DDBED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3CDBB-D3D1-49BD-ABE0-558950A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3CE6B-4230-434C-A8CA-2CB025D8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3AB7-BB10-4220-A89C-71F455B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0B8FD-235D-4A87-B4CD-BF5E461B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D22-CA2F-4E88-9EB4-2876384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0A4C-1B4C-431E-8553-07737B5D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5ADCB-57F4-4A1F-BCAA-AF956DAA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6A550-4166-4C9A-A48E-9BE35FF1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1D1F6-E712-4282-98E1-37085646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FC42-727B-4BC6-B1F6-BE581639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73F7F-7D56-4182-AD3A-4D8A19DD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905EF-4E2E-433E-B9EC-15D1A9B6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816E9-DC83-4408-91E8-EB33DEE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79791-EADC-4A12-BC95-588F2350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963D5-4111-42CF-A584-F290A7B7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34E-D202-4223-85E2-E41EFEA6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3E81-A937-44A2-96B6-1DDC8A8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A0264-6929-430C-9D06-C6523577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1C400-2E21-449F-8B04-D8930D05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D787F-E468-4DBF-94FF-C0052D8F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77F04-0F88-45BE-B8DA-33C90A33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ED04D-0066-47A3-86BE-D35778A5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EB8DD-9D6C-4E38-856E-30EC8B06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C7985-70EB-437B-ACAB-79F7724D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650C2-F5D0-4038-B58A-90C8C287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D519A-C504-4005-AC67-6FDA2FB5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938-D3BB-4BFD-AD72-77A4CB3D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08E3E-5E93-4A31-946C-EA597201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DEC5E-7D29-4811-8C7B-0D0AF6B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7352B-E0E0-491E-9D57-10FE2525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236B5-95C2-4047-8203-F995ED8B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3A1C2-3251-488D-9F3C-4995C53E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2804B-B62B-4C1A-BE6E-7439AEB8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C563F-D551-4AC4-A4AD-B85B47E5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A0A53-1D4E-4100-AF89-128800F1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AC067-38C0-4A25-8EB3-C77BC9ED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C231F-F4B0-4241-8C01-8C8FDFF0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C7A7-6A96-46EA-8B0C-986ED3BD2A6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88FB-173C-4DFA-B0F7-3840B4B062D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671D-5F36-43FC-9972-277961D76EB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4EFD-2495-43AE-85C9-DBDDBA3114F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C16-62E9-45F1-8A7D-77C07A01914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269A-4CE5-4DFE-AD43-ED4725B3799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B543-46E7-4152-89EF-44FB48B042B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CE91-8A1D-4CFA-B12B-5D20FC4C140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7076-F733-4752-88E6-0283DE35967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E533-7D24-41CF-9BA3-8B20FF4A973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DE78-5109-49F2-8BA0-135F40287EE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347D-E9B5-41BE-8AF5-9D0A2AFC70F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8" descr="http://i.ebayimg.com/t/Floppy-large-wide-brim-hat-Women-Folding-Summer-Beach-Sun-Straw-/00/s/MTYwMFgxNjAw/z/9E0AAMXQCndRibqg/$T2eC16Z,!)8E9s4l8!8(BRibqfI2qg~~60_57.JPG?rt=nc"/>
          <p:cNvPicPr/>
          <p:nvPr/>
        </p:nvPicPr>
        <p:blipFill>
          <a:blip r:embed="rId1"/>
          <a:srcRect l="0" t="9092" r="0" b="20124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6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nl-BE" sz="6600" spc="-1" strike="noStrike">
                <a:solidFill>
                  <a:srgbClr val="000000"/>
                </a:solidFill>
                <a:latin typeface="Arial"/>
                <a:ea typeface="Arial"/>
              </a:rPr>
              <a:t>Quel chapeau choisir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2.53 Acropolis adieu .wav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G:\Z\Cambio tamaño\Imagen18.jpg"/>
          <p:cNvPicPr/>
          <p:nvPr/>
        </p:nvPicPr>
        <p:blipFill>
          <a:blip r:embed="rId1"/>
          <a:stretch/>
        </p:blipFill>
        <p:spPr>
          <a:xfrm>
            <a:off x="4554360" y="-30240"/>
            <a:ext cx="4589640" cy="6888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G:\Z\Cambio tamaño\Imagen20a.jpg"/>
          <p:cNvPicPr/>
          <p:nvPr/>
        </p:nvPicPr>
        <p:blipFill>
          <a:blip r:embed="rId2"/>
          <a:stretch/>
        </p:blipFill>
        <p:spPr>
          <a:xfrm>
            <a:off x="0" y="-14400"/>
            <a:ext cx="456264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http://25.media.tumblr.com/35b6e7631f3631b9b926f4b6b6440753/tumblr_mt47jlHlmP1s5rdqvo1_500.jpg"/>
          <p:cNvPicPr/>
          <p:nvPr/>
        </p:nvPicPr>
        <p:blipFill>
          <a:blip r:embed="rId1"/>
          <a:stretch/>
        </p:blipFill>
        <p:spPr>
          <a:xfrm>
            <a:off x="4681440" y="0"/>
            <a:ext cx="446256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G:\Z\Cambio tamaño\Imagen22.jpg"/>
          <p:cNvPicPr/>
          <p:nvPr/>
        </p:nvPicPr>
        <p:blipFill>
          <a:blip r:embed="rId2"/>
          <a:stretch/>
        </p:blipFill>
        <p:spPr>
          <a:xfrm>
            <a:off x="0" y="0"/>
            <a:ext cx="544356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G:\Z\Cambio tamaño\Imagen25.jpg"/>
          <p:cNvPicPr/>
          <p:nvPr/>
        </p:nvPicPr>
        <p:blipFill>
          <a:blip r:embed="rId1"/>
          <a:stretch/>
        </p:blipFill>
        <p:spPr>
          <a:xfrm>
            <a:off x="0" y="0"/>
            <a:ext cx="4651200" cy="6907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" descr="G:\Z\Cambio tamaño\Imagen27.jpg"/>
          <p:cNvPicPr/>
          <p:nvPr/>
        </p:nvPicPr>
        <p:blipFill>
          <a:blip r:embed="rId2"/>
          <a:stretch/>
        </p:blipFill>
        <p:spPr>
          <a:xfrm>
            <a:off x="4522680" y="-15840"/>
            <a:ext cx="462132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G:\Z\Cambio tamaño\Imagen28.jpg"/>
          <p:cNvPicPr/>
          <p:nvPr/>
        </p:nvPicPr>
        <p:blipFill>
          <a:blip r:embed="rId1"/>
          <a:stretch/>
        </p:blipFill>
        <p:spPr>
          <a:xfrm>
            <a:off x="4535640" y="-19080"/>
            <a:ext cx="4608360" cy="68770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G:\Z\Cambio tamaño\sombre.jpg"/>
          <p:cNvPicPr/>
          <p:nvPr/>
        </p:nvPicPr>
        <p:blipFill>
          <a:blip r:embed="rId2"/>
          <a:stretch/>
        </p:blipFill>
        <p:spPr>
          <a:xfrm>
            <a:off x="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Красотки притягивающие внимание (34 фото)"/>
          <p:cNvPicPr/>
          <p:nvPr/>
        </p:nvPicPr>
        <p:blipFill>
          <a:blip r:embed="rId1"/>
          <a:stretch/>
        </p:blipFill>
        <p:spPr>
          <a:xfrm>
            <a:off x="4998960" y="0"/>
            <a:ext cx="414504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" descr="G:\Z\Cambio tamaño\Imagen32b.jpg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G:\Z\Cambio tamaño\Imagen33.jpg"/>
          <p:cNvPicPr/>
          <p:nvPr/>
        </p:nvPicPr>
        <p:blipFill>
          <a:blip r:embed="rId1"/>
          <a:stretch/>
        </p:blipFill>
        <p:spPr>
          <a:xfrm>
            <a:off x="4562640" y="0"/>
            <a:ext cx="4581360" cy="6877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G:\Z\Cambio tamaño\Imagen34.jpg"/>
          <p:cNvPicPr/>
          <p:nvPr/>
        </p:nvPicPr>
        <p:blipFill>
          <a:blip r:embed="rId2"/>
          <a:stretch/>
        </p:blipFill>
        <p:spPr>
          <a:xfrm>
            <a:off x="0" y="0"/>
            <a:ext cx="4591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mooiedames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http://24.media.tumblr.com/891a808777fe6dd605150fbafd3615bb/tumblr_mkwfbtNRCc1snbf71o1_500.jpg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http://24.media.tumblr.com/ce426edc77e97395ea7ebd4d41363359/tumblr_mnx5800v8Q1ro2gueo1_500.jpg"/>
          <p:cNvPicPr/>
          <p:nvPr/>
        </p:nvPicPr>
        <p:blipFill>
          <a:blip r:embed="rId1"/>
          <a:stretch/>
        </p:blipFill>
        <p:spPr>
          <a:xfrm>
            <a:off x="4130640" y="0"/>
            <a:ext cx="501336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http://24.media.tumblr.com/cf80846dc9f63468238b46daf2975516/tumblr_mne3nvdRfL1s7fi49o1_500.jpg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G:\Z\Cambio tamaño\Imagen40.jpg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http://24.media.tumblr.com/e4be4c87d263b3ea0e9249d87d0e3e83/tumblr_mm38nj0KNj1s8qpyho1_500.jpg"/>
          <p:cNvPicPr/>
          <p:nvPr/>
        </p:nvPicPr>
        <p:blipFill>
          <a:blip r:embed="rId2"/>
          <a:stretch/>
        </p:blipFill>
        <p:spPr>
          <a:xfrm>
            <a:off x="0" y="0"/>
            <a:ext cx="476244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http://31.media.tumblr.com/de52e7104503236cd2a5a230a1c790c6/tumblr_mn4vimdbBN1s7fi49o1_500.jpg"/>
          <p:cNvPicPr/>
          <p:nvPr/>
        </p:nvPicPr>
        <p:blipFill>
          <a:blip r:embed="rId1"/>
          <a:stretch/>
        </p:blipFill>
        <p:spPr>
          <a:xfrm>
            <a:off x="4211640" y="0"/>
            <a:ext cx="6786720" cy="6854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24.media.tumblr.com/247f43777e2fb8962d027adf23e1a97a/tumblr_ml7pf13RpB1s7fi49o1_500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bigtitsnaturality:&#10;&#10;FARRAH SCOTTS"/>
          <p:cNvPicPr/>
          <p:nvPr/>
        </p:nvPicPr>
        <p:blipFill>
          <a:blip r:embed="rId1"/>
          <a:stretch/>
        </p:blipFill>
        <p:spPr>
          <a:xfrm>
            <a:off x="4314960" y="0"/>
            <a:ext cx="4829040" cy="6858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G:\Z\Cambio tamaño\Imagen3.jpg"/>
          <p:cNvPicPr/>
          <p:nvPr/>
        </p:nvPicPr>
        <p:blipFill>
          <a:blip r:embed="rId2"/>
          <a:stretch/>
        </p:blipFill>
        <p:spPr>
          <a:xfrm>
            <a:off x="0" y="-12600"/>
            <a:ext cx="4383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http://24.media.tumblr.com/890bae91a9a4d5fe9640d1b4a73437ed/tumblr_ml7pi4hCOL1s7fi49o1_500.jpg"/>
          <p:cNvPicPr/>
          <p:nvPr/>
        </p:nvPicPr>
        <p:blipFill>
          <a:blip r:embed="rId1"/>
          <a:stretch/>
        </p:blipFill>
        <p:spPr>
          <a:xfrm>
            <a:off x="4211640" y="0"/>
            <a:ext cx="5143320" cy="6851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G:\Z\Cambio tamaño\Imagen46.jpg"/>
          <p:cNvPicPr/>
          <p:nvPr/>
        </p:nvPicPr>
        <p:blipFill>
          <a:blip r:embed="rId2"/>
          <a:stretch/>
        </p:blipFill>
        <p:spPr>
          <a:xfrm>
            <a:off x="0" y="0"/>
            <a:ext cx="5048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G:\Z\Cambio tamaño\Imagen47.jpg"/>
          <p:cNvPicPr/>
          <p:nvPr/>
        </p:nvPicPr>
        <p:blipFill>
          <a:blip r:embed="rId1"/>
          <a:stretch/>
        </p:blipFill>
        <p:spPr>
          <a:xfrm>
            <a:off x="0" y="0"/>
            <a:ext cx="4513320" cy="6870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G:\Z\Cambio tamaño\Imagen49.jpg"/>
          <p:cNvPicPr/>
          <p:nvPr/>
        </p:nvPicPr>
        <p:blipFill>
          <a:blip r:embed="rId2"/>
          <a:stretch/>
        </p:blipFill>
        <p:spPr>
          <a:xfrm>
            <a:off x="4552920" y="-19080"/>
            <a:ext cx="4591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sexyteacher:&#10;&#10;Submit you own sexy pictures to our blog!"/>
          <p:cNvPicPr/>
          <p:nvPr/>
        </p:nvPicPr>
        <p:blipFill>
          <a:blip r:embed="rId1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sexyteacher:&#10;&#10;Submit you own sexy pictures to our blog!"/>
          <p:cNvPicPr/>
          <p:nvPr/>
        </p:nvPicPr>
        <p:blipFill>
          <a:blip r:embed="rId2"/>
          <a:stretch/>
        </p:blipFill>
        <p:spPr>
          <a:xfrm>
            <a:off x="4471920" y="0"/>
            <a:ext cx="467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G:\Z\Cambio tamaño\Imagen52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835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G:\Z\Cambio tamaño\Imagen53.jpg"/>
          <p:cNvPicPr/>
          <p:nvPr/>
        </p:nvPicPr>
        <p:blipFill>
          <a:blip r:embed="rId2"/>
          <a:stretch/>
        </p:blipFill>
        <p:spPr>
          <a:xfrm>
            <a:off x="4535640" y="-17640"/>
            <a:ext cx="460836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G:\Z\Cambio tamaño\Imagen54.jpg"/>
          <p:cNvPicPr/>
          <p:nvPr/>
        </p:nvPicPr>
        <p:blipFill>
          <a:blip r:embed="rId1"/>
          <a:stretch/>
        </p:blipFill>
        <p:spPr>
          <a:xfrm>
            <a:off x="4557600" y="-14400"/>
            <a:ext cx="4586400" cy="6872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" descr="http://31.media.tumblr.com/dd9552f78180856612fc6a17e3cc5a80/tumblr_mt912ijSdQ1rrpyx5o1_500.jpg"/>
          <p:cNvPicPr/>
          <p:nvPr/>
        </p:nvPicPr>
        <p:blipFill>
          <a:blip r:embed="rId2"/>
          <a:stretch/>
        </p:blipFill>
        <p:spPr>
          <a:xfrm>
            <a:off x="0" y="0"/>
            <a:ext cx="5324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:\Z\Cambio tamaño\Imagen23.jpg"/>
          <p:cNvPicPr/>
          <p:nvPr/>
        </p:nvPicPr>
        <p:blipFill>
          <a:blip r:embed="rId1"/>
          <a:stretch/>
        </p:blipFill>
        <p:spPr>
          <a:xfrm>
            <a:off x="23760" y="-17640"/>
            <a:ext cx="9120240" cy="68756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BE" sz="4400" spc="-1" strike="noStrike">
                <a:solidFill>
                  <a:srgbClr val="ffff00"/>
                </a:solidFill>
                <a:latin typeface="Arial"/>
                <a:ea typeface="Arial"/>
              </a:rPr>
              <a:t>Finalement . . . Vous avez choisi le vôtre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G:\Z\Cambio tamaño\Imagen4.jpg"/>
          <p:cNvPicPr/>
          <p:nvPr/>
        </p:nvPicPr>
        <p:blipFill>
          <a:blip r:embed="rId1"/>
          <a:stretch/>
        </p:blipFill>
        <p:spPr>
          <a:xfrm>
            <a:off x="4552920" y="-19080"/>
            <a:ext cx="4591080" cy="6877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G:\Z\Cambio tamaño\Imagen5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G:\Z\Cambio tamaño\Imagen6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77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Domenica - Samantha - Pavla A - Athena MET-ART "/>
          <p:cNvPicPr/>
          <p:nvPr/>
        </p:nvPicPr>
        <p:blipFill>
          <a:blip r:embed="rId2"/>
          <a:stretch/>
        </p:blipFill>
        <p:spPr>
          <a:xfrm>
            <a:off x="0" y="-17640"/>
            <a:ext cx="4572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www.truthordarepics.com/sexstoryarchive/beachgirls/images/girls12.jpg"/>
          <p:cNvPicPr/>
          <p:nvPr/>
        </p:nvPicPr>
        <p:blipFill>
          <a:blip r:embed="rId1"/>
          <a:stretch/>
        </p:blipFill>
        <p:spPr>
          <a:xfrm>
            <a:off x="3817800" y="0"/>
            <a:ext cx="532620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Daily erotic picdump (117 pics)"/>
          <p:cNvPicPr/>
          <p:nvPr/>
        </p:nvPicPr>
        <p:blipFill>
          <a:blip r:embed="rId2"/>
          <a:stretch/>
        </p:blipFill>
        <p:spPr>
          <a:xfrm>
            <a:off x="0" y="0"/>
            <a:ext cx="4470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G:\Z\Cambio tamaño\Imagen9.jpg"/>
          <p:cNvPicPr/>
          <p:nvPr/>
        </p:nvPicPr>
        <p:blipFill>
          <a:blip r:embed="rId1"/>
          <a:stretch/>
        </p:blipFill>
        <p:spPr>
          <a:xfrm>
            <a:off x="4552920" y="-19080"/>
            <a:ext cx="4591080" cy="68770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G:\Z\Cambio tamaño\Imagen11.jpg"/>
          <p:cNvPicPr/>
          <p:nvPr/>
        </p:nvPicPr>
        <p:blipFill>
          <a:blip r:embed="rId2"/>
          <a:stretch/>
        </p:blipFill>
        <p:spPr>
          <a:xfrm>
            <a:off x="0" y="-19080"/>
            <a:ext cx="4618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G:\Z\Cambio tamaño\Imagen12.jpg"/>
          <p:cNvPicPr/>
          <p:nvPr/>
        </p:nvPicPr>
        <p:blipFill>
          <a:blip r:embed="rId1"/>
          <a:stretch/>
        </p:blipFill>
        <p:spPr>
          <a:xfrm>
            <a:off x="4552920" y="-19080"/>
            <a:ext cx="4591080" cy="6877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G:\Z\Cambio tamaño\Imagen14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G:\Cambio tamaño\tumblr_m96l25ZAkg1r3zon0o1_500.jpg"/>
          <p:cNvPicPr/>
          <p:nvPr/>
        </p:nvPicPr>
        <p:blipFill>
          <a:blip r:embed="rId1"/>
          <a:stretch/>
        </p:blipFill>
        <p:spPr>
          <a:xfrm>
            <a:off x="4484520" y="0"/>
            <a:ext cx="465948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G:\Z\Cambio tamaño\Imagen15.jpg"/>
          <p:cNvPicPr/>
          <p:nvPr/>
        </p:nvPicPr>
        <p:blipFill>
          <a:blip r:embed="rId2"/>
          <a:stretch/>
        </p:blipFill>
        <p:spPr>
          <a:xfrm>
            <a:off x="0" y="-19080"/>
            <a:ext cx="45846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G:\Z\Cambio tamaño\Imagen16.jpg"/>
          <p:cNvPicPr/>
          <p:nvPr/>
        </p:nvPicPr>
        <p:blipFill>
          <a:blip r:embed="rId1"/>
          <a:stretch/>
        </p:blipFill>
        <p:spPr>
          <a:xfrm>
            <a:off x="4559400" y="-17640"/>
            <a:ext cx="4584600" cy="68756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EMILY ELIZABETH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15:00:09Z</dcterms:created>
  <dc:creator>jewa</dc:creator>
  <dc:description/>
  <dc:language>en-US</dc:language>
  <cp:lastModifiedBy>Francis</cp:lastModifiedBy>
  <dcterms:modified xsi:type="dcterms:W3CDTF">2016-12-26T17:44:49Z</dcterms:modified>
  <cp:revision>6</cp:revision>
  <dc:subject/>
  <dc:title>Dia 1</dc:title>
</cp:coreProperties>
</file>