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4.jpeg" ContentType="image/jpeg"/>
  <Override PartName="/ppt/media/Smoke%20gets%20in%20your%20eyes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734-FFAF-4595-ABC0-33DCBBA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7ED-FEEB-4F65-9792-349CC2A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7B9-B994-48CA-BD40-8B7BEFDC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68E-E478-4471-B169-722C6595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04D-3B53-4001-84DE-D63AED6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052-F704-4F42-ADF0-2F6B992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863-935E-4842-A83B-0B161BDD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FF3-2109-4962-99B0-3B604A47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F14-D9D6-49F4-9E61-7F07334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B19-C816-4A80-A254-3984BCF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C5A-81FF-4E31-8142-401504C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42F-C900-4B8D-8796-1FE2716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0222-B9F9-4CBF-8914-E36A9761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moke%20gets%20in%20your%20ey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190440">
            <a:solidFill>
              <a:srgbClr val="225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197000"/>
            <a:ext cx="84614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58a5"/>
                </a:solidFill>
                <a:latin typeface="Arial Black"/>
              </a:rPr>
              <a:t>FILHA DA MIRIAM RI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13000"/>
            <a:ext cx="7561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58a5"/>
                </a:solidFill>
                <a:latin typeface="Arial Black"/>
              </a:rPr>
              <a:t>CUIDADO, SÓ PARA QUEM NÃO TEM PROBLEMA DE HIPERTENSÃO AR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29264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58a5"/>
                </a:solidFill>
                <a:latin typeface="Arial Black"/>
              </a:rPr>
              <a:t>SE VOCÊ TEM PRESSÃO ALTA, DELETE IMEDIATAME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04960" y="571680"/>
            <a:ext cx="393408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9160" y="1066680"/>
            <a:ext cx="7105680" cy="472464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190440">
            <a:solidFill>
              <a:srgbClr val="225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852640"/>
            <a:ext cx="7993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358a5"/>
                </a:solidFill>
                <a:latin typeface="Arial Black"/>
              </a:rPr>
              <a:t>SHOWZAÇO DE BOLA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0284c"/>
              </a:gs>
              <a:gs pos="50000">
                <a:srgbClr val="2358a5">
                  <a:alpha val="21176"/>
                </a:srgbClr>
              </a:gs>
              <a:gs pos="100000">
                <a:srgbClr val="102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05680" cy="4752720"/>
          </a:xfrm>
          <a:prstGeom prst="rect">
            <a:avLst/>
          </a:prstGeom>
          <a:ln w="57240">
            <a:solidFill>
              <a:srgbClr val="22549e"/>
            </a:solidFill>
            <a:miter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9:25:42Z</dcterms:created>
  <dc:creator>Principal</dc:creator>
  <dc:description/>
  <dc:language>en-US</dc:language>
  <cp:lastModifiedBy>Principal</cp:lastModifiedBy>
  <dcterms:modified xsi:type="dcterms:W3CDTF">2007-08-21T19:28:01Z</dcterms:modified>
  <cp:revision>1</cp:revision>
  <dc:subject/>
  <dc:title>Slide 1</dc:title>
</cp:coreProperties>
</file>