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7DE-FA4A-4E9A-997C-A32031C1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B63-2A83-483B-9555-C2F85B30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A20-430E-425C-9FD7-C659DD96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792-EEAA-4CFC-B380-EAC4990A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835-7F14-49E4-96C3-973AAF3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EC5-8341-4853-8E9D-1FE3A4B2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F4D-DBFF-413D-AF9E-52204801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DDD-FD35-4F28-8FA4-EC38CB9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990-D6B9-459E-9F87-149BFF98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4EB-EA9B-471A-9934-DB72AE89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B52-AB8B-4F7C-9DC7-0ED7226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A48-8911-42B6-A8C3-EEECEDB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C9F4-F597-4E78-8A6A-C8B8684D84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ffff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NYOMI DA FTV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790560"/>
            <a:ext cx="4505400" cy="606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20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5972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0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527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0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0" y="166680"/>
            <a:ext cx="911520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5934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5:17:19Z</dcterms:created>
  <dc:creator>leo</dc:creator>
  <dc:description/>
  <dc:language>en-US</dc:language>
  <cp:lastModifiedBy>Fernando Paiva</cp:lastModifiedBy>
  <dcterms:modified xsi:type="dcterms:W3CDTF">2006-01-28T01:32:39Z</dcterms:modified>
  <cp:revision>46</cp:revision>
  <dc:subject/>
  <dc:title>PERVER</dc:title>
</cp:coreProperties>
</file>