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EC2-A516-4948-BCEC-D93D7F2B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E00-1367-487E-9850-E4FBF1AA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F6D-4606-473D-863E-630E8244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7A2-DF81-450C-8D28-F81AB46F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D5D-0110-4272-9D02-2066F224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996-F439-4F31-A655-A64344F8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17E-3259-49D3-B031-011BCF37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9AF-EDEB-4C41-9159-96B4520D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B53-2365-47F9-B16B-C9B34EC9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A1E-2658-46EC-AFBE-F28FE6FE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18A-7EE1-4C1D-B47E-2D7DB3F4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3F9-A1F1-461F-A7F2-BF5C0333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BDB3-CC05-43D1-9A03-22E2ABF3128D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Resim" descr="1193316344_1193255864_16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Resim" descr="1193316291_1193255864_09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Resim" descr="1193316303_1193255864_1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Resim" descr="1193316309_1193255864_12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Resim" descr="1193316322_1193255864_13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Resim" descr="1193316330_1193255864_1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Resim" descr="1193316337_1193255864_15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9619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Resim" descr="1193316218_1193255864_01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Resim" descr="1193316233_1193255864_02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Resim" descr="1193316238_1193255864_03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Resim" descr="1193316247_1193255864_0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Resim" descr="1193316257_1193255864_05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Resim" descr="1193316263_1193255864_06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Resim" descr="1193316273_1193255864_07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Resim" descr="1193316283_1193255864_08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5:32:23Z</dcterms:created>
  <dc:creator>Ultimate</dc:creator>
  <dc:description/>
  <dc:language>en-US</dc:language>
  <cp:lastModifiedBy>Jorge</cp:lastModifiedBy>
  <dcterms:modified xsi:type="dcterms:W3CDTF">2008-04-14T16:17:59Z</dcterms:modified>
  <cp:revision>2</cp:revision>
  <dc:subject/>
  <dc:title>Slayt 1</dc:title>
</cp:coreProperties>
</file>