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99F-75B8-4F25-A7AE-214592D4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9D9-44F0-4BC3-9EAE-6A39968D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769-8B7E-4DB1-91F2-C820BC92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69A7-56FA-45D1-B517-0777F8FC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64B-766C-405F-8755-856F44F3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A810-36CA-4506-9F04-F529C823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4350-CAD8-4F18-BD7F-4913E96D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D349-D9B3-4A7B-9295-A3BE8B39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6D13-211B-4747-AA64-1F6E81EA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69D3-F45E-4BE5-ABB0-97C6DE21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63D-106D-4F4E-B904-9B6A6667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F234-4D11-44ED-8AC4-FBEAC9EC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0475-7205-47CA-868B-BA6158FA41A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012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1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015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020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025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26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6:52:48Z</dcterms:created>
  <dc:creator>viuca</dc:creator>
  <dc:description/>
  <dc:language>en-US</dc:language>
  <cp:lastModifiedBy>vicente</cp:lastModifiedBy>
  <dcterms:modified xsi:type="dcterms:W3CDTF">2013-10-27T10:51:36Z</dcterms:modified>
  <cp:revision>10</cp:revision>
  <dc:subject/>
  <dc:title>www.laboutiquedelpowerpoint.com</dc:title>
</cp:coreProperties>
</file>